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A66-3038-4AC8-B098-B9AAD4A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B05-0534-4EED-81CA-7C9CA0A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FED-40F1-4E59-992A-F8E06F9A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542-A147-435A-94EC-AE618805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C6B0-E7DE-4A23-8730-BA3F191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DA0-891D-45DC-9E13-CFB92CA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C644-F2BC-4328-972D-FA784F1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D25C-30AC-4188-920E-B23D970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C126-B953-4263-B43D-605005F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5E2-FD88-4770-8845-91E1FD98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004-11B0-4864-A6FA-146ACEB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32E-CFFB-4F8D-8D73-8F13F19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171-C714-4602-9907-66AFED0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6383-9999-4DF9-83BC-78BD1C10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4E5-95B9-4377-BEC4-B9E09A32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BC4A-D560-43DE-B75E-9B60C3E3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FBE-80CF-412A-B937-8C4F8843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59F-5FCF-4FD1-A85E-3ECB9DB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881-5F24-4E03-8865-96C36D5E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F3F-A93F-4513-B614-8A3B2B33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F56-8F51-42C2-8928-1A779526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2C1-7A36-40EE-A020-3D44ECC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194-FDD4-48E3-B599-A629845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4FE-3B07-47BD-BBD8-2264669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EF86-4728-4FEA-BBB0-A9117E1FC7F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D4C6-DFC8-43F2-B94A-376677771583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0" y="3933720"/>
            <a:ext cx="9144000" cy="198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-7920" y="863640"/>
            <a:ext cx="9144000" cy="198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4" descr="1441009260A"/>
          <p:cNvPicPr/>
          <p:nvPr/>
        </p:nvPicPr>
        <p:blipFill>
          <a:blip r:embed="rId1"/>
          <a:stretch/>
        </p:blipFill>
        <p:spPr>
          <a:xfrm>
            <a:off x="2124000" y="1844640"/>
            <a:ext cx="4969080" cy="36972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1042920" y="692280"/>
            <a:ext cx="7201080" cy="41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>
                    <a:alpha val="92000"/>
                  </a:srgbClr>
                </a:solidFill>
                <a:latin typeface="Arial Rounded MT Bold"/>
              </a:rPr>
              <a:t>HARGA KESEIMBANG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>
                  <a:alpha val="92000"/>
                </a:srgbClr>
              </a:solidFill>
              <a:latin typeface="Arial Rounded MT Bold"/>
              <a:ea typeface="Arial Rounded MT Bold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843280" y="5950080"/>
            <a:ext cx="34560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Oleh 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Nugroho Susa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24000" y="4581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TA PELAJARA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konom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ELAS/SEMESTER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X / 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AKTU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 x 45 men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858080" y="621504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2"/>
          <p:cNvGrpSpPr/>
          <p:nvPr/>
        </p:nvGrpSpPr>
        <p:grpSpPr>
          <a:xfrm>
            <a:off x="395280" y="1052640"/>
            <a:ext cx="8209080" cy="4830840"/>
            <a:chOff x="395280" y="1052640"/>
            <a:chExt cx="8209080" cy="4830840"/>
          </a:xfrm>
        </p:grpSpPr>
        <p:grpSp>
          <p:nvGrpSpPr>
            <p:cNvPr id="216" name="Group 19"/>
            <p:cNvGrpSpPr/>
            <p:nvPr/>
          </p:nvGrpSpPr>
          <p:grpSpPr>
            <a:xfrm>
              <a:off x="1476360" y="1052640"/>
              <a:ext cx="5905440" cy="2387520"/>
              <a:chOff x="1476360" y="1052640"/>
              <a:chExt cx="5905440" cy="2387520"/>
            </a:xfrm>
          </p:grpSpPr>
          <p:sp>
            <p:nvSpPr>
              <p:cNvPr id="217" name="Text Box 9"/>
              <p:cNvSpPr/>
              <p:nvPr/>
            </p:nvSpPr>
            <p:spPr>
              <a:xfrm>
                <a:off x="1476360" y="1057320"/>
                <a:ext cx="2413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   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P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3.500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Text Box 10"/>
              <p:cNvSpPr/>
              <p:nvPr/>
            </p:nvSpPr>
            <p:spPr>
              <a:xfrm>
                <a:off x="4068720" y="134136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Text Box 11"/>
              <p:cNvSpPr/>
              <p:nvPr/>
            </p:nvSpPr>
            <p:spPr>
              <a:xfrm>
                <a:off x="4500720" y="1052640"/>
                <a:ext cx="28796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      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Q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225.000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Line 12"/>
              <p:cNvSpPr/>
              <p:nvPr/>
            </p:nvSpPr>
            <p:spPr>
              <a:xfrm>
                <a:off x="1765440" y="1557360"/>
                <a:ext cx="1942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Line 13"/>
              <p:cNvSpPr/>
              <p:nvPr/>
            </p:nvSpPr>
            <p:spPr>
              <a:xfrm>
                <a:off x="4645080" y="1557360"/>
                <a:ext cx="259236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Text Box 14"/>
              <p:cNvSpPr/>
              <p:nvPr/>
            </p:nvSpPr>
            <p:spPr>
              <a:xfrm>
                <a:off x="1692360" y="2424240"/>
                <a:ext cx="1981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P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Text Box 15"/>
              <p:cNvSpPr/>
              <p:nvPr/>
            </p:nvSpPr>
            <p:spPr>
              <a:xfrm>
                <a:off x="4068720" y="26845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Text Box 16"/>
              <p:cNvSpPr/>
              <p:nvPr/>
            </p:nvSpPr>
            <p:spPr>
              <a:xfrm>
                <a:off x="5292720" y="2421000"/>
                <a:ext cx="2089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Q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50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Line 17"/>
              <p:cNvSpPr/>
              <p:nvPr/>
            </p:nvSpPr>
            <p:spPr>
              <a:xfrm>
                <a:off x="1765440" y="2925720"/>
                <a:ext cx="1942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Line 18"/>
              <p:cNvSpPr/>
              <p:nvPr/>
            </p:nvSpPr>
            <p:spPr>
              <a:xfrm>
                <a:off x="4716360" y="2925720"/>
                <a:ext cx="2592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7" name="Rectangle 20"/>
            <p:cNvSpPr/>
            <p:nvPr/>
          </p:nvSpPr>
          <p:spPr>
            <a:xfrm>
              <a:off x="395280" y="3860640"/>
              <a:ext cx="8209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3672000"/>
                  <a:tab algn="l" pos="40417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50.000 P  –  225.000.000</a:t>
              </a: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=  –1.000 Q + 175.000.00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3672000"/>
                  <a:tab algn="l" pos="40417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50.000 P                             =  –1.000 Q + 400.000.00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3137760" y="5373360"/>
              <a:ext cx="4027320" cy="510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000 – 0,02 Q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395280" y="549360"/>
            <a:ext cx="345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Fungsi Penawara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4070520" y="606600"/>
            <a:ext cx="1974240" cy="579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P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rebuchet MS"/>
              </a:rPr>
              <a:t>S </a:t>
            </a: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= a + bQ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3059280" y="299088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148360" y="2990880"/>
            <a:ext cx="1582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245040" y="5084640"/>
            <a:ext cx="289512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S = 8.000 – 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61128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24">
            <a:hlinkClick r:id="" action="ppaction://hlinkshowjump?jump=nextslide"/>
          </p:cNvPr>
          <p:cNvSpPr/>
          <p:nvPr/>
        </p:nvSpPr>
        <p:spPr>
          <a:xfrm rot="5400000">
            <a:off x="4345200" y="4282200"/>
            <a:ext cx="976320" cy="485640"/>
          </a:xfrm>
          <a:prstGeom prst="pie">
            <a:avLst/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1692360" y="912960"/>
            <a:ext cx="24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.500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28472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907920"/>
            <a:ext cx="28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75.000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981080" y="1413000"/>
            <a:ext cx="194328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4861080" y="1413000"/>
            <a:ext cx="259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908000" y="227952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284720" y="25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64080" y="2276640"/>
            <a:ext cx="208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–  </a:t>
            </a: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50.000</a:t>
            </a:r>
            <a:r>
              <a:rPr b="0" lang="nl-NL" sz="24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1981080" y="2781360"/>
            <a:ext cx="194328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932360" y="2781360"/>
            <a:ext cx="259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11280" y="3645000"/>
            <a:ext cx="82087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672000"/>
                <a:tab algn="l" pos="4041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0.000 P +  225.000.000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  –1.000 Q + 225.000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672000"/>
                <a:tab algn="l" pos="4041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0.000 P                             =    1.000 Q + 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3382200" y="5157720"/>
            <a:ext cx="2925360" cy="510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630440" y="2345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68580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68580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4600" y="213264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Harga dalam keseimbangan jika : QD  = Q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-468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1692360" y="5084640"/>
            <a:ext cx="4562280" cy="1191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00.000 – 50 P =  50 P                400.000            =  100 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p 4.000,00/K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WordArt 19"/>
          <p:cNvSpPr txBox="1"/>
          <p:nvPr/>
        </p:nvSpPr>
        <p:spPr>
          <a:xfrm>
            <a:off x="1763640" y="620640"/>
            <a:ext cx="5381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HARGA KESEIMBANG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grpSp>
        <p:nvGrpSpPr>
          <p:cNvPr id="256" name="Group 24"/>
          <p:cNvGrpSpPr/>
          <p:nvPr/>
        </p:nvGrpSpPr>
        <p:grpSpPr>
          <a:xfrm>
            <a:off x="322560" y="3141720"/>
            <a:ext cx="7203240" cy="1302120"/>
            <a:chOff x="322560" y="3141720"/>
            <a:chExt cx="7203240" cy="1302120"/>
          </a:xfrm>
        </p:grpSpPr>
        <p:sp>
          <p:nvSpPr>
            <p:cNvPr id="257" name="Rectangle 13"/>
            <p:cNvSpPr/>
            <p:nvPr/>
          </p:nvSpPr>
          <p:spPr>
            <a:xfrm>
              <a:off x="343440" y="3141720"/>
              <a:ext cx="71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= 8.000 – 0,02 Q             Q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= 400.000 – 50P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322560" y="3933720"/>
              <a:ext cx="562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=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0,02 Q                Q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= 50 P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AutoShape 21"/>
            <p:cNvSpPr/>
            <p:nvPr/>
          </p:nvSpPr>
          <p:spPr>
            <a:xfrm>
              <a:off x="3924360" y="3213000"/>
              <a:ext cx="647640" cy="432000"/>
            </a:xfrm>
            <a:prstGeom prst="rightArrow">
              <a:avLst>
                <a:gd name="adj1" fmla="val 50000"/>
                <a:gd name="adj2" fmla="val 37479"/>
              </a:avLst>
            </a:prstGeom>
            <a:solidFill>
              <a:srgbClr val="0000ff">
                <a:alpha val="4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0" name="AutoShape 22"/>
            <p:cNvSpPr/>
            <p:nvPr/>
          </p:nvSpPr>
          <p:spPr>
            <a:xfrm>
              <a:off x="3708360" y="3933720"/>
              <a:ext cx="647640" cy="432000"/>
            </a:xfrm>
            <a:prstGeom prst="rightArrow">
              <a:avLst>
                <a:gd name="adj1" fmla="val 50000"/>
                <a:gd name="adj2" fmla="val 37479"/>
              </a:avLst>
            </a:prstGeom>
            <a:solidFill>
              <a:srgbClr val="0000ff">
                <a:alpha val="4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1" name="AutoShape 23"/>
          <p:cNvSpPr/>
          <p:nvPr/>
        </p:nvSpPr>
        <p:spPr>
          <a:xfrm>
            <a:off x="6300720" y="3789360"/>
            <a:ext cx="1800360" cy="230364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0" descr="DSCI053a copy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dada"/>
          <p:cNvPicPr/>
          <p:nvPr/>
        </p:nvPicPr>
        <p:blipFill>
          <a:blip r:embed="rId2"/>
          <a:stretch/>
        </p:blipFill>
        <p:spPr>
          <a:xfrm>
            <a:off x="6300720" y="4295880"/>
            <a:ext cx="2638440" cy="23018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8"/>
          <p:cNvSpPr/>
          <p:nvPr/>
        </p:nvSpPr>
        <p:spPr>
          <a:xfrm>
            <a:off x="4643280" y="907920"/>
            <a:ext cx="4176720" cy="1224000"/>
          </a:xfrm>
          <a:prstGeom prst="wedgeEllipseCallout">
            <a:avLst>
              <a:gd name="adj1" fmla="val -49087"/>
              <a:gd name="adj2" fmla="val 79444"/>
            </a:avLst>
          </a:prstGeom>
          <a:solidFill>
            <a:srgbClr val="ffffcc">
              <a:alpha val="61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Terima kasih, sampai jumpa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-7920" y="863640"/>
            <a:ext cx="9144000" cy="198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268280"/>
            <a:ext cx="849780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STANDAR KOMPETENSI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: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 Memahami konsep ekoomi dalam kaitannya dengan permintaan, penawaran, harga keseimbangan, dan pas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KOMPETENSI DASAR 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3 Mendeskripsikan pengertian harga dan jumlah keseimb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INDIKATOR :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1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erapkan fungsi permintaan dan penawara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serta menggambar grafikn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2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deskripsikan proses terbentuknya harga dan output keseimbangan dan menggambarkan grafikn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ghitung harga dan output dalam keadaan keseimb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august_md_wht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9525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1332000" y="1557360"/>
            <a:ext cx="3384360" cy="1584360"/>
          </a:xfrm>
          <a:prstGeom prst="cloudCallout">
            <a:avLst>
              <a:gd name="adj1" fmla="val -30254"/>
              <a:gd name="adj2" fmla="val 9378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Apa sih harga keseimbangan itu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5292720" y="260280"/>
            <a:ext cx="36669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nyakan pada rumput yang bergoya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4" descr="2mon2"/>
          <p:cNvPicPr/>
          <p:nvPr/>
        </p:nvPicPr>
        <p:blipFill>
          <a:blip r:embed="rId2"/>
          <a:stretch/>
        </p:blipFill>
        <p:spPr>
          <a:xfrm>
            <a:off x="468360" y="3789360"/>
            <a:ext cx="2448000" cy="228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aniduck"/>
          <p:cNvPicPr/>
          <p:nvPr/>
        </p:nvPicPr>
        <p:blipFill>
          <a:blip r:embed="rId3"/>
          <a:stretch/>
        </p:blipFill>
        <p:spPr>
          <a:xfrm>
            <a:off x="6443640" y="4941720"/>
            <a:ext cx="2057400" cy="16416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1">
            <a:hlinkClick r:id="" action="ppaction://hlinkshowjump?jump=nextslide"/>
          </p:cNvPr>
          <p:cNvSpPr/>
          <p:nvPr/>
        </p:nvSpPr>
        <p:spPr>
          <a:xfrm flipH="1">
            <a:off x="3850560" y="4076640"/>
            <a:ext cx="2305080" cy="1150920"/>
          </a:xfrm>
          <a:prstGeom prst="wedgeEllipseCallout">
            <a:avLst>
              <a:gd name="adj1" fmla="val -69907"/>
              <a:gd name="adj2" fmla="val 70000"/>
            </a:avLst>
          </a:prstGeom>
          <a:solidFill>
            <a:srgbClr val="ff99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Aku tahu, perhatikan ini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4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7 C -0.04462 0.04278 -0.08924 0.08555 -0.12222 0.08463 C -0.15521 0.0837 -0.17049 -0.00139 -0.19844 -0.00624 C -0.22639 -0.0111 -0.25903 0.05549 -0.29045 0.05503 C -0.32187 0.05457 -0.35347 -0.00786 -0.38733 -0.00855 C -0.42118 -0.00925 -0.45972 0.05179 -0.49358 0.05064 C -0.52743 0.04948 -0.56615 -0.01965 -0.59045 -0.0148 C -0.61476 -0.00994 -0.64774 0.05133 -0.63958 0.08023 C -0.63142 0.10913 -0.56545 0.13226 -0.54132 0.15861 C -0.51719 0.18497 -0.48889 0.21272 -0.49514 0.23884 C -0.50139 0.26497 -0.57882 0.28786 -0.57934 0.31491 C -0.57986 0.34197 -0.51267 0.37526 -0.49844 0.40162 C -0.4842 0.42798 -0.48941 0.45873 -0.49358 0.47353 C -0.49774 0.48832 -0.51458 0.49989 -0.52378 0.49041 C -0.53299 0.48093 -0.56476 0.42798 -0.54913 0.41642 C -0.53351 0.40486 -0.45087 0.40717 -0.43021 0.42058 C -0.40955 0.43399 -0.41962 0.49064 -0.42535 0.49688 C -0.43108 0.50312 -0.47726 0.46543 -0.4651 0.45873 C -0.45295 0.45202 -0.37118 0.45688 -0.35243 0.45665 E">
                                      <p:cBhvr>
                                        <p:cTn id="40" dur="14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08092E-006 C 0.04809 -0.03122 0.09618 -0.06243 0.13663 -0.07191 C 0.17709 -0.08139 0.21007 -0.0444 0.24288 -0.05711 C 0.2757 -0.06983 0.30104 -0.12717 0.33334 -0.14798 C 0.36545 -0.16879 0.41233 -0.18752 0.43663 -0.18197 C 0.46094 -0.17642 0.45608 -0.1311 0.47934 -0.11422 C 0.50261 -0.09734 0.56198 -0.08786 0.57622 -0.08047 C 0.59045 -0.07307 0.57778 -0.07145 0.56511 -0.06983 E">
                                      <p:cBhvr>
                                        <p:cTn id="43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9"/>
          <p:cNvGrpSpPr/>
          <p:nvPr/>
        </p:nvGrpSpPr>
        <p:grpSpPr>
          <a:xfrm>
            <a:off x="2411280" y="2262240"/>
            <a:ext cx="2346480" cy="3476520"/>
            <a:chOff x="2411280" y="2262240"/>
            <a:chExt cx="2346480" cy="3476520"/>
          </a:xfrm>
        </p:grpSpPr>
        <p:sp>
          <p:nvSpPr>
            <p:cNvPr id="130" name="Freeform 8"/>
            <p:cNvSpPr/>
            <p:nvPr/>
          </p:nvSpPr>
          <p:spPr>
            <a:xfrm>
              <a:off x="2411280" y="2852640"/>
              <a:ext cx="2232000" cy="2886120"/>
            </a:xfrm>
            <a:prstGeom prst="pie">
              <a:avLst/>
            </a:prstGeom>
            <a:noFill/>
            <a:ln w="31680">
              <a:solidFill>
                <a:srgbClr val="eaeae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4470480" y="22622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2" name="Group 40"/>
          <p:cNvGrpSpPr/>
          <p:nvPr/>
        </p:nvGrpSpPr>
        <p:grpSpPr>
          <a:xfrm>
            <a:off x="4648320" y="2259000"/>
            <a:ext cx="796680" cy="3463920"/>
            <a:chOff x="4648320" y="2259000"/>
            <a:chExt cx="796680" cy="3463920"/>
          </a:xfrm>
        </p:grpSpPr>
        <p:sp>
          <p:nvSpPr>
            <p:cNvPr id="133" name="Freeform 26"/>
            <p:cNvSpPr/>
            <p:nvPr/>
          </p:nvSpPr>
          <p:spPr>
            <a:xfrm>
              <a:off x="4648320" y="2844720"/>
              <a:ext cx="704880" cy="2878200"/>
            </a:xfrm>
            <a:prstGeom prst="pie">
              <a:avLst/>
            </a:prstGeom>
            <a:noFill/>
            <a:ln w="31680">
              <a:solidFill>
                <a:srgbClr val="ffff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5157720" y="225900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Group 38"/>
          <p:cNvGrpSpPr/>
          <p:nvPr/>
        </p:nvGrpSpPr>
        <p:grpSpPr>
          <a:xfrm>
            <a:off x="1332000" y="2060640"/>
            <a:ext cx="6769080" cy="4257720"/>
            <a:chOff x="1332000" y="2060640"/>
            <a:chExt cx="6769080" cy="4257720"/>
          </a:xfrm>
        </p:grpSpPr>
        <p:grpSp>
          <p:nvGrpSpPr>
            <p:cNvPr id="136" name="Group 33"/>
            <p:cNvGrpSpPr/>
            <p:nvPr/>
          </p:nvGrpSpPr>
          <p:grpSpPr>
            <a:xfrm>
              <a:off x="2266920" y="2060640"/>
              <a:ext cx="5072040" cy="3915720"/>
              <a:chOff x="2266920" y="2060640"/>
              <a:chExt cx="5072040" cy="3915720"/>
            </a:xfrm>
          </p:grpSpPr>
          <p:sp>
            <p:nvSpPr>
              <p:cNvPr id="137" name="Text Box 4"/>
              <p:cNvSpPr/>
              <p:nvPr/>
            </p:nvSpPr>
            <p:spPr>
              <a:xfrm>
                <a:off x="2266920" y="206064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2440080" y="2478240"/>
                <a:ext cx="4392360" cy="324324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6907320" y="5516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40" name="Text Box 36"/>
            <p:cNvSpPr/>
            <p:nvPr/>
          </p:nvSpPr>
          <p:spPr>
            <a:xfrm>
              <a:off x="6012000" y="5950080"/>
              <a:ext cx="208908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Ribuan ton/bula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1332000" y="2189160"/>
              <a:ext cx="9363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rupiah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2" name="Text Box 2"/>
          <p:cNvSpPr/>
          <p:nvPr/>
        </p:nvSpPr>
        <p:spPr>
          <a:xfrm>
            <a:off x="468360" y="404640"/>
            <a:ext cx="792144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TERBENTUKNY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HARGA KESEIMB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211640" y="213192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4140360" y="2205000"/>
            <a:ext cx="2376000" cy="2446200"/>
            <a:chOff x="4140360" y="2205000"/>
            <a:chExt cx="2376000" cy="2446200"/>
          </a:xfrm>
        </p:grpSpPr>
        <p:sp>
          <p:nvSpPr>
            <p:cNvPr id="145" name="Line 3"/>
            <p:cNvSpPr/>
            <p:nvPr/>
          </p:nvSpPr>
          <p:spPr>
            <a:xfrm flipH="1" flipV="1">
              <a:off x="4428720" y="2635200"/>
              <a:ext cx="2087640" cy="2016000"/>
            </a:xfrm>
            <a:prstGeom prst="line">
              <a:avLst/>
            </a:prstGeom>
            <a:ln w="316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4140360" y="2205000"/>
              <a:ext cx="3603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47" name="Group 43"/>
          <p:cNvGrpSpPr/>
          <p:nvPr/>
        </p:nvGrpSpPr>
        <p:grpSpPr>
          <a:xfrm>
            <a:off x="3348000" y="2205000"/>
            <a:ext cx="2519280" cy="2519280"/>
            <a:chOff x="3348000" y="2205000"/>
            <a:chExt cx="2519280" cy="2519280"/>
          </a:xfrm>
        </p:grpSpPr>
        <p:sp>
          <p:nvSpPr>
            <p:cNvPr id="148" name="Line 7"/>
            <p:cNvSpPr/>
            <p:nvPr/>
          </p:nvSpPr>
          <p:spPr>
            <a:xfrm flipH="1">
              <a:off x="3348000" y="2635200"/>
              <a:ext cx="2232000" cy="2089080"/>
            </a:xfrm>
            <a:prstGeom prst="line">
              <a:avLst/>
            </a:prstGeom>
            <a:ln w="316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5508720" y="2205000"/>
              <a:ext cx="3585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1619280" y="2892600"/>
            <a:ext cx="936720" cy="825120"/>
            <a:chOff x="1619280" y="2892600"/>
            <a:chExt cx="936720" cy="825120"/>
          </a:xfrm>
        </p:grpSpPr>
        <p:sp>
          <p:nvSpPr>
            <p:cNvPr id="151" name="Text Box 12"/>
            <p:cNvSpPr/>
            <p:nvPr/>
          </p:nvSpPr>
          <p:spPr>
            <a:xfrm>
              <a:off x="2268360" y="289260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1619280" y="3284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50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3" name="Group 35"/>
          <p:cNvGrpSpPr/>
          <p:nvPr/>
        </p:nvGrpSpPr>
        <p:grpSpPr>
          <a:xfrm>
            <a:off x="4354560" y="5124600"/>
            <a:ext cx="649080" cy="1047600"/>
            <a:chOff x="4354560" y="5124600"/>
            <a:chExt cx="649080" cy="1047600"/>
          </a:xfrm>
        </p:grpSpPr>
        <p:sp>
          <p:nvSpPr>
            <p:cNvPr id="154" name="Text Box 18"/>
            <p:cNvSpPr/>
            <p:nvPr/>
          </p:nvSpPr>
          <p:spPr>
            <a:xfrm>
              <a:off x="4467240" y="512460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4354560" y="5803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1619280" y="2276640"/>
            <a:ext cx="936720" cy="825120"/>
            <a:chOff x="1619280" y="2276640"/>
            <a:chExt cx="936720" cy="825120"/>
          </a:xfrm>
        </p:grpSpPr>
        <p:sp>
          <p:nvSpPr>
            <p:cNvPr id="157" name="Text Box 16"/>
            <p:cNvSpPr/>
            <p:nvPr/>
          </p:nvSpPr>
          <p:spPr>
            <a:xfrm>
              <a:off x="2268360" y="227664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Text Box 21"/>
            <p:cNvSpPr/>
            <p:nvPr/>
          </p:nvSpPr>
          <p:spPr>
            <a:xfrm>
              <a:off x="1619280" y="2708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50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9" name="Group 34"/>
          <p:cNvGrpSpPr/>
          <p:nvPr/>
        </p:nvGrpSpPr>
        <p:grpSpPr>
          <a:xfrm>
            <a:off x="5076720" y="5130720"/>
            <a:ext cx="574920" cy="1041480"/>
            <a:chOff x="5076720" y="5130720"/>
            <a:chExt cx="574920" cy="1041480"/>
          </a:xfrm>
        </p:grpSpPr>
        <p:sp>
          <p:nvSpPr>
            <p:cNvPr id="160" name="Text Box 17"/>
            <p:cNvSpPr/>
            <p:nvPr/>
          </p:nvSpPr>
          <p:spPr>
            <a:xfrm>
              <a:off x="5170320" y="513072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5076720" y="580392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2" name="Text Box 25"/>
          <p:cNvSpPr/>
          <p:nvPr/>
        </p:nvSpPr>
        <p:spPr>
          <a:xfrm>
            <a:off x="4822920" y="2577960"/>
            <a:ext cx="2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3" name="Group 42"/>
          <p:cNvGrpSpPr/>
          <p:nvPr/>
        </p:nvGrpSpPr>
        <p:grpSpPr>
          <a:xfrm>
            <a:off x="4648320" y="2921040"/>
            <a:ext cx="787320" cy="2793960"/>
            <a:chOff x="4648320" y="2921040"/>
            <a:chExt cx="787320" cy="2793960"/>
          </a:xfrm>
        </p:grpSpPr>
        <p:sp>
          <p:nvSpPr>
            <p:cNvPr id="164" name="Freeform 29"/>
            <p:cNvSpPr/>
            <p:nvPr/>
          </p:nvSpPr>
          <p:spPr>
            <a:xfrm>
              <a:off x="4648320" y="3492360"/>
              <a:ext cx="698400" cy="2222640"/>
            </a:xfrm>
            <a:prstGeom prst="pie">
              <a:avLst/>
            </a:prstGeom>
            <a:noFill/>
            <a:ln w="316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Text Box 27"/>
            <p:cNvSpPr/>
            <p:nvPr/>
          </p:nvSpPr>
          <p:spPr>
            <a:xfrm>
              <a:off x="5148360" y="29210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66" name="Group 41"/>
          <p:cNvGrpSpPr/>
          <p:nvPr/>
        </p:nvGrpSpPr>
        <p:grpSpPr>
          <a:xfrm>
            <a:off x="2411280" y="2906640"/>
            <a:ext cx="2343240" cy="2813040"/>
            <a:chOff x="2411280" y="2906640"/>
            <a:chExt cx="2343240" cy="2813040"/>
          </a:xfrm>
        </p:grpSpPr>
        <p:sp>
          <p:nvSpPr>
            <p:cNvPr id="167" name="Freeform 6"/>
            <p:cNvSpPr/>
            <p:nvPr/>
          </p:nvSpPr>
          <p:spPr>
            <a:xfrm>
              <a:off x="2411280" y="3487680"/>
              <a:ext cx="2229120" cy="2232000"/>
            </a:xfrm>
            <a:prstGeom prst="pie">
              <a:avLst/>
            </a:prstGeom>
            <a:noFill/>
            <a:ln w="316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4467240" y="29066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9" name="AutoShape 47"/>
          <p:cNvSpPr/>
          <p:nvPr/>
        </p:nvSpPr>
        <p:spPr>
          <a:xfrm rot="10800000">
            <a:off x="5076360" y="3068640"/>
            <a:ext cx="792360" cy="216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Oval 49"/>
          <p:cNvSpPr/>
          <p:nvPr/>
        </p:nvSpPr>
        <p:spPr>
          <a:xfrm>
            <a:off x="5940360" y="2873520"/>
            <a:ext cx="1727280" cy="57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GA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SEIMBANGA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mon2"/>
          <p:cNvPicPr/>
          <p:nvPr/>
        </p:nvPicPr>
        <p:blipFill>
          <a:blip r:embed="rId1"/>
          <a:stretch/>
        </p:blipFill>
        <p:spPr>
          <a:xfrm>
            <a:off x="611280" y="3860640"/>
            <a:ext cx="2448000" cy="2281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1042920" y="2133720"/>
            <a:ext cx="2448000" cy="1150920"/>
          </a:xfrm>
          <a:prstGeom prst="wedgeRoundRectCallout">
            <a:avLst>
              <a:gd name="adj1" fmla="val -14138"/>
              <a:gd name="adj2" fmla="val 98000"/>
              <a:gd name="adj3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Aku kok masih bingung ya, dasar monyet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AutoShape 7">
            <a:hlinkClick r:id="" action="ppaction://hlinkshowjump?jump=nextslide"/>
          </p:cNvPr>
          <p:cNvSpPr/>
          <p:nvPr/>
        </p:nvSpPr>
        <p:spPr>
          <a:xfrm>
            <a:off x="3851280" y="1916280"/>
            <a:ext cx="3672000" cy="1944360"/>
          </a:xfrm>
          <a:prstGeom prst="wedgeEllipseCallout">
            <a:avLst>
              <a:gd name="adj1" fmla="val -671"/>
              <a:gd name="adj2" fmla="val 5979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da yang bisa membantuku nggak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6185E-006 C 0.05105 0.02821 0.10209 0.05642 0.14445 0.05295 C 0.18682 0.04948 0.21216 -0.01965 0.254 -0.02104 C 0.29584 -0.02243 0.36459 0.06335 0.39532 0.0444 C 0.42605 0.02544 0.41095 -0.09826 0.4382 -0.13526 C 0.46546 -0.17225 0.56286 -0.16693 0.55886 -0.17757 C 0.55487 -0.18821 0.41546 -0.18381 0.41442 -0.19861 C 0.41338 -0.21341 0.52709 -0.29387 0.55244 -0.26636 C 0.57779 -0.23884 0.58074 -0.07537 0.56668 -0.03376 C 0.55261 0.00786 0.48699 -0.02821 0.46824 -0.01688 C 0.44949 -0.00555 0.45175 0.01411 0.454 0.03376 E">
                                      <p:cBhvr>
                                        <p:cTn id="171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39966">
              <a:alpha val="74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11280" y="270828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Harga keseimbangan adalah suatu harga dimana jumlah yang  diminta sama dengan jumlah yang ditawarkan.</a:t>
            </a: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971640" y="404640"/>
            <a:ext cx="734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c85e"/>
                </a:solidFill>
                <a:latin typeface="comic"/>
              </a:rPr>
              <a:t>Menghitung Harga Keseimb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50920" y="1268280"/>
            <a:ext cx="633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erlin Sans FB Demi"/>
              </a:rPr>
              <a:t>1. Fungsi Permintaan dan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Berlin Sans FB Demi"/>
                <a:hlinkClick r:id="rId1" action="ppaction://hlinksldjump"/>
              </a:rPr>
              <a:t>Penaw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12720" y="1916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Fungsi permintaa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53">
            <a:hlinkClick r:id="" action="ppaction://hlinkshowjump?jump=nextslide"/>
          </p:cNvPr>
          <p:cNvSpPr/>
          <p:nvPr/>
        </p:nvSpPr>
        <p:spPr>
          <a:xfrm>
            <a:off x="4368240" y="1916280"/>
            <a:ext cx="1802520" cy="51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= a + b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3216240" y="5084640"/>
            <a:ext cx="2963520" cy="510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8.000 – 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61128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Text Box 48"/>
          <p:cNvSpPr/>
          <p:nvPr/>
        </p:nvSpPr>
        <p:spPr>
          <a:xfrm>
            <a:off x="2987640" y="299736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5149800" y="2997360"/>
            <a:ext cx="158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Line 5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Line 5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AutoShape 55"/>
          <p:cNvSpPr/>
          <p:nvPr/>
        </p:nvSpPr>
        <p:spPr>
          <a:xfrm rot="5400000">
            <a:off x="4345200" y="4282200"/>
            <a:ext cx="976320" cy="485640"/>
          </a:xfrm>
          <a:prstGeom prst="pie">
            <a:avLst/>
          </a:prstGeom>
          <a:solidFill>
            <a:srgbClr val="333333">
              <a:alpha val="72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2771640" y="3141720"/>
            <a:ext cx="3024360" cy="7034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P = a + bQ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>
            <a:off x="2987280" y="3716280"/>
            <a:ext cx="792360" cy="8650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H="1" flipV="1">
            <a:off x="1763640" y="2421000"/>
            <a:ext cx="1224000" cy="792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788000" y="2276280"/>
            <a:ext cx="360360" cy="936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11280" y="1628640"/>
            <a:ext cx="1728720" cy="720720"/>
          </a:xfrm>
          <a:prstGeom prst="ellipse">
            <a:avLst/>
          </a:prstGeom>
          <a:solidFill>
            <a:srgbClr val="00ccff">
              <a:alpha val="72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harg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1692360" y="4724280"/>
            <a:ext cx="2087640" cy="6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konsta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5435640" y="4581360"/>
            <a:ext cx="2952720" cy="649440"/>
          </a:xfrm>
          <a:prstGeom prst="ellipse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jumlah produ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635280" y="1052640"/>
            <a:ext cx="3240360" cy="10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koefisien ara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persamaan fung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5219640" y="3789360"/>
            <a:ext cx="1224000" cy="6476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AutoShape 22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10800"/>
                </a:moveTo>
                <a:lnTo>
                  <a:pt x="19176" y="3794"/>
                </a:lnTo>
                <a:lnTo>
                  <a:pt x="1917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0428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8582" y="3794"/>
                </a:lnTo>
                <a:lnTo>
                  <a:pt x="8582" y="17806"/>
                </a:lnTo>
                <a:lnTo>
                  <a:pt x="692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8"/>
          <p:cNvSpPr/>
          <p:nvPr/>
        </p:nvSpPr>
        <p:spPr>
          <a:xfrm>
            <a:off x="2987640" y="299736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076720" y="2997360"/>
            <a:ext cx="1656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971640" y="1989000"/>
            <a:ext cx="29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rga mula - mu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541080" y="465300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rga setela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rubah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5508720" y="1484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umlah produk mula - mu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211640" y="4869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umlah produk setelah  perubah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324000" y="907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H="1" flipV="1">
            <a:off x="2700360" y="2420640"/>
            <a:ext cx="1224000" cy="576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1763280" y="4005360"/>
            <a:ext cx="1513080" cy="71892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6300720" y="2349360"/>
            <a:ext cx="216000" cy="7192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5508720" y="4006800"/>
            <a:ext cx="287280" cy="93492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32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10800"/>
                </a:moveTo>
                <a:lnTo>
                  <a:pt x="20863" y="3794"/>
                </a:lnTo>
                <a:lnTo>
                  <a:pt x="2086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8028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0357" y="10800"/>
                </a:moveTo>
                <a:lnTo>
                  <a:pt x="20863" y="3794"/>
                </a:lnTo>
                <a:lnTo>
                  <a:pt x="20863" y="17806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8512" y="3794"/>
                </a:lnTo>
                <a:lnTo>
                  <a:pt x="8512" y="17806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11:03Z</dcterms:created>
  <dc:creator>PPPG IPS</dc:creator>
  <dc:description/>
  <dc:language>en-US</dc:language>
  <cp:lastModifiedBy>Q-HP</cp:lastModifiedBy>
  <dcterms:modified xsi:type="dcterms:W3CDTF">2008-09-17T14:41:50Z</dcterms:modified>
  <cp:revision>36</cp:revision>
  <dc:subject/>
  <dc:title>Slide 1</dc:title>
</cp:coreProperties>
</file>