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4.png" ContentType="image/png"/>
  <Override PartName="/ppt/media/image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AD5-24AA-4FA2-8490-B493C8A7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FA1-EDEA-4B58-AFC9-8DD9D1EA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E04-CF42-4A5E-B0FA-24FCE71F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116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8548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116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8548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C1E-1A54-4DF6-BE9B-423C4150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8BD5-00F6-4239-A9AA-EA7B43BF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FDBC-DE17-4A73-B538-5FF5430E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C04A-A050-432E-A105-0D55B572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3818-D1A2-4F60-A274-4F673313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12BA-77D3-4C68-A87F-96871DF2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534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3292-5F48-45B2-9BE7-5E25872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C35B-52D9-435F-9DA1-0DFE08A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6B8-71CF-4821-87D9-93FA94EB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844B-35E9-4A8C-B3C2-0776C072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A4F5-C88E-438E-8FE9-B216A2A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D126-F6C9-4FC8-9A99-349A8CB3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D485-BD46-4249-9ACD-1FBDC654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2116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8548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62116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78548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0A54-2CF3-4408-86B2-32E670AE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7639-1781-4A1B-B0C7-00CE5258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18693-AFF0-4458-9A90-905520A6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83FD-4D2E-4B3C-8B03-B7591DC6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33D0A-5A5B-4991-8FD1-C7BF469E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9E1F-948D-4ADA-846D-2E4C0336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B81-7136-4D26-ACD8-CA285B9A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534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03B5-99C2-4A56-9436-2CC20F64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E5EE-349B-4944-9CB0-23C000E1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F946-6E25-4BE3-BED3-18C640FD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729C-7F73-415A-A545-8876AA5C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5A08-6CE4-4C3A-BEC4-5730C1FE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E67D-2D0F-48D0-8292-A3BB1D1B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62116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8548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62116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78548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AF60-1A2D-4518-8E31-687EDD90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50D-AE89-4B2E-8C47-7C5C6914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481-9BB7-4285-A3C7-98523AEC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534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36D-AE9A-4911-B146-BAAFCDC0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CA4-8FDD-4E16-92FC-B1C380E7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0EC-ACB0-4C42-A2A9-9CAA8C73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96A-0522-45D7-AB1C-2316940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4026-7F3F-44CE-9E71-B6F4B6DBBF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8D37-996B-417E-BF5D-C533F794B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7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28AE-D085-45A6-A9F6-116E53F86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13.xml"/><Relationship Id="rId16" Type="http://schemas.openxmlformats.org/officeDocument/2006/relationships/slide" Target="slide13.xml"/><Relationship Id="rId17" Type="http://schemas.openxmlformats.org/officeDocument/2006/relationships/slide" Target="slide13.xml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one_world_together"/>
          <p:cNvPicPr/>
          <p:nvPr/>
        </p:nvPicPr>
        <p:blipFill>
          <a:blip r:embed="rId2"/>
          <a:stretch/>
        </p:blipFill>
        <p:spPr>
          <a:xfrm>
            <a:off x="1523880" y="152388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kanisme Kerja Pasar Mo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352680" y="1905120"/>
            <a:ext cx="2371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elas XI semester 1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95480" y="3429000"/>
            <a:ext cx="38005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leh: Dina Rassi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MA Diakui Tri Dharma MKGR Palopo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12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5867280"/>
            <a:ext cx="122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457200" y="1143000"/>
            <a:ext cx="6553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ar surat berharga jangka panjang ini disebut bursa ef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Indonesia saat ini terdapat dua bursa efek, yaitu Bursa Efek Jakarta (BEJ) dan Bursa Efek Surabaya (B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rut Undang-Undang No. 8 Tahun1995 tentang Pasar Modal disebutkan istilah berik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ursa Efe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orang yang menyediakan sarana untuk  penaw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fe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alah surat berharga, yaitu surat pengakuan utang,surat berharga komersial, saham,obligasi, d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0"/>
            <a:ext cx="86868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TILAH-ISTILAH POKOK DALAM BURSA EF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teri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(Lanjutan)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3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457200" y="1143000"/>
            <a:ext cx="6553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enawaran Um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dalah kegiatan penawaran efek yang dilakukan oleh emitmen untuk menjual efek kepada masyarak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mitm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dalah pihak yang melakukan penawaran u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sar Mod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lah kegiatan yang berkaitan dengan penawaran umum dan perdangangan ef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60948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asar Ua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33520" y="1828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ar Uang adalah pasar atau tempat dimana kegiatan permintaan dan penawaran dana-dana berupa surat-surat berharga dengan jangka waktu jatuh tempo kurang dari satu tah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457200" y="32004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asar Mod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609480" y="3809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ar Modal adalah pasar dimana pihak yang menawarkan dana jangka panjang (obligasi), surat tanda penyertaan modal (saham) bertemu dengan pihak-pihak yang membutuhkan dana jangka panj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Changing_colors"/>
          <p:cNvPicPr/>
          <p:nvPr/>
        </p:nvPicPr>
        <p:blipFill>
          <a:blip r:embed="rId3"/>
          <a:stretch/>
        </p:blipFill>
        <p:spPr>
          <a:xfrm>
            <a:off x="609480" y="3333600"/>
            <a:ext cx="171720" cy="1717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0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0"/>
            <a:ext cx="86868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BEDAAN PASAR UANG DENGAN PASAR 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Changing_colors"/>
          <p:cNvPicPr/>
          <p:nvPr/>
        </p:nvPicPr>
        <p:blipFill>
          <a:blip r:embed="rId4"/>
          <a:stretch/>
        </p:blipFill>
        <p:spPr>
          <a:xfrm>
            <a:off x="533520" y="1428840"/>
            <a:ext cx="1713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457200" y="1143000"/>
            <a:ext cx="655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dalam pasar modal dikenal istilah emitmen. Apakah yang dimaksud dengan emitm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 perbedaan saham dengan obligas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butkan 5 lembaga yang terlibat dalam mekanisme bursa efek beserta peranny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aikan beberapa fungsi pasar mod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aikan beberapa fungsi pasar ua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liskan perbedaan antara pasar modal dan pasar ua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0"/>
            <a:ext cx="86868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AL LATI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0" y="1981080"/>
            <a:ext cx="9144000" cy="5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erima Kasi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>
            <a:hlinkClick r:id="" action="ppaction://hlinkshowjump?jump=endshow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500" autoRev="1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5" dur="500" autoRev="1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6" dur="500" autoRev="1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nu Utam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one_world_together"/>
          <p:cNvPicPr/>
          <p:nvPr/>
        </p:nvPicPr>
        <p:blipFill>
          <a:blip r:embed="rId2"/>
          <a:stretch/>
        </p:blipFill>
        <p:spPr>
          <a:xfrm>
            <a:off x="5181480" y="3048120"/>
            <a:ext cx="3962520" cy="3422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963720" y="3733920"/>
            <a:ext cx="49528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ateri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887400" y="2209680"/>
            <a:ext cx="5105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Indik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887400" y="1447920"/>
            <a:ext cx="5105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ndar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Kompetensi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dan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Kompetensi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Da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569880" y="1479600"/>
            <a:ext cx="380880" cy="482400"/>
            <a:chOff x="569880" y="1479600"/>
            <a:chExt cx="380880" cy="482400"/>
          </a:xfrm>
        </p:grpSpPr>
        <p:sp>
          <p:nvSpPr>
            <p:cNvPr id="140" name="Oval 11"/>
            <p:cNvSpPr/>
            <p:nvPr/>
          </p:nvSpPr>
          <p:spPr>
            <a:xfrm>
              <a:off x="569880" y="15285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591480" y="1550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3"/>
            <p:cNvSpPr/>
            <p:nvPr/>
          </p:nvSpPr>
          <p:spPr>
            <a:xfrm>
              <a:off x="628560" y="14796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628560" y="14796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5"/>
            <p:cNvSpPr/>
            <p:nvPr/>
          </p:nvSpPr>
          <p:spPr>
            <a:xfrm>
              <a:off x="630000" y="1481040"/>
              <a:ext cx="258840" cy="48096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630000" y="1479600"/>
              <a:ext cx="258840" cy="480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7"/>
          <p:cNvGrpSpPr/>
          <p:nvPr/>
        </p:nvGrpSpPr>
        <p:grpSpPr>
          <a:xfrm>
            <a:off x="582480" y="2254320"/>
            <a:ext cx="381240" cy="482400"/>
            <a:chOff x="582480" y="2254320"/>
            <a:chExt cx="381240" cy="482400"/>
          </a:xfrm>
        </p:grpSpPr>
        <p:sp>
          <p:nvSpPr>
            <p:cNvPr id="147" name="Oval 18"/>
            <p:cNvSpPr/>
            <p:nvPr/>
          </p:nvSpPr>
          <p:spPr>
            <a:xfrm>
              <a:off x="582480" y="23032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604080" y="232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641160" y="225432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1"/>
            <p:cNvSpPr/>
            <p:nvPr/>
          </p:nvSpPr>
          <p:spPr>
            <a:xfrm>
              <a:off x="641160" y="225432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2"/>
            <p:cNvSpPr/>
            <p:nvPr/>
          </p:nvSpPr>
          <p:spPr>
            <a:xfrm>
              <a:off x="642960" y="2255760"/>
              <a:ext cx="258840" cy="48096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3"/>
            <p:cNvSpPr/>
            <p:nvPr/>
          </p:nvSpPr>
          <p:spPr>
            <a:xfrm>
              <a:off x="642960" y="2254320"/>
              <a:ext cx="258840" cy="4809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1"/>
          <p:cNvGrpSpPr/>
          <p:nvPr/>
        </p:nvGrpSpPr>
        <p:grpSpPr>
          <a:xfrm>
            <a:off x="608040" y="3790800"/>
            <a:ext cx="380880" cy="482760"/>
            <a:chOff x="608040" y="3790800"/>
            <a:chExt cx="380880" cy="482760"/>
          </a:xfrm>
        </p:grpSpPr>
        <p:sp>
          <p:nvSpPr>
            <p:cNvPr id="154" name="Oval 32"/>
            <p:cNvSpPr/>
            <p:nvPr/>
          </p:nvSpPr>
          <p:spPr>
            <a:xfrm>
              <a:off x="608040" y="38397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629640" y="38613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666720" y="3790800"/>
              <a:ext cx="18432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666720" y="3790800"/>
              <a:ext cx="184320" cy="48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668160" y="3792240"/>
              <a:ext cx="258840" cy="48132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7"/>
            <p:cNvSpPr/>
            <p:nvPr/>
          </p:nvSpPr>
          <p:spPr>
            <a:xfrm>
              <a:off x="668160" y="3790800"/>
              <a:ext cx="258840" cy="48132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38"/>
          <p:cNvSpPr/>
          <p:nvPr/>
        </p:nvSpPr>
        <p:spPr>
          <a:xfrm>
            <a:off x="914400" y="4495680"/>
            <a:ext cx="50022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Soal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Lat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9"/>
          <p:cNvGrpSpPr/>
          <p:nvPr/>
        </p:nvGrpSpPr>
        <p:grpSpPr>
          <a:xfrm>
            <a:off x="596880" y="4511520"/>
            <a:ext cx="380880" cy="482760"/>
            <a:chOff x="596880" y="4511520"/>
            <a:chExt cx="380880" cy="482760"/>
          </a:xfrm>
        </p:grpSpPr>
        <p:sp>
          <p:nvSpPr>
            <p:cNvPr id="162" name="Oval 40"/>
            <p:cNvSpPr/>
            <p:nvPr/>
          </p:nvSpPr>
          <p:spPr>
            <a:xfrm>
              <a:off x="596880" y="4560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1"/>
            <p:cNvSpPr/>
            <p:nvPr/>
          </p:nvSpPr>
          <p:spPr>
            <a:xfrm>
              <a:off x="618480" y="4582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2"/>
            <p:cNvSpPr/>
            <p:nvPr/>
          </p:nvSpPr>
          <p:spPr>
            <a:xfrm>
              <a:off x="655560" y="4511520"/>
              <a:ext cx="18432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3"/>
            <p:cNvSpPr/>
            <p:nvPr/>
          </p:nvSpPr>
          <p:spPr>
            <a:xfrm>
              <a:off x="655560" y="4511520"/>
              <a:ext cx="184320" cy="48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44"/>
            <p:cNvSpPr/>
            <p:nvPr/>
          </p:nvSpPr>
          <p:spPr>
            <a:xfrm>
              <a:off x="657000" y="4512960"/>
              <a:ext cx="258840" cy="48132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45"/>
            <p:cNvSpPr/>
            <p:nvPr/>
          </p:nvSpPr>
          <p:spPr>
            <a:xfrm>
              <a:off x="657000" y="4511520"/>
              <a:ext cx="258840" cy="481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13">
            <a:hlinkClick r:id="rId18" action="ppaction://hlinksldjump"/>
          </p:cNvPr>
          <p:cNvSpPr/>
          <p:nvPr/>
        </p:nvSpPr>
        <p:spPr>
          <a:xfrm flipH="1">
            <a:off x="6933600" y="6324480"/>
            <a:ext cx="990360" cy="381240"/>
          </a:xfrm>
          <a:custGeom>
            <a:avLst/>
            <a:gdLst>
              <a:gd name="textAreaLeft" fmla="*/ -360 w 990360"/>
              <a:gd name="textAreaRight" fmla="*/ 990360 w 990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ndar Kompetensi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engenal Pasar M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ompetensi Dasar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2. Mendeskripsikan mekanisme kerja Bursa Efe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457200" y="46483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7">
            <a:hlinkClick r:id="rId3" action="ppaction://hlinksldjump"/>
          </p:cNvPr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DIKAT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deskripsikan mekanisme Kerja Bursa Efe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bedakan Pasar Modal dan Pasar Ua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457200" y="46483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6">
            <a:hlinkClick r:id="rId3" action="ppaction://hlinksldjump"/>
          </p:cNvPr>
          <p:cNvSpPr/>
          <p:nvPr/>
        </p:nvSpPr>
        <p:spPr>
          <a:xfrm flipH="1">
            <a:off x="705312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9"/>
          <p:cNvSpPr/>
          <p:nvPr/>
        </p:nvSpPr>
        <p:spPr>
          <a:xfrm>
            <a:off x="304920" y="762120"/>
            <a:ext cx="8458200" cy="5790960"/>
          </a:xfrm>
          <a:prstGeom prst="roundRect">
            <a:avLst>
              <a:gd name="adj" fmla="val 5250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Grafik"/>
          <p:cNvPicPr/>
          <p:nvPr/>
        </p:nvPicPr>
        <p:blipFill>
          <a:blip r:embed="rId3"/>
          <a:stretch/>
        </p:blipFill>
        <p:spPr>
          <a:xfrm>
            <a:off x="990720" y="990720"/>
            <a:ext cx="7086600" cy="52578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2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3">
            <a:hlinkClick r:id="rId4" action="ppaction://hlinksldjump"/>
          </p:cNvPr>
          <p:cNvSpPr/>
          <p:nvPr/>
        </p:nvSpPr>
        <p:spPr>
          <a:xfrm flipH="1">
            <a:off x="6933600" y="6019920"/>
            <a:ext cx="990360" cy="380880"/>
          </a:xfrm>
          <a:custGeom>
            <a:avLst/>
            <a:gdLst>
              <a:gd name="textAreaLeft" fmla="*/ -360 w 990360"/>
              <a:gd name="textAreaRight" fmla="*/ 990360 w 990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TA KONSEP PASAR 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9"/>
          <p:cNvSpPr/>
          <p:nvPr/>
        </p:nvSpPr>
        <p:spPr>
          <a:xfrm>
            <a:off x="304920" y="762120"/>
            <a:ext cx="8458200" cy="5790960"/>
          </a:xfrm>
          <a:prstGeom prst="roundRect">
            <a:avLst>
              <a:gd name="adj" fmla="val 5250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2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>
            <a:hlinkClick r:id="rId3" action="ppaction://hlinksldjump"/>
          </p:cNvPr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ktur Pasar Modal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9480" y="990720"/>
            <a:ext cx="8040600" cy="4563720"/>
            <a:chOff x="609480" y="990720"/>
            <a:chExt cx="8040600" cy="4563720"/>
          </a:xfrm>
        </p:grpSpPr>
        <p:sp>
          <p:nvSpPr>
            <p:cNvPr id="187" name=""/>
            <p:cNvSpPr/>
            <p:nvPr/>
          </p:nvSpPr>
          <p:spPr>
            <a:xfrm>
              <a:off x="996120" y="4370400"/>
              <a:ext cx="7399080" cy="118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rusahaan Efe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embaga Penunjang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fesi Penunjang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modal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mit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njamin Emisi Efe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iro Administrasi Efe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kuntan Publi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mestik        Perusaha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rantara  Pedagang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meringkat Efe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nsultan Hukum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ing                publi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fe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ank Kustodia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nilai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ksa D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najer Investasi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ali Amana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otar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nanggung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fesi lain yg ditetapkan P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3960" y="990720"/>
              <a:ext cx="264744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nteri Keuan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87920" y="1779840"/>
              <a:ext cx="3420000" cy="69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adan Pengawas Pasar Mod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(BAPEPA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2713320"/>
              <a:ext cx="8040600" cy="130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elf Regulatory Organization (SR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ursa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mbag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Lemba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fek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liring &amp; Penjaminan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nyimpanan &amp; Penyelesa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ES &amp; BEJ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(LKP) - PT KPEI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(LPP) - PT KSE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1640" y="14749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1640" y="2484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1640" y="4046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659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Mekanisme Perdagangan </a:t>
            </a:r>
            <a:br>
              <a:rPr sz="2900"/>
            </a:b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di Bursa Efek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1828800"/>
            <a:ext cx="8696160" cy="3950640"/>
            <a:chOff x="228600" y="1828800"/>
            <a:chExt cx="8696160" cy="3950640"/>
          </a:xfrm>
        </p:grpSpPr>
        <p:sp>
          <p:nvSpPr>
            <p:cNvPr id="196" name=""/>
            <p:cNvSpPr/>
            <p:nvPr/>
          </p:nvSpPr>
          <p:spPr>
            <a:xfrm>
              <a:off x="2666880" y="2286000"/>
              <a:ext cx="3810240" cy="1371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4038480" y="2819520"/>
              <a:ext cx="10890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8001000" y="25909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25909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880" y="2514600"/>
              <a:ext cx="83844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6200" y="2895480"/>
              <a:ext cx="14479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99"/>
                  </a:solidFill>
                  <a:latin typeface="Times New Roman"/>
                </a:rPr>
                <a:t>TRADIN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cccc99"/>
                  </a:solidFill>
                  <a:latin typeface="Times New Roman"/>
                </a:rPr>
                <a:t>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95480" y="2362320"/>
              <a:ext cx="3210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2db2"/>
                  </a:solidFill>
                  <a:latin typeface="Times New Roman"/>
                </a:rPr>
                <a:t>BURSA EF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19520" y="2971800"/>
              <a:ext cx="99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99"/>
                  </a:solidFill>
                  <a:latin typeface="Times New Roman"/>
                </a:rPr>
                <a:t>WP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99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cccc99"/>
                  </a:solidFill>
                  <a:latin typeface="Arial"/>
                </a:rPr>
                <a:t>Piala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286000" y="3962520"/>
              <a:ext cx="4662360" cy="486720"/>
              <a:chOff x="2286000" y="3962520"/>
              <a:chExt cx="4662360" cy="486720"/>
            </a:xfrm>
          </p:grpSpPr>
          <p:sp>
            <p:nvSpPr>
              <p:cNvPr id="205" name=""/>
              <p:cNvSpPr/>
              <p:nvPr/>
            </p:nvSpPr>
            <p:spPr>
              <a:xfrm>
                <a:off x="2286000" y="3962520"/>
                <a:ext cx="4662360" cy="486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303640" y="3965400"/>
                <a:ext cx="4636800" cy="4802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352600" y="4035600"/>
              <a:ext cx="48103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42db2"/>
                  </a:solidFill>
                  <a:latin typeface="Times New Roman"/>
                </a:rPr>
                <a:t>LEMBAGA KLIRING &amp; PENJAMINA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889360" y="4718160"/>
              <a:ext cx="3504960" cy="863640"/>
              <a:chOff x="2889360" y="4718160"/>
              <a:chExt cx="3504960" cy="863640"/>
            </a:xfrm>
          </p:grpSpPr>
          <p:sp>
            <p:nvSpPr>
              <p:cNvPr id="209" name=""/>
              <p:cNvSpPr/>
              <p:nvPr/>
            </p:nvSpPr>
            <p:spPr>
              <a:xfrm>
                <a:off x="2889360" y="4718160"/>
                <a:ext cx="3504960" cy="859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01960" y="4720320"/>
                <a:ext cx="3484440" cy="8614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889360" y="4735440"/>
              <a:ext cx="3537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2db2"/>
                  </a:solidFill>
                  <a:latin typeface="Times New Roman"/>
                </a:rPr>
                <a:t>LEMBAGA PENYIMPAN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2db2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42db2"/>
                  </a:solidFill>
                  <a:latin typeface="Times New Roman"/>
                </a:rPr>
                <a:t>&amp;  PENYELESAI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" y="5264280"/>
              <a:ext cx="1533600" cy="51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USTODI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91520" y="5264280"/>
              <a:ext cx="1533240" cy="51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USTODI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831600" y="2919240"/>
              <a:ext cx="6120" cy="233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3760" y="2548080"/>
              <a:ext cx="100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8375400" y="2919240"/>
              <a:ext cx="6120" cy="233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77120" y="335268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080" y="419112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34320" y="41911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9320" y="3048120"/>
              <a:ext cx="1380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der Be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3048120"/>
              <a:ext cx="1219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der J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600" y="1828800"/>
              <a:ext cx="1295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ves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96080" y="1905120"/>
              <a:ext cx="1219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ves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8080" y="48769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8080" y="335268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2971800"/>
              <a:ext cx="1752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99"/>
                  </a:solidFill>
                  <a:latin typeface="Times New Roman"/>
                </a:rPr>
                <a:t>WP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99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cccc99"/>
                  </a:solidFill>
                  <a:latin typeface="Arial"/>
                </a:rPr>
                <a:t>Piala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35840" y="2557440"/>
              <a:ext cx="83844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48720" y="2590920"/>
              <a:ext cx="100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36576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00800" y="487692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591240" y="5105520"/>
              <a:ext cx="838440" cy="363240"/>
              <a:chOff x="6591240" y="5105520"/>
              <a:chExt cx="838440" cy="363240"/>
            </a:xfrm>
          </p:grpSpPr>
          <p:sp>
            <p:nvSpPr>
              <p:cNvPr id="232" name=""/>
              <p:cNvSpPr/>
              <p:nvPr/>
            </p:nvSpPr>
            <p:spPr>
              <a:xfrm>
                <a:off x="6591240" y="5145120"/>
                <a:ext cx="609840" cy="304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58200" y="5105520"/>
                <a:ext cx="771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1981080" y="5105520"/>
              <a:ext cx="838440" cy="363240"/>
              <a:chOff x="1981080" y="5105520"/>
              <a:chExt cx="838440" cy="363240"/>
            </a:xfrm>
          </p:grpSpPr>
          <p:sp>
            <p:nvSpPr>
              <p:cNvPr id="235" name=""/>
              <p:cNvSpPr/>
              <p:nvPr/>
            </p:nvSpPr>
            <p:spPr>
              <a:xfrm>
                <a:off x="1981080" y="5145120"/>
                <a:ext cx="609840" cy="304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48040" y="5105520"/>
                <a:ext cx="771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572000" y="443880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8080" y="502920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00800" y="50292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AutoShape 12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>
            <a:hlinkClick r:id="rId2" action="ppaction://hlinksldjump"/>
          </p:cNvPr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5600880" y="5105520"/>
            <a:ext cx="1447560" cy="1207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457200" y="1523880"/>
            <a:ext cx="647712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merintah yang diwakili oleh Bapepam dan PT Dana Rek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sahaan emitmen (pencari d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baga perantara em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antara perdagangan ef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">
            <a:hlinkClick r:id="" action="ppaction://hlinkshowjump?jump=nextslide"/>
          </p:cNvPr>
          <p:cNvSpPr/>
          <p:nvPr/>
        </p:nvSpPr>
        <p:spPr>
          <a:xfrm>
            <a:off x="7953480" y="6048360"/>
            <a:ext cx="990360" cy="380880"/>
          </a:xfrm>
          <a:custGeom>
            <a:avLst/>
            <a:gdLst>
              <a:gd name="textAreaLeft" fmla="*/ 0 w 990360"/>
              <a:gd name="textAreaRight" fmla="*/ 990720 w 990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 flipH="1">
            <a:off x="6929280" y="60580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0"/>
            <a:ext cx="86868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hak-pihak yang berperan serta dalam pasar mod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teri Keuangan sebagai Ketua merangkap Anggo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teri Negara Penertiban Aparatur Negara/Wakil K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teri Perdagangan sebagai Anggo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kretaris Kabinet Sebagai Anggo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bernur BI sebagai Anggo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tua Badan Koordinasi Penanaman Modal Sbg. Anggo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0"/>
            <a:ext cx="86868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533520" y="3049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tuk membina pelaksanaan pasar modal , dibentuk Badan Pembina Pasar Modal (BPPM) yaitu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08:08:56Z</dcterms:created>
  <dc:creator>andyas</dc:creator>
  <dc:description/>
  <dc:language>en-US</dc:language>
  <cp:lastModifiedBy>User</cp:lastModifiedBy>
  <dcterms:modified xsi:type="dcterms:W3CDTF">2008-09-17T03:21:05Z</dcterms:modified>
  <cp:revision>41</cp:revision>
  <dc:subject/>
  <dc:title>Pasar Uang &amp; Pasar Modal</dc:title>
</cp:coreProperties>
</file>