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6.jpeg" ContentType="image/jpeg"/>
  <Override PartName="/ppt/media/image7.jpeg" ContentType="image/jpeg"/>
  <Override PartName="/ppt/media/image11.gif" ContentType="image/gif"/>
  <Override PartName="/ppt/media/image12.gif" ContentType="image/gi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588-09A0-47B9-94C7-51D3D633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BC4-81B5-4C48-AD95-A60C9F9C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194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CC8-A2D2-4CA8-9126-0BDDFC99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37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06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37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306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8AC-8BD4-4571-8B20-FB577C38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F4D-896A-4880-9265-DCD56594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43F-FC6E-489C-9166-950DC7D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CD9-17C7-4CA4-9D65-4D9BC7B3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63C-00A9-420B-B11F-73CE1E69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C14-708E-4FA7-A892-010275F8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878-EB72-4BBC-8D54-0B7AEB3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194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EA6-7323-4166-BE00-377C0875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81F-01CD-41BC-8225-BF8221F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493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05D0-C642-4107-B388-47E90C8E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gif"/><Relationship Id="rId3" Type="http://schemas.openxmlformats.org/officeDocument/2006/relationships/slide" Target=""/><Relationship Id="rId4" Type="http://schemas.openxmlformats.org/officeDocument/2006/relationships/image" Target="../media/image5.gi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"/>
          <p:cNvSpPr txBox="1"/>
          <p:nvPr/>
        </p:nvSpPr>
        <p:spPr>
          <a:xfrm>
            <a:off x="2916360" y="1700280"/>
            <a:ext cx="55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MINTAA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NAWAR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AutoShape 31">
            <a:hlinkClick r:id="" action="ppaction://hlinkshowjump?jump=nextslide"/>
          </p:cNvPr>
          <p:cNvSpPr/>
          <p:nvPr/>
        </p:nvSpPr>
        <p:spPr>
          <a:xfrm>
            <a:off x="500040" y="185724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 / 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4">
            <a:hlinkClick r:id="rId2" action="ppaction://hlinksldjump"/>
          </p:cNvPr>
          <p:cNvSpPr/>
          <p:nvPr/>
        </p:nvSpPr>
        <p:spPr>
          <a:xfrm>
            <a:off x="515880" y="307188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K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5">
            <a:hlinkClick r:id="rId4" action="ppaction://hlinksldjump"/>
          </p:cNvPr>
          <p:cNvSpPr/>
          <p:nvPr/>
        </p:nvSpPr>
        <p:spPr>
          <a:xfrm>
            <a:off x="515880" y="43005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8">
            <a:hlinkClick r:id="rId6" action="ppaction://hlinksldjump"/>
          </p:cNvPr>
          <p:cNvSpPr/>
          <p:nvPr/>
        </p:nvSpPr>
        <p:spPr>
          <a:xfrm>
            <a:off x="514440" y="5280120"/>
            <a:ext cx="1746000" cy="720720"/>
          </a:xfrm>
          <a:custGeom>
            <a:avLst/>
            <a:gdLst>
              <a:gd name="textAreaLeft" fmla="*/ 46440 w 1746000"/>
              <a:gd name="textAreaRight" fmla="*/ 1699560 w 1746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312" h="21600">
                <a:moveTo>
                  <a:pt x="0" y="0"/>
                </a:moveTo>
                <a:lnTo>
                  <a:pt x="52312" y="0"/>
                </a:lnTo>
                <a:lnTo>
                  <a:pt x="52312" y="21600"/>
                </a:lnTo>
                <a:lnTo>
                  <a:pt x="0" y="21600"/>
                </a:lnTo>
                <a:close/>
              </a:path>
              <a:path fill="lightenLess" w="52312" h="21600">
                <a:moveTo>
                  <a:pt x="0" y="0"/>
                </a:moveTo>
                <a:lnTo>
                  <a:pt x="52312" y="0"/>
                </a:lnTo>
                <a:lnTo>
                  <a:pt x="50912" y="1400"/>
                </a:lnTo>
                <a:lnTo>
                  <a:pt x="1400" y="1400"/>
                </a:lnTo>
                <a:close/>
              </a:path>
              <a:path fill="darken" w="52312" h="21600">
                <a:moveTo>
                  <a:pt x="52312" y="0"/>
                </a:moveTo>
                <a:lnTo>
                  <a:pt x="52312" y="21600"/>
                </a:lnTo>
                <a:lnTo>
                  <a:pt x="50912" y="20200"/>
                </a:lnTo>
                <a:lnTo>
                  <a:pt x="50912" y="1400"/>
                </a:lnTo>
                <a:close/>
              </a:path>
              <a:path fill="darkenLess" w="52312" h="21600">
                <a:moveTo>
                  <a:pt x="52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12" y="20200"/>
                </a:lnTo>
                <a:close/>
              </a:path>
              <a:path fill="lighten" w="52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OH S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5"/>
          <p:cNvSpPr txBox="1"/>
          <p:nvPr/>
        </p:nvSpPr>
        <p:spPr>
          <a:xfrm>
            <a:off x="239760" y="549360"/>
            <a:ext cx="453528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270b45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KONOMI KELAS 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270b45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4071960" y="50468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e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wi Sulastri, S.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N I SEPA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E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0"/>
          <p:cNvSpPr txBox="1"/>
          <p:nvPr/>
        </p:nvSpPr>
        <p:spPr>
          <a:xfrm>
            <a:off x="2916360" y="1700280"/>
            <a:ext cx="55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4c4cc4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4c4cc4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4c4cc4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4c4cc4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4c4cc4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4c4cc4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7915320" y="62866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WordArt 4"/>
          <p:cNvGrpSpPr/>
          <p:nvPr/>
        </p:nvGrpSpPr>
        <p:grpSpPr>
          <a:xfrm>
            <a:off x="1901880" y="2127240"/>
            <a:ext cx="5310000" cy="658800"/>
            <a:chOff x="1901880" y="2127240"/>
            <a:chExt cx="5310000" cy="658800"/>
          </a:xfrm>
        </p:grpSpPr>
        <p:pic>
          <p:nvPicPr>
            <p:cNvPr id="107" name="WordArt 4" descr=""/>
            <p:cNvPicPr/>
            <p:nvPr/>
          </p:nvPicPr>
          <p:blipFill>
            <a:blip r:embed="rId1"/>
            <a:stretch/>
          </p:blipFill>
          <p:spPr>
            <a:xfrm>
              <a:off x="1901880" y="2127240"/>
              <a:ext cx="53100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908000" y="2133720"/>
              <a:ext cx="52959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3600" spc="-1" strike="noStrike">
                  <a:solidFill>
                    <a:srgbClr val="000000"/>
                  </a:solidFill>
                  <a:latin typeface="Arial Black"/>
                </a:rPr>
                <a:t>Jawaban Anda Sala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5" descr="1face"/>
          <p:cNvPicPr/>
          <p:nvPr/>
        </p:nvPicPr>
        <p:blipFill>
          <a:blip r:embed="rId2"/>
          <a:stretch/>
        </p:blipFill>
        <p:spPr>
          <a:xfrm>
            <a:off x="3059280" y="3429000"/>
            <a:ext cx="3095280" cy="1525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1116000" y="2637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2843280" y="3105000"/>
            <a:ext cx="529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f6c9a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awaban Anda Bena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f6c9a4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Picture 10" descr="13543_0"/>
          <p:cNvPicPr/>
          <p:nvPr/>
        </p:nvPicPr>
        <p:blipFill>
          <a:blip r:embed="rId1"/>
          <a:stretch/>
        </p:blipFill>
        <p:spPr>
          <a:xfrm>
            <a:off x="0" y="0"/>
            <a:ext cx="176364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4798E-006 C 0.00383 -0.00763 0.00886 -0.0104 0.0132 -0.01734 C 0.0191 -0.02659 0.02292 -0.03792 0.02796 -0.04786 C 0.03178 -0.06404 0.04654 -0.0652 0.05747 -0.06751 C 0.07657 -0.08069 0.10018 -0.08439 0.12136 -0.08716 C 0.14914 -0.08647 0.17709 -0.08647 0.20487 -0.08508 C 0.22622 -0.08416 0.24011 -0.06266 0.25904 -0.05456 C 0.2665 -0.04462 0.27345 -0.03283 0.28369 -0.02821 C 0.28612 -0.01873 0.28942 -0.01133 0.29185 -0.00208 C 0.28733 0.03815 0.26563 0.06127 0.24098 0.08093 C 0.23699 0.08416 0.23386 0.08948 0.22952 0.09179 C 0.21928 0.09734 0.20851 0.10289 0.19845 0.10914 C 0.17674 0.12255 0.15574 0.1385 0.13438 0.15284 C 0.12466 0.15931 0.11459 0.16601 0.10487 0.17249 C 0.09358 0.18012 0.08265 0.19006 0.07049 0.19422 C 0.05956 0.20509 0.04636 0.21388 0.03438 0.22266 C 0.02397 0.23029 0.01164 0.23492 0.00174 0.24463 C -0.00017 0.24648 -0.00138 0.24925 -0.00329 0.2511 C -0.0177 0.26474 -0.00277 0.24578 -0.01475 0.26197 C -0.01388 0.26729 -0.01371 0.27561 -0.00989 0.27954 C -0.00381 0.28601 0.00539 0.28278 0.0132 0.28393 C 0.02327 0.28532 0.03421 0.28971 0.04428 0.29041 C 0.06338 0.29179 0.08265 0.29203 0.10174 0.29272 C 0.10487 0.29942 0.10626 0.30497 0.10817 0.31237 C 0.10869 0.31445 0.1099 0.31885 0.1099 0.31885 E">
                                      <p:cBhvr>
                                        <p:cTn id="34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Entertainment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013360"/>
            <a:ext cx="1584360" cy="15238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539640" y="0"/>
            <a:ext cx="5616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7000"/>
                  </a:srgbClr>
                </a:solidFill>
                <a:latin typeface="Times New Roman"/>
              </a:rPr>
              <a:t>See You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7000"/>
                  </a:srgbClr>
                </a:solidFill>
                <a:latin typeface="Times New Roman"/>
              </a:rPr>
              <a:t>Next Time....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7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50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56760" y="1428840"/>
            <a:ext cx="576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36"/>
                </a:solidFill>
                <a:latin typeface="Comic Sans MS"/>
              </a:rPr>
              <a:t>STANDAR KOMPETEN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Memahami konsep ekonomi dalam kaitannya dengan permintaan, penawaran</a:t>
            </a:r>
            <a:r>
              <a:rPr b="1" lang="id-ID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ga keseimbangan</a:t>
            </a:r>
            <a:r>
              <a:rPr b="1" lang="id-ID" sz="2800" spc="-1" strike="noStrike">
                <a:solidFill>
                  <a:srgbClr val="ffffff"/>
                </a:solidFill>
                <a:latin typeface="Times New Roman"/>
              </a:rPr>
              <a:t> dan pas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34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gradFill rotWithShape="0">
            <a:gsLst>
              <a:gs pos="0">
                <a:srgbClr val="e97f27"/>
              </a:gs>
              <a:gs pos="100000">
                <a:srgbClr val="9852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35"/>
          <p:cNvSpPr txBox="1"/>
          <p:nvPr/>
        </p:nvSpPr>
        <p:spPr>
          <a:xfrm>
            <a:off x="468360" y="723960"/>
            <a:ext cx="4390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270b45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270b45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37"/>
          <p:cNvSpPr/>
          <p:nvPr/>
        </p:nvSpPr>
        <p:spPr>
          <a:xfrm>
            <a:off x="428760" y="4000680"/>
            <a:ext cx="590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836"/>
                </a:solidFill>
                <a:latin typeface="Comic Sans MS"/>
              </a:rPr>
              <a:t>KOMPETENSI DAS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1.Mengidentifikasi faktor-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ang mempengaruhi permint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 penaw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4"/>
          <p:cNvSpPr/>
          <p:nvPr/>
        </p:nvSpPr>
        <p:spPr>
          <a:xfrm>
            <a:off x="539640" y="2637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80836"/>
                </a:solidFill>
                <a:latin typeface="Arial"/>
              </a:rPr>
              <a:t>Mendeskripsikan pengertian permintaan dan penaw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6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gradFill rotWithShape="0">
            <a:gsLst>
              <a:gs pos="0">
                <a:srgbClr val="e97f27"/>
              </a:gs>
              <a:gs pos="100000">
                <a:srgbClr val="9852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8"/>
          <p:cNvSpPr txBox="1"/>
          <p:nvPr/>
        </p:nvSpPr>
        <p:spPr>
          <a:xfrm>
            <a:off x="324000" y="836640"/>
            <a:ext cx="453528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270b45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KONOMI KELAS 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270b45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1258920" y="407664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80836"/>
                </a:solidFill>
                <a:latin typeface="Arial"/>
              </a:rPr>
              <a:t>Mengidentifikasi faktor-faktor yang mempengaruhi permintaan dan penaw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124000" y="191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836"/>
                </a:solidFill>
                <a:latin typeface="Comic Sans MS"/>
              </a:rPr>
              <a:t>INDIK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8"/>
          <p:cNvSpPr txBox="1"/>
          <p:nvPr/>
        </p:nvSpPr>
        <p:spPr>
          <a:xfrm>
            <a:off x="468360" y="141300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Picture 30" descr="1-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95640" y="1268280"/>
            <a:ext cx="647640" cy="863640"/>
          </a:xfrm>
          <a:prstGeom prst="rect">
            <a:avLst/>
          </a:prstGeom>
          <a:ln w="0">
            <a:noFill/>
          </a:ln>
        </p:spPr>
      </p:pic>
      <p:sp>
        <p:nvSpPr>
          <p:cNvPr id="61" name="WordArt 33"/>
          <p:cNvSpPr txBox="1"/>
          <p:nvPr/>
        </p:nvSpPr>
        <p:spPr>
          <a:xfrm>
            <a:off x="395280" y="2421000"/>
            <a:ext cx="3019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2" name="Picture 34" descr="1-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2319480"/>
            <a:ext cx="647640" cy="9032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6"/>
          <p:cNvSpPr/>
          <p:nvPr/>
        </p:nvSpPr>
        <p:spPr>
          <a:xfrm>
            <a:off x="4643280" y="765000"/>
            <a:ext cx="1944720" cy="792360"/>
          </a:xfrm>
          <a:prstGeom prst="cloudCallout">
            <a:avLst>
              <a:gd name="adj1" fmla="val -53347"/>
              <a:gd name="adj2" fmla="val 42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ik Di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7"/>
          <p:cNvSpPr/>
          <p:nvPr/>
        </p:nvSpPr>
        <p:spPr>
          <a:xfrm>
            <a:off x="4859280" y="1628640"/>
            <a:ext cx="2017800" cy="720720"/>
          </a:xfrm>
          <a:prstGeom prst="cloudCallout">
            <a:avLst>
              <a:gd name="adj1" fmla="val -50944"/>
              <a:gd name="adj2" fmla="val 116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ik Di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501480" y="35020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0836"/>
                </a:solidFill>
                <a:latin typeface="Comic Sans MS"/>
              </a:rPr>
              <a:t>FAKTOR-FAKTOR YANG MEMPENGARUHI</a:t>
            </a:r>
            <a:r>
              <a:rPr b="0" lang="en-US" sz="3600" spc="-1" strike="noStrike">
                <a:solidFill>
                  <a:srgbClr val="280836"/>
                </a:solidFill>
                <a:latin typeface="Comic Sans MS"/>
              </a:rPr>
              <a:t>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8"/>
          <p:cNvSpPr txBox="1"/>
          <p:nvPr/>
        </p:nvSpPr>
        <p:spPr>
          <a:xfrm>
            <a:off x="727200" y="479736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- 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WordArt 49"/>
          <p:cNvSpPr txBox="1"/>
          <p:nvPr/>
        </p:nvSpPr>
        <p:spPr>
          <a:xfrm>
            <a:off x="755640" y="5805360"/>
            <a:ext cx="3019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- 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AutoShape 52">
            <a:hlinkClick r:id="rId5" action="ppaction://hlinksldjump"/>
          </p:cNvPr>
          <p:cNvSpPr/>
          <p:nvPr/>
        </p:nvSpPr>
        <p:spPr>
          <a:xfrm>
            <a:off x="3780000" y="508464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3794"/>
                </a:moveTo>
                <a:lnTo>
                  <a:pt x="19623" y="10800"/>
                </a:lnTo>
                <a:lnTo>
                  <a:pt x="5610" y="17806"/>
                </a:lnTo>
                <a:close/>
              </a:path>
            </a:pathLst>
          </a:custGeom>
          <a:solidFill>
            <a:srgbClr val="b24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3">
            <a:hlinkClick r:id="rId6" action="ppaction://hlinksldjump"/>
          </p:cNvPr>
          <p:cNvSpPr/>
          <p:nvPr/>
        </p:nvSpPr>
        <p:spPr>
          <a:xfrm>
            <a:off x="3851280" y="602136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5663" y="3794"/>
                </a:moveTo>
                <a:lnTo>
                  <a:pt x="19676" y="10800"/>
                </a:lnTo>
                <a:lnTo>
                  <a:pt x="5663" y="17806"/>
                </a:lnTo>
                <a:close/>
              </a:path>
            </a:pathLst>
          </a:custGeom>
          <a:solidFill>
            <a:srgbClr val="b24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4">
            <a:hlinkClick r:id="rId7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2"/>
          <p:cNvSpPr/>
          <p:nvPr/>
        </p:nvSpPr>
        <p:spPr>
          <a:xfrm>
            <a:off x="4572000" y="292428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72000" y="342900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500040" y="1879560"/>
            <a:ext cx="428472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minta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lah sejumlah barang dan jasa yang diinginkan untuk dibeli atau dimiliki pada berbagai tingkat harga yang berlaku di pasar dan waktu tert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"/>
          <p:cNvPicPr/>
          <p:nvPr/>
        </p:nvPicPr>
        <p:blipFill>
          <a:blip r:embed="rId1"/>
          <a:stretch/>
        </p:blipFill>
        <p:spPr>
          <a:xfrm>
            <a:off x="5500800" y="1500120"/>
            <a:ext cx="3227400" cy="439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>
            <a:hlinkClick r:id="rId2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4572000" y="292428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342900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14200" y="2000160"/>
            <a:ext cx="4456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naw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lah sejumlah barang dan jasa yang disediakan untuk dijual p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bagai tingkat harga pada waktu dan tempat tert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7" descr=""/>
          <p:cNvPicPr/>
          <p:nvPr/>
        </p:nvPicPr>
        <p:blipFill>
          <a:blip r:embed="rId2"/>
          <a:stretch/>
        </p:blipFill>
        <p:spPr>
          <a:xfrm>
            <a:off x="4967280" y="1214280"/>
            <a:ext cx="417672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2"/>
          <p:cNvSpPr/>
          <p:nvPr/>
        </p:nvSpPr>
        <p:spPr>
          <a:xfrm>
            <a:off x="4140360" y="1428840"/>
            <a:ext cx="5003640" cy="367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0" y="2076480"/>
            <a:ext cx="3059280" cy="1584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ktor-faktor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pengaru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mi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0" y="286848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4356000" y="17319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ga barang itu send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ga barang substitu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komplem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dapatan masyara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sitas kebutu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tambahan pendud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ra (Tas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3132000" y="2147760"/>
            <a:ext cx="792360" cy="144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4"/>
          <p:cNvSpPr txBox="1"/>
          <p:nvPr/>
        </p:nvSpPr>
        <p:spPr>
          <a:xfrm>
            <a:off x="503280" y="43344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WordArt 26"/>
          <p:cNvSpPr txBox="1"/>
          <p:nvPr/>
        </p:nvSpPr>
        <p:spPr>
          <a:xfrm>
            <a:off x="428760" y="35712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9" name="Picture 29" descr=""/>
          <p:cNvPicPr/>
          <p:nvPr/>
        </p:nvPicPr>
        <p:blipFill>
          <a:blip r:embed="rId2"/>
          <a:stretch/>
        </p:blipFill>
        <p:spPr>
          <a:xfrm>
            <a:off x="0" y="3805200"/>
            <a:ext cx="37450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4211640" y="2428920"/>
            <a:ext cx="4392720" cy="244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2789280"/>
            <a:ext cx="3059280" cy="1584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ktor-faktor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pengaru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aw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572000" y="278928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427640" y="2789280"/>
            <a:ext cx="41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ga barang itu sendi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ik / Biaya produ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ga sumber produ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kiraan harga di   masa   yang akan dat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132000" y="2846520"/>
            <a:ext cx="792360" cy="1439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289080" y="28584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214200" y="214200"/>
            <a:ext cx="3140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2556000" y="404640"/>
            <a:ext cx="3019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oh Soa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11280" y="1125360"/>
            <a:ext cx="648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hatikan data berikut 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 Teknik produ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 Selera Kons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 Harga sumber produ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. Harga barang substitu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. Harga barang komplem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rdasarkan data diatas, yang termasuk faktor yang mempengaruhi permintaan adalah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>
            <a:hlinkClick r:id="rId1" action="ppaction://hlinksldjump"/>
          </p:cNvPr>
          <p:cNvSpPr/>
          <p:nvPr/>
        </p:nvSpPr>
        <p:spPr>
          <a:xfrm>
            <a:off x="755640" y="40924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755640" y="4581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98400" y="5089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.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684360" y="558972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84360" y="6075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. 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50:39Z</dcterms:created>
  <dc:creator>Mobile Computer</dc:creator>
  <dc:description/>
  <dc:language>en-US</dc:language>
  <cp:lastModifiedBy>Q-HP</cp:lastModifiedBy>
  <dcterms:modified xsi:type="dcterms:W3CDTF">2008-09-17T14:09:48Z</dcterms:modified>
  <cp:revision>24</cp:revision>
  <dc:subject/>
  <dc:title>Slide 1</dc:title>
</cp:coreProperties>
</file>