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10.gif" ContentType="image/gif"/>
  <Override PartName="/ppt/media/image6.jpeg" ContentType="image/jpeg"/>
  <Override PartName="/ppt/media/image7.jpeg" ContentType="image/jpeg"/>
  <Override PartName="/ppt/media/image11.gif" ContentType="image/gif"/>
  <Override PartName="/ppt/media/image12.gif" ContentType="image/gif"/>
  <Override PartName="/ppt/media/applaus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4D1-B291-49F4-AC3E-B669FE52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D24-65AB-42E8-8412-A48BE0F0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194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CB8-5CB6-4C71-89BC-717D48D0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437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068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437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3068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F79-F934-4411-895D-C72DEFBF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70C-0964-41D0-9BA6-99858C4D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255-DCC4-4EEE-8714-C1477570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EEA-CA4A-4D4D-BB67-083A3501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1E9-9713-48BB-BC1B-DBA08F22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12B-6C20-4018-9942-28BC7406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8CA-8993-46E4-9E18-C5B33AD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1944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F170-5169-4DA5-A6E9-B0615741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1944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338-89B8-49A1-9594-F56EB1B7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493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3493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6EF2-20AF-4DCC-9385-1BF844624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2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gif"/><Relationship Id="rId3" Type="http://schemas.openxmlformats.org/officeDocument/2006/relationships/slide" Target=""/><Relationship Id="rId4" Type="http://schemas.openxmlformats.org/officeDocument/2006/relationships/image" Target="../media/image5.gi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1"/>
          <p:cNvSpPr txBox="1"/>
          <p:nvPr/>
        </p:nvSpPr>
        <p:spPr>
          <a:xfrm>
            <a:off x="2916360" y="1700280"/>
            <a:ext cx="55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RMINTAA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AN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NAWARA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AutoShape 31">
            <a:hlinkClick r:id="" action="ppaction://hlinkshowjump?jump=nextslide"/>
          </p:cNvPr>
          <p:cNvSpPr/>
          <p:nvPr/>
        </p:nvSpPr>
        <p:spPr>
          <a:xfrm>
            <a:off x="500040" y="185724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9852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 / K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4">
            <a:hlinkClick r:id="rId2" action="ppaction://hlinksldjump"/>
          </p:cNvPr>
          <p:cNvSpPr/>
          <p:nvPr/>
        </p:nvSpPr>
        <p:spPr>
          <a:xfrm>
            <a:off x="515880" y="307188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9852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K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5">
            <a:hlinkClick r:id="rId4" action="ppaction://hlinksldjump"/>
          </p:cNvPr>
          <p:cNvSpPr/>
          <p:nvPr/>
        </p:nvSpPr>
        <p:spPr>
          <a:xfrm>
            <a:off x="515880" y="430056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9852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8">
            <a:hlinkClick r:id="rId6" action="ppaction://hlinksldjump"/>
          </p:cNvPr>
          <p:cNvSpPr/>
          <p:nvPr/>
        </p:nvSpPr>
        <p:spPr>
          <a:xfrm>
            <a:off x="514440" y="5280120"/>
            <a:ext cx="1746000" cy="720720"/>
          </a:xfrm>
          <a:custGeom>
            <a:avLst/>
            <a:gdLst>
              <a:gd name="textAreaLeft" fmla="*/ 46440 w 1746000"/>
              <a:gd name="textAreaRight" fmla="*/ 1699560 w 1746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312" h="21600">
                <a:moveTo>
                  <a:pt x="0" y="0"/>
                </a:moveTo>
                <a:lnTo>
                  <a:pt x="52312" y="0"/>
                </a:lnTo>
                <a:lnTo>
                  <a:pt x="52312" y="21600"/>
                </a:lnTo>
                <a:lnTo>
                  <a:pt x="0" y="21600"/>
                </a:lnTo>
                <a:close/>
              </a:path>
              <a:path fill="lightenLess" w="52312" h="21600">
                <a:moveTo>
                  <a:pt x="0" y="0"/>
                </a:moveTo>
                <a:lnTo>
                  <a:pt x="52312" y="0"/>
                </a:lnTo>
                <a:lnTo>
                  <a:pt x="50912" y="1400"/>
                </a:lnTo>
                <a:lnTo>
                  <a:pt x="1400" y="1400"/>
                </a:lnTo>
                <a:close/>
              </a:path>
              <a:path fill="darken" w="52312" h="21600">
                <a:moveTo>
                  <a:pt x="52312" y="0"/>
                </a:moveTo>
                <a:lnTo>
                  <a:pt x="52312" y="21600"/>
                </a:lnTo>
                <a:lnTo>
                  <a:pt x="50912" y="20200"/>
                </a:lnTo>
                <a:lnTo>
                  <a:pt x="50912" y="1400"/>
                </a:lnTo>
                <a:close/>
              </a:path>
              <a:path fill="darkenLess" w="52312" h="21600">
                <a:moveTo>
                  <a:pt x="52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12" y="20200"/>
                </a:lnTo>
                <a:close/>
              </a:path>
              <a:path fill="lighten" w="52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9852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OH S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5"/>
          <p:cNvSpPr txBox="1"/>
          <p:nvPr/>
        </p:nvSpPr>
        <p:spPr>
          <a:xfrm>
            <a:off x="239760" y="549360"/>
            <a:ext cx="453528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270b45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KONOMI KELAS 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270b45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4071960" y="5046840"/>
            <a:ext cx="25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e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wi Sulastri, S.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N I SEPA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GE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0"/>
          <p:cNvSpPr txBox="1"/>
          <p:nvPr/>
        </p:nvSpPr>
        <p:spPr>
          <a:xfrm>
            <a:off x="2916360" y="1700280"/>
            <a:ext cx="5543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4c4cc4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4c4cc4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4c4cc4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4c4cc4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4c4cc4"/>
                    </a:gs>
                    <a:gs pos="100000">
                      <a:srgbClr val="ffffff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4c4cc4"/>
                  </a:gs>
                  <a:gs pos="100000">
                    <a:srgbClr val="ffffff"/>
                  </a:gs>
                </a:gsLst>
                <a:lin ang="189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7915320" y="6286680"/>
            <a:ext cx="1228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ditor: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qbal Fauzi Rakhmat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ri Nur Mulyati</a:t>
            </a:r>
            <a:endParaRPr b="0" lang="en-US" sz="12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6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WordArt 4"/>
          <p:cNvGrpSpPr/>
          <p:nvPr/>
        </p:nvGrpSpPr>
        <p:grpSpPr>
          <a:xfrm>
            <a:off x="1901880" y="2127240"/>
            <a:ext cx="5310000" cy="658800"/>
            <a:chOff x="1901880" y="2127240"/>
            <a:chExt cx="5310000" cy="658800"/>
          </a:xfrm>
        </p:grpSpPr>
        <p:pic>
          <p:nvPicPr>
            <p:cNvPr id="107" name="WordArt 4" descr=""/>
            <p:cNvPicPr/>
            <p:nvPr/>
          </p:nvPicPr>
          <p:blipFill>
            <a:blip r:embed="rId1"/>
            <a:stretch/>
          </p:blipFill>
          <p:spPr>
            <a:xfrm>
              <a:off x="1901880" y="2127240"/>
              <a:ext cx="53100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908000" y="2133720"/>
              <a:ext cx="52959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d-ID" sz="3600" spc="-1" strike="noStrike">
                  <a:solidFill>
                    <a:srgbClr val="000000"/>
                  </a:solidFill>
                  <a:latin typeface="Arial Black"/>
                </a:rPr>
                <a:t>Jawaban Anda Salah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5" descr="1face"/>
          <p:cNvPicPr/>
          <p:nvPr/>
        </p:nvPicPr>
        <p:blipFill>
          <a:blip r:embed="rId2"/>
          <a:stretch/>
        </p:blipFill>
        <p:spPr>
          <a:xfrm>
            <a:off x="3059280" y="3429000"/>
            <a:ext cx="3095280" cy="1525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1116000" y="2637000"/>
            <a:ext cx="69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2843280" y="3105000"/>
            <a:ext cx="5295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0000">
                        <a:alpha val="50196"/>
                      </a:srgbClr>
                    </a:gs>
                    <a:gs pos="100000">
                      <a:srgbClr val="f6c9a4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Jawaban Anda Bena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0000">
                      <a:alpha val="50196"/>
                    </a:srgbClr>
                  </a:gs>
                  <a:gs pos="100000">
                    <a:srgbClr val="f6c9a4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2" name="Picture 10" descr="13543_0"/>
          <p:cNvPicPr/>
          <p:nvPr/>
        </p:nvPicPr>
        <p:blipFill>
          <a:blip r:embed="rId1"/>
          <a:stretch/>
        </p:blipFill>
        <p:spPr>
          <a:xfrm>
            <a:off x="0" y="0"/>
            <a:ext cx="176364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94798E-006 C 0.00383 -0.00763 0.00886 -0.0104 0.0132 -0.01734 C 0.0191 -0.02659 0.02292 -0.03792 0.02796 -0.04786 C 0.03178 -0.06404 0.04654 -0.0652 0.05747 -0.06751 C 0.07657 -0.08069 0.10018 -0.08439 0.12136 -0.08716 C 0.14914 -0.08647 0.17709 -0.08647 0.20487 -0.08508 C 0.22622 -0.08416 0.24011 -0.06266 0.25904 -0.05456 C 0.2665 -0.04462 0.27345 -0.03283 0.28369 -0.02821 C 0.28612 -0.01873 0.28942 -0.01133 0.29185 -0.00208 C 0.28733 0.03815 0.26563 0.06127 0.24098 0.08093 C 0.23699 0.08416 0.23386 0.08948 0.22952 0.09179 C 0.21928 0.09734 0.20851 0.10289 0.19845 0.10914 C 0.17674 0.12255 0.15574 0.1385 0.13438 0.15284 C 0.12466 0.15931 0.11459 0.16601 0.10487 0.17249 C 0.09358 0.18012 0.08265 0.19006 0.07049 0.19422 C 0.05956 0.20509 0.04636 0.21388 0.03438 0.22266 C 0.02397 0.23029 0.01164 0.23492 0.00174 0.24463 C -0.00017 0.24648 -0.00138 0.24925 -0.00329 0.2511 C -0.0177 0.26474 -0.00277 0.24578 -0.01475 0.26197 C -0.01388 0.26729 -0.01371 0.27561 -0.00989 0.27954 C -0.00381 0.28601 0.00539 0.28278 0.0132 0.28393 C 0.02327 0.28532 0.03421 0.28971 0.04428 0.29041 C 0.06338 0.29179 0.08265 0.29203 0.10174 0.29272 C 0.10487 0.29942 0.10626 0.30497 0.10817 0.31237 C 0.10869 0.31445 0.1099 0.31885 0.1099 0.31885 E">
                                      <p:cBhvr>
                                        <p:cTn id="348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Entertainment-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013360"/>
            <a:ext cx="1584360" cy="1523880"/>
          </a:xfrm>
          <a:prstGeom prst="rect">
            <a:avLst/>
          </a:prstGeom>
          <a:ln w="0">
            <a:noFill/>
          </a:ln>
        </p:spPr>
      </p:pic>
      <p:sp>
        <p:nvSpPr>
          <p:cNvPr id="114" name="WordArt 7"/>
          <p:cNvSpPr txBox="1"/>
          <p:nvPr/>
        </p:nvSpPr>
        <p:spPr>
          <a:xfrm>
            <a:off x="539640" y="0"/>
            <a:ext cx="5616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87000"/>
                  </a:srgbClr>
                </a:solidFill>
                <a:latin typeface="Times New Roman"/>
              </a:rPr>
              <a:t>See You 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87000"/>
                </a:srgbClr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87000"/>
                  </a:srgbClr>
                </a:solidFill>
                <a:latin typeface="Times New Roman"/>
              </a:rPr>
              <a:t>Next Time.....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87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54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56760" y="1428840"/>
            <a:ext cx="5761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36"/>
                </a:solidFill>
                <a:latin typeface="Comic Sans MS"/>
              </a:rPr>
              <a:t>STANDAR KOMPETEN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Memahami konsep ekonomi dalam kaitannya dengan permintaan, penawaran</a:t>
            </a:r>
            <a:r>
              <a:rPr b="1" lang="id-ID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rga keseimbangan</a:t>
            </a:r>
            <a:r>
              <a:rPr b="1" lang="id-ID" sz="2800" spc="-1" strike="noStrike">
                <a:solidFill>
                  <a:srgbClr val="ffffff"/>
                </a:solidFill>
                <a:latin typeface="Times New Roman"/>
              </a:rPr>
              <a:t> dan pas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34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gradFill rotWithShape="0">
            <a:gsLst>
              <a:gs pos="0">
                <a:srgbClr val="e97f27"/>
              </a:gs>
              <a:gs pos="100000">
                <a:srgbClr val="9852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35"/>
          <p:cNvSpPr txBox="1"/>
          <p:nvPr/>
        </p:nvSpPr>
        <p:spPr>
          <a:xfrm>
            <a:off x="468360" y="723960"/>
            <a:ext cx="43909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270b45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270b45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Text Box 37"/>
          <p:cNvSpPr/>
          <p:nvPr/>
        </p:nvSpPr>
        <p:spPr>
          <a:xfrm>
            <a:off x="428760" y="4000680"/>
            <a:ext cx="590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836"/>
                </a:solidFill>
                <a:latin typeface="Comic Sans MS"/>
              </a:rPr>
              <a:t>KOMPETENSI DAS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1.Mengidentifikasi faktor-fak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ang mempengaruhi perminta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 penawa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4"/>
          <p:cNvSpPr/>
          <p:nvPr/>
        </p:nvSpPr>
        <p:spPr>
          <a:xfrm>
            <a:off x="539640" y="2637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80836"/>
                </a:solidFill>
                <a:latin typeface="Arial"/>
              </a:rPr>
              <a:t>Mendeskripsikan pengertian permintaan dan penaw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6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gradFill rotWithShape="0">
            <a:gsLst>
              <a:gs pos="0">
                <a:srgbClr val="e97f27"/>
              </a:gs>
              <a:gs pos="100000">
                <a:srgbClr val="9852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28"/>
          <p:cNvSpPr txBox="1"/>
          <p:nvPr/>
        </p:nvSpPr>
        <p:spPr>
          <a:xfrm>
            <a:off x="324000" y="836640"/>
            <a:ext cx="4535280" cy="4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270b45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KONOMI KELAS 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270b45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1258920" y="407664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80836"/>
                </a:solidFill>
                <a:latin typeface="Arial"/>
              </a:rPr>
              <a:t>Mengidentifikasi faktor-faktor yang mempengaruhi permintaan dan penaw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124000" y="1916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836"/>
                </a:solidFill>
                <a:latin typeface="Comic Sans MS"/>
              </a:rPr>
              <a:t>INDIK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8"/>
          <p:cNvSpPr txBox="1"/>
          <p:nvPr/>
        </p:nvSpPr>
        <p:spPr>
          <a:xfrm>
            <a:off x="468360" y="141300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RMINTAAN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0" name="Picture 30" descr="1-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995640" y="1268280"/>
            <a:ext cx="647640" cy="863640"/>
          </a:xfrm>
          <a:prstGeom prst="rect">
            <a:avLst/>
          </a:prstGeom>
          <a:ln w="0">
            <a:noFill/>
          </a:ln>
        </p:spPr>
      </p:pic>
      <p:sp>
        <p:nvSpPr>
          <p:cNvPr id="61" name="WordArt 33"/>
          <p:cNvSpPr txBox="1"/>
          <p:nvPr/>
        </p:nvSpPr>
        <p:spPr>
          <a:xfrm>
            <a:off x="395280" y="2421000"/>
            <a:ext cx="3019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NAWARA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2" name="Picture 34" descr="1-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140360" y="2319480"/>
            <a:ext cx="647640" cy="90324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36"/>
          <p:cNvSpPr/>
          <p:nvPr/>
        </p:nvSpPr>
        <p:spPr>
          <a:xfrm>
            <a:off x="4643280" y="765000"/>
            <a:ext cx="1944720" cy="792360"/>
          </a:xfrm>
          <a:prstGeom prst="cloudCallout">
            <a:avLst>
              <a:gd name="adj1" fmla="val -53347"/>
              <a:gd name="adj2" fmla="val 429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ik Di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7"/>
          <p:cNvSpPr/>
          <p:nvPr/>
        </p:nvSpPr>
        <p:spPr>
          <a:xfrm>
            <a:off x="4859280" y="1628640"/>
            <a:ext cx="2017800" cy="720720"/>
          </a:xfrm>
          <a:prstGeom prst="cloudCallout">
            <a:avLst>
              <a:gd name="adj1" fmla="val -50944"/>
              <a:gd name="adj2" fmla="val 116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lik Dis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0"/>
          <p:cNvSpPr/>
          <p:nvPr/>
        </p:nvSpPr>
        <p:spPr>
          <a:xfrm>
            <a:off x="501480" y="35020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0836"/>
                </a:solidFill>
                <a:latin typeface="Comic Sans MS"/>
              </a:rPr>
              <a:t>FAKTOR-FAKTOR YANG MEMPENGARUHI</a:t>
            </a:r>
            <a:r>
              <a:rPr b="0" lang="en-US" sz="3600" spc="-1" strike="noStrike">
                <a:solidFill>
                  <a:srgbClr val="280836"/>
                </a:solidFill>
                <a:latin typeface="Comic Sans MS"/>
              </a:rPr>
              <a:t> 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48"/>
          <p:cNvSpPr txBox="1"/>
          <p:nvPr/>
        </p:nvSpPr>
        <p:spPr>
          <a:xfrm>
            <a:off x="727200" y="479736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- PERMINTAAN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WordArt 49"/>
          <p:cNvSpPr txBox="1"/>
          <p:nvPr/>
        </p:nvSpPr>
        <p:spPr>
          <a:xfrm>
            <a:off x="755640" y="5805360"/>
            <a:ext cx="3019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- PENAWARA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" name="AutoShape 52">
            <a:hlinkClick r:id="rId5" action="ppaction://hlinksldjump"/>
          </p:cNvPr>
          <p:cNvSpPr/>
          <p:nvPr/>
        </p:nvSpPr>
        <p:spPr>
          <a:xfrm>
            <a:off x="3780000" y="508464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3794"/>
                </a:moveTo>
                <a:lnTo>
                  <a:pt x="19623" y="10800"/>
                </a:lnTo>
                <a:lnTo>
                  <a:pt x="5610" y="17806"/>
                </a:lnTo>
                <a:close/>
              </a:path>
            </a:pathLst>
          </a:custGeom>
          <a:solidFill>
            <a:srgbClr val="b24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3">
            <a:hlinkClick r:id="rId6" action="ppaction://hlinksldjump"/>
          </p:cNvPr>
          <p:cNvSpPr/>
          <p:nvPr/>
        </p:nvSpPr>
        <p:spPr>
          <a:xfrm>
            <a:off x="3851280" y="602136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5663" y="3794"/>
                </a:moveTo>
                <a:lnTo>
                  <a:pt x="19676" y="10800"/>
                </a:lnTo>
                <a:lnTo>
                  <a:pt x="5663" y="17806"/>
                </a:lnTo>
                <a:close/>
              </a:path>
            </a:pathLst>
          </a:custGeom>
          <a:solidFill>
            <a:srgbClr val="b24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4">
            <a:hlinkClick r:id="rId7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2"/>
          <p:cNvSpPr/>
          <p:nvPr/>
        </p:nvSpPr>
        <p:spPr>
          <a:xfrm>
            <a:off x="4572000" y="292428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572000" y="342900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500040" y="1879560"/>
            <a:ext cx="428472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minta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lah sejumlah barang dan jasa yang diinginkan untuk dibeli atau dimiliki pada berbagai tingkat harga yang berlaku di pasar dan waktu terte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" descr=""/>
          <p:cNvPicPr/>
          <p:nvPr/>
        </p:nvPicPr>
        <p:blipFill>
          <a:blip r:embed="rId1"/>
          <a:stretch/>
        </p:blipFill>
        <p:spPr>
          <a:xfrm>
            <a:off x="5500800" y="1500120"/>
            <a:ext cx="3227400" cy="4392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>
            <a:hlinkClick r:id="rId2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4572000" y="2924280"/>
            <a:ext cx="374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0" y="342900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14200" y="2000160"/>
            <a:ext cx="4456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nawa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lah sejumlah barang dan jasa yang disediakan untuk dijual p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bagai tingkat harga pada waktu dan tempat terten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6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7" descr=""/>
          <p:cNvPicPr/>
          <p:nvPr/>
        </p:nvPicPr>
        <p:blipFill>
          <a:blip r:embed="rId2"/>
          <a:stretch/>
        </p:blipFill>
        <p:spPr>
          <a:xfrm>
            <a:off x="4967280" y="1214280"/>
            <a:ext cx="417672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22"/>
          <p:cNvSpPr/>
          <p:nvPr/>
        </p:nvSpPr>
        <p:spPr>
          <a:xfrm>
            <a:off x="4140360" y="1428840"/>
            <a:ext cx="5003640" cy="367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9"/>
          <p:cNvSpPr/>
          <p:nvPr/>
        </p:nvSpPr>
        <p:spPr>
          <a:xfrm>
            <a:off x="0" y="2076480"/>
            <a:ext cx="3059280" cy="1584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ktor-faktor y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pengaru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min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4572000" y="286848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4356000" y="173196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ga barang itu send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ga barang substitu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n komplem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dapatan masyara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sitas kebutu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tambahan pendud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ra (Tas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3"/>
          <p:cNvSpPr/>
          <p:nvPr/>
        </p:nvSpPr>
        <p:spPr>
          <a:xfrm>
            <a:off x="3132000" y="2147760"/>
            <a:ext cx="792360" cy="144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4"/>
          <p:cNvSpPr txBox="1"/>
          <p:nvPr/>
        </p:nvSpPr>
        <p:spPr>
          <a:xfrm>
            <a:off x="503280" y="43344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RMINTAAN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8" name="WordArt 26"/>
          <p:cNvSpPr txBox="1"/>
          <p:nvPr/>
        </p:nvSpPr>
        <p:spPr>
          <a:xfrm>
            <a:off x="428760" y="35712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RMINTAAN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9" name="Picture 29" descr=""/>
          <p:cNvPicPr/>
          <p:nvPr/>
        </p:nvPicPr>
        <p:blipFill>
          <a:blip r:embed="rId2"/>
          <a:stretch/>
        </p:blipFill>
        <p:spPr>
          <a:xfrm>
            <a:off x="0" y="3805200"/>
            <a:ext cx="374508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4211640" y="2428920"/>
            <a:ext cx="4392720" cy="244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2789280"/>
            <a:ext cx="3059280" cy="1584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ktor-faktor y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pengaru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aw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572000" y="278928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4427640" y="2789280"/>
            <a:ext cx="410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ga barang itu sendi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ik / Biaya produ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ga sumber produk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kiraan harga di   masa   yang akan dat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3132000" y="2846520"/>
            <a:ext cx="792360" cy="14396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9"/>
          <p:cNvSpPr txBox="1"/>
          <p:nvPr/>
        </p:nvSpPr>
        <p:spPr>
          <a:xfrm>
            <a:off x="289080" y="285840"/>
            <a:ext cx="31399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NAWARA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7" name="WordArt 10"/>
          <p:cNvSpPr txBox="1"/>
          <p:nvPr/>
        </p:nvSpPr>
        <p:spPr>
          <a:xfrm>
            <a:off x="214200" y="214200"/>
            <a:ext cx="314028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PENAWARAN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zoom dir="ou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2556000" y="404640"/>
            <a:ext cx="3019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ntoh Soa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611280" y="1125360"/>
            <a:ext cx="6481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rhatikan data berikut i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 Teknik produ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 Selera Kons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 Harga sumber produ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. Harga barang substitu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. Harga barang komplem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erdasarkan data diatas, yang termasuk faktor yang mempengaruhi permintaan adalah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>
            <a:hlinkClick r:id="rId1" action="ppaction://hlinksldjump"/>
          </p:cNvPr>
          <p:cNvSpPr/>
          <p:nvPr/>
        </p:nvSpPr>
        <p:spPr>
          <a:xfrm>
            <a:off x="755640" y="40924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. 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755640" y="4581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98400" y="50896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. 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684360" y="558972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.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84360" y="607536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. 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"/>
          <p:cNvSpPr/>
          <p:nvPr/>
        </p:nvSpPr>
        <p:spPr>
          <a:xfrm>
            <a:off x="8567640" y="6426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14418" y="3837"/>
                </a:moveTo>
                <a:lnTo>
                  <a:pt x="16994" y="6448"/>
                </a:ln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lnTo>
                  <a:pt x="21381" y="10800"/>
                </a:lnTo>
                <a:lnTo>
                  <a:pt x="19727" y="10800"/>
                </a:lnTo>
                <a:lnTo>
                  <a:pt x="19727" y="17989"/>
                </a:lnTo>
                <a:lnTo>
                  <a:pt x="9109" y="17989"/>
                </a:lnTo>
                <a:lnTo>
                  <a:pt x="9109" y="10800"/>
                </a:lnTo>
                <a:lnTo>
                  <a:pt x="7455" y="10800"/>
                </a:lnTo>
                <a:close/>
              </a:path>
              <a:path fill="darkenLess" w="28836" h="21600">
                <a:moveTo>
                  <a:pt x="16994" y="6448"/>
                </a:moveTo>
                <a:lnTo>
                  <a:pt x="16994" y="4707"/>
                </a:lnTo>
                <a:lnTo>
                  <a:pt x="18770" y="4707"/>
                </a:lnTo>
                <a:lnTo>
                  <a:pt x="18770" y="8224"/>
                </a:lnTo>
                <a:close/>
              </a:path>
              <a:path fill="darkenLess" w="28836" h="21600">
                <a:moveTo>
                  <a:pt x="13495" y="14299"/>
                </a:moveTo>
                <a:lnTo>
                  <a:pt x="15341" y="14299"/>
                </a:lnTo>
                <a:lnTo>
                  <a:pt x="15341" y="17989"/>
                </a:lnTo>
                <a:lnTo>
                  <a:pt x="19727" y="17989"/>
                </a:lnTo>
                <a:lnTo>
                  <a:pt x="19727" y="10800"/>
                </a:lnTo>
                <a:lnTo>
                  <a:pt x="9109" y="10800"/>
                </a:lnTo>
                <a:lnTo>
                  <a:pt x="9109" y="17989"/>
                </a:lnTo>
                <a:lnTo>
                  <a:pt x="13495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50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1:50:39Z</dcterms:created>
  <dc:creator>Mobile Computer</dc:creator>
  <dc:description/>
  <dc:language>en-US</dc:language>
  <cp:lastModifiedBy>Q-HP</cp:lastModifiedBy>
  <dcterms:modified xsi:type="dcterms:W3CDTF">2008-09-17T14:09:48Z</dcterms:modified>
  <cp:revision>24</cp:revision>
  <dc:subject/>
  <dc:title>Slide 1</dc:title>
</cp:coreProperties>
</file>