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907588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F3C-5641-4E32-BDCA-BC4B0AD6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8F6-2281-4594-80A0-3558999F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DDD85-F329-4552-AEF9-E0B482C1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62733-18ED-4257-BB7A-FFD52710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F6DDF-A5B2-4697-8BCC-585A8984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71267-63DA-43B4-9C56-4A9AF559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A1248-2BF1-468B-93DD-2CA2E4AE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EB653-4748-453A-83E7-80E524A5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8FFD2-144F-4FA4-BD97-CC256F08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B84A5-EFA0-45DD-85E5-E6DEA1E2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AD4BB-D733-4496-AB07-813ED064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E64-1B6E-42E8-8197-545BADFC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1E6D-FC88-4630-8048-680A6073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E5F2-79E4-45F8-981C-F82CF78A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67BF-3BBD-4C41-BE9A-A6A4C8EC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1F81-6F5E-4EB3-A36C-F0B306A2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78BC-00FF-439E-B39B-ACF63F51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5604-0E23-487D-99C0-A13CE4AD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9F07-CE19-4AA6-B9A6-BBBF4BC4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23C0-B48B-434F-A00C-A1643394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68D-9449-4EAD-93C2-C291B817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E4DB-23F6-4052-960C-295730F4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A1DB-1A1C-4B88-AEDC-97D3DAC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27A7-74BA-449C-ACB2-12925947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6356-0851-46BE-8A29-F8594A2D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7217-088F-4832-A7B1-A77D1228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8F9F3-F998-4BDA-B0DD-5023B7F4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833AC-C788-4A54-BE9B-12CF7CA2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6DCFD-67AB-4F0A-A0AD-0B85E4B6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A0B77-4261-45F4-A995-BB7B1F42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62F3E-4301-4034-948A-8EE746EF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094-724F-4D41-8FF8-0F1508D8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65240-2C45-4D2D-B1FE-E31E4BE0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18C7F-F1C1-47B0-AAF2-34B40B4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0C2B-A4A9-4155-9363-4C1D7A5A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610B-B812-44F0-9635-ABAFD1D1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5EECC-7D3F-4613-8BC4-B4849074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86C3B-973D-4AE6-BFC6-F5520D6A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9E8C-68C1-43FA-A90D-04F1586F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ABAFC-2DF5-4271-8677-A872BF2F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41E5-2C4D-4940-A155-E693CC22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B2A5-2162-4B5D-A267-54491CF2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727-F01D-4234-8C7C-FD9594F9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F685B-9FDD-4F65-9CDC-0411FAE9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C464-F05E-4903-9139-A2402A68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7990E-6001-4989-852E-2666360C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AD84-1A6D-43E4-99C8-3FCB2785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27021-A0BB-4C28-8353-351F811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032A3-CFAF-46AA-B0A3-78E7E90D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357B7-E57C-48D9-840A-15E801A2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48D46-A2F7-4F92-A4BF-5D16BDDB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0AB3-42D8-4DC8-9798-46FB193E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8A740-E74A-460A-95FE-58157D0F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6B4-61DC-4FDC-9EA3-6C153F77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52FE2-B0C8-4643-87CB-324F512B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435BE-CC66-4455-BC83-4BA5AC24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68EFD-DF68-44D5-B79B-982A8B4C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8D9F-2594-4C60-9DDE-DF0BDE3F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180F5-FE05-4827-A474-491937CD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82B39-C729-4FB1-821D-C1CA07F4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CADC6-817B-47E0-9F93-C9905CE3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2F49-FE46-456B-B954-EB099033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5840D-8C02-4048-9039-2E5F0C50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B969F-C7D5-4E9B-9878-7AEE7224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A09-1D71-45CF-9CA9-CFA2FCAF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B460D-06C4-4E41-B248-B73C5A57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E5B4E-ECFA-4736-B892-963FD572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2F92-232E-4767-89AA-DF8081DE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51008-5468-4BF5-B095-9F7EEF9F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17347-9DF2-492B-A248-1E45A483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9E24E-124A-4A6B-9F98-AB551A38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47CE7-D419-40DE-903D-8B23DEA4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A63F7-F18E-4225-93A4-57F6091F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EA41D-11C7-4079-955B-38DA67F5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86613-9A70-477D-9CF9-D4B0B07E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C256-9C3F-4B51-802D-C7CBF03D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6F4D9-F4D2-47D1-84C6-AEEE352D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4A802-B16A-445C-94E5-66AD6F2A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6EE71-8B87-4F0B-809E-6587FCB5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E9A43-571F-4BFD-B487-7CD113DC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C20BC-26D4-4A18-B922-197A13AF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4DF0A-537D-4270-8508-9E1CB10E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7DA2-D120-49CB-904F-BFAD50C4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A6C8-3548-4AC1-9F56-F798369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600EA-B4F2-4A20-A207-5132F545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7EFD6-2960-4185-B617-09AF69BD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E871-A608-4E69-B0E6-1461CEBC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C05BB-4328-4585-A4B2-327F4AD8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4C0A7-A231-4DC0-AF71-3C8213F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FCD66-EB1D-48E4-B567-887B63AB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35ACC-9635-49AD-9B9A-1CCA354D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5C8E-9BA1-4F76-B61E-C3475D8F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411C7-D5A1-4AAA-9457-E39E9245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A2FED-75E1-479B-93DF-BDCD31D5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E3E3D-AFC2-4DB1-8A19-99C226D4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F60FD-8750-4C9C-AF4F-BB9C2FA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CCBDE-9A57-43E6-949B-B403F708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DC7-C3A1-48F7-BA93-49F08E89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C640B-CD6F-49AF-BD11-871D2A2F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2DB20-19F5-479F-9F21-72E502CE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A27BF-E692-452A-A9A9-388DB2E8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7502F-25E3-4019-8936-4478B1C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86749-66AF-44ED-AA7B-97638C7E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1997C-C441-47FC-BCF4-A43A694D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9233E-DC99-4643-99CE-85800945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686A4-1575-46D4-80BA-638260E2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D9398-433D-468F-AEF6-0575D111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58BC7-AF0A-400E-8F5A-42C1671E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6880" y="228240"/>
            <a:ext cx="9218880" cy="1327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5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6880" y="1676160"/>
            <a:ext cx="9252000" cy="4422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777960" indent="-29844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2" marL="1197000" indent="-23832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3" marL="1676520" indent="-239760">
              <a:spcBef>
                <a:spcPts val="825"/>
              </a:spcBef>
              <a:buClr>
                <a:srgbClr val="ffffff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4" marL="2155680" indent="-23940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5" marL="2155680" indent="-2394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6" marL="2155680" indent="-239400">
              <a:spcBef>
                <a:spcPts val="8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31560" y="6244920"/>
            <a:ext cx="247644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400" y="6244920"/>
            <a:ext cx="247644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1722-0B74-439B-9FAD-B296ADA1DE7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118040" y="1789200"/>
            <a:ext cx="5784480" cy="5056200"/>
            <a:chOff x="4118040" y="1789200"/>
            <a:chExt cx="5784480" cy="5056200"/>
          </a:xfrm>
        </p:grpSpPr>
        <p:sp>
          <p:nvSpPr>
            <p:cNvPr id="42" name="Rectangle 3"/>
            <p:cNvSpPr/>
            <p:nvPr/>
          </p:nvSpPr>
          <p:spPr>
            <a:xfrm>
              <a:off x="7274880" y="2166840"/>
              <a:ext cx="33876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"/>
            <p:cNvSpPr/>
            <p:nvPr/>
          </p:nvSpPr>
          <p:spPr>
            <a:xfrm>
              <a:off x="7393680" y="1881360"/>
              <a:ext cx="788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 rot="994800">
              <a:off x="8951760" y="2373120"/>
              <a:ext cx="1008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377560" y="5568840"/>
              <a:ext cx="1134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 rot="91200">
              <a:off x="9436680" y="2436480"/>
              <a:ext cx="1044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 rot="20673600">
              <a:off x="9699480" y="2414520"/>
              <a:ext cx="1008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 rot="20459400">
              <a:off x="5923440" y="2882520"/>
              <a:ext cx="1044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rot="1114200">
              <a:off x="4742280" y="2890800"/>
              <a:ext cx="1008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rot="254400">
              <a:off x="5220360" y="2968200"/>
              <a:ext cx="1008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891840" y="4795920"/>
              <a:ext cx="1071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8190000" y="5700600"/>
              <a:ext cx="17125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8231400" y="5786280"/>
              <a:ext cx="167112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262000" y="5700600"/>
              <a:ext cx="1640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5261400" y="2446200"/>
              <a:ext cx="17532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5261400" y="2682720"/>
              <a:ext cx="1548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5261400" y="2806560"/>
              <a:ext cx="15480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9407520" y="1913040"/>
              <a:ext cx="1753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9417960" y="2141640"/>
              <a:ext cx="1440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407520" y="2274840"/>
              <a:ext cx="15480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9335160" y="5595840"/>
              <a:ext cx="1134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189040" y="1789200"/>
              <a:ext cx="44762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5046480" y="5989680"/>
              <a:ext cx="1443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6499440" y="6146640"/>
              <a:ext cx="15480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4128120" y="6146640"/>
              <a:ext cx="12384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4203720" y="6093000"/>
              <a:ext cx="237312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4118040" y="6086520"/>
              <a:ext cx="258264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4198680" y="6127920"/>
              <a:ext cx="245052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6437880" y="6013440"/>
              <a:ext cx="15408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9325080" y="5719680"/>
              <a:ext cx="12348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32"/>
            <p:cNvSpPr/>
            <p:nvPr/>
          </p:nvSpPr>
          <p:spPr>
            <a:xfrm>
              <a:off x="7288560" y="2814480"/>
              <a:ext cx="29916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33"/>
            <p:cNvSpPr/>
            <p:nvPr/>
          </p:nvSpPr>
          <p:spPr>
            <a:xfrm>
              <a:off x="7374960" y="2452680"/>
              <a:ext cx="13032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AutoShape 34"/>
            <p:cNvSpPr/>
            <p:nvPr/>
          </p:nvSpPr>
          <p:spPr>
            <a:xfrm>
              <a:off x="7257960" y="2766960"/>
              <a:ext cx="352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7405560" y="2427120"/>
              <a:ext cx="43344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0120" y="2255760"/>
              <a:ext cx="54504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95360" y="627840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384360" y="62784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9884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4176-9C2A-4BAE-B20B-D53B6F1C75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0"/>
            <a:ext cx="7845120" cy="1981080"/>
            <a:chOff x="0" y="0"/>
            <a:chExt cx="7845120" cy="1981080"/>
          </a:xfrm>
        </p:grpSpPr>
        <p:sp>
          <p:nvSpPr>
            <p:cNvPr id="118" name="Freeform 3"/>
            <p:cNvSpPr/>
            <p:nvPr/>
          </p:nvSpPr>
          <p:spPr>
            <a:xfrm>
              <a:off x="0" y="925560"/>
              <a:ext cx="771624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0" y="0"/>
              <a:ext cx="7845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6536-3BF5-4583-BD75-76411FF06A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6800040" y="-24120"/>
            <a:ext cx="3105720" cy="3278160"/>
            <a:chOff x="6800040" y="-24120"/>
            <a:chExt cx="3105720" cy="3278160"/>
          </a:xfrm>
        </p:grpSpPr>
        <p:grpSp>
          <p:nvGrpSpPr>
            <p:cNvPr id="162" name="Group 3"/>
            <p:cNvGrpSpPr/>
            <p:nvPr/>
          </p:nvGrpSpPr>
          <p:grpSpPr>
            <a:xfrm>
              <a:off x="8197920" y="2500200"/>
              <a:ext cx="1088640" cy="753840"/>
              <a:chOff x="8197920" y="2500200"/>
              <a:chExt cx="1088640" cy="753840"/>
            </a:xfrm>
          </p:grpSpPr>
          <p:sp>
            <p:nvSpPr>
              <p:cNvPr id="163" name="Oval 4"/>
              <p:cNvSpPr/>
              <p:nvPr/>
            </p:nvSpPr>
            <p:spPr>
              <a:xfrm>
                <a:off x="8197920" y="250020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Oval 5"/>
              <p:cNvSpPr/>
              <p:nvPr/>
            </p:nvSpPr>
            <p:spPr>
              <a:xfrm>
                <a:off x="8590320" y="2829600"/>
                <a:ext cx="2620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6"/>
            <p:cNvGrpSpPr/>
            <p:nvPr/>
          </p:nvGrpSpPr>
          <p:grpSpPr>
            <a:xfrm>
              <a:off x="8448480" y="1443600"/>
              <a:ext cx="1088640" cy="753840"/>
              <a:chOff x="8448480" y="1443600"/>
              <a:chExt cx="1088640" cy="753840"/>
            </a:xfrm>
          </p:grpSpPr>
          <p:sp>
            <p:nvSpPr>
              <p:cNvPr id="166" name="Oval 7"/>
              <p:cNvSpPr/>
              <p:nvPr/>
            </p:nvSpPr>
            <p:spPr>
              <a:xfrm>
                <a:off x="8448480" y="144360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Oval 8"/>
              <p:cNvSpPr/>
              <p:nvPr/>
            </p:nvSpPr>
            <p:spPr>
              <a:xfrm>
                <a:off x="8840880" y="1773360"/>
                <a:ext cx="26208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9"/>
            <p:cNvGrpSpPr/>
            <p:nvPr/>
          </p:nvGrpSpPr>
          <p:grpSpPr>
            <a:xfrm>
              <a:off x="6856560" y="0"/>
              <a:ext cx="1088640" cy="753840"/>
              <a:chOff x="6856560" y="0"/>
              <a:chExt cx="1088640" cy="753840"/>
            </a:xfrm>
          </p:grpSpPr>
          <p:sp>
            <p:nvSpPr>
              <p:cNvPr id="169" name="Oval 10"/>
              <p:cNvSpPr/>
              <p:nvPr/>
            </p:nvSpPr>
            <p:spPr>
              <a:xfrm>
                <a:off x="6856560" y="0"/>
                <a:ext cx="108864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11"/>
              <p:cNvSpPr/>
              <p:nvPr/>
            </p:nvSpPr>
            <p:spPr>
              <a:xfrm>
                <a:off x="7248960" y="329400"/>
                <a:ext cx="2620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12"/>
            <p:cNvGrpSpPr/>
            <p:nvPr/>
          </p:nvGrpSpPr>
          <p:grpSpPr>
            <a:xfrm>
              <a:off x="6800040" y="-24120"/>
              <a:ext cx="3105720" cy="2274120"/>
              <a:chOff x="6800040" y="-24120"/>
              <a:chExt cx="3105720" cy="2274120"/>
            </a:xfrm>
          </p:grpSpPr>
          <p:grpSp>
            <p:nvGrpSpPr>
              <p:cNvPr id="172" name="Group 13"/>
              <p:cNvGrpSpPr/>
              <p:nvPr/>
            </p:nvGrpSpPr>
            <p:grpSpPr>
              <a:xfrm>
                <a:off x="7573680" y="402840"/>
                <a:ext cx="1623600" cy="1104480"/>
                <a:chOff x="7573680" y="402840"/>
                <a:chExt cx="1623600" cy="1104480"/>
              </a:xfrm>
            </p:grpSpPr>
            <p:sp>
              <p:nvSpPr>
                <p:cNvPr id="173" name="Oval 14"/>
                <p:cNvSpPr/>
                <p:nvPr/>
              </p:nvSpPr>
              <p:spPr>
                <a:xfrm>
                  <a:off x="7573680" y="402840"/>
                  <a:ext cx="162360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Oval 15"/>
                <p:cNvSpPr/>
                <p:nvPr/>
              </p:nvSpPr>
              <p:spPr>
                <a:xfrm>
                  <a:off x="8193600" y="807120"/>
                  <a:ext cx="32220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16"/>
              <p:cNvGrpSpPr/>
              <p:nvPr/>
            </p:nvGrpSpPr>
            <p:grpSpPr>
              <a:xfrm>
                <a:off x="6800040" y="-24120"/>
                <a:ext cx="3099240" cy="2274120"/>
                <a:chOff x="6800040" y="-24120"/>
                <a:chExt cx="3099240" cy="2274120"/>
              </a:xfrm>
            </p:grpSpPr>
            <p:grpSp>
              <p:nvGrpSpPr>
                <p:cNvPr id="176" name="Group 17"/>
                <p:cNvGrpSpPr/>
                <p:nvPr/>
              </p:nvGrpSpPr>
              <p:grpSpPr>
                <a:xfrm>
                  <a:off x="8513640" y="838440"/>
                  <a:ext cx="1112760" cy="1152720"/>
                  <a:chOff x="8513640" y="838440"/>
                  <a:chExt cx="1112760" cy="1152720"/>
                </a:xfrm>
              </p:grpSpPr>
              <p:sp>
                <p:nvSpPr>
                  <p:cNvPr id="177" name="Freeform 18"/>
                  <p:cNvSpPr/>
                  <p:nvPr/>
                </p:nvSpPr>
                <p:spPr>
                  <a:xfrm rot="2711400">
                    <a:off x="8444160" y="1126080"/>
                    <a:ext cx="8834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9"/>
                  <p:cNvSpPr/>
                  <p:nvPr/>
                </p:nvSpPr>
                <p:spPr>
                  <a:xfrm rot="2711400">
                    <a:off x="9124920" y="1590840"/>
                    <a:ext cx="475200" cy="271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20"/>
                <p:cNvGrpSpPr/>
                <p:nvPr/>
              </p:nvGrpSpPr>
              <p:grpSpPr>
                <a:xfrm>
                  <a:off x="8502840" y="748440"/>
                  <a:ext cx="1360080" cy="1086840"/>
                  <a:chOff x="8502840" y="748440"/>
                  <a:chExt cx="1360080" cy="1086840"/>
                </a:xfrm>
              </p:grpSpPr>
              <p:sp>
                <p:nvSpPr>
                  <p:cNvPr id="180" name="Freeform 21"/>
                  <p:cNvSpPr/>
                  <p:nvPr/>
                </p:nvSpPr>
                <p:spPr>
                  <a:xfrm rot="2103600">
                    <a:off x="8462160" y="1022040"/>
                    <a:ext cx="100908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22"/>
                  <p:cNvSpPr/>
                  <p:nvPr/>
                </p:nvSpPr>
                <p:spPr>
                  <a:xfrm rot="2103600">
                    <a:off x="9290520" y="1425600"/>
                    <a:ext cx="54108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23"/>
                <p:cNvGrpSpPr/>
                <p:nvPr/>
              </p:nvGrpSpPr>
              <p:grpSpPr>
                <a:xfrm>
                  <a:off x="8496720" y="718920"/>
                  <a:ext cx="1387800" cy="854280"/>
                  <a:chOff x="8496720" y="718920"/>
                  <a:chExt cx="1387800" cy="854280"/>
                </a:xfrm>
              </p:grpSpPr>
              <p:sp>
                <p:nvSpPr>
                  <p:cNvPr id="183" name="Freeform 24"/>
                  <p:cNvSpPr/>
                  <p:nvPr/>
                </p:nvSpPr>
                <p:spPr>
                  <a:xfrm rot="1582800">
                    <a:off x="8480880" y="925200"/>
                    <a:ext cx="9655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25"/>
                  <p:cNvSpPr/>
                  <p:nvPr/>
                </p:nvSpPr>
                <p:spPr>
                  <a:xfrm rot="1582800">
                    <a:off x="9339840" y="1226160"/>
                    <a:ext cx="517320" cy="244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26"/>
                <p:cNvGrpSpPr/>
                <p:nvPr/>
              </p:nvGrpSpPr>
              <p:grpSpPr>
                <a:xfrm>
                  <a:off x="8493120" y="684720"/>
                  <a:ext cx="1406160" cy="686520"/>
                  <a:chOff x="8493120" y="684720"/>
                  <a:chExt cx="1406160" cy="686520"/>
                </a:xfrm>
              </p:grpSpPr>
              <p:sp>
                <p:nvSpPr>
                  <p:cNvPr id="186" name="Freeform 27"/>
                  <p:cNvSpPr/>
                  <p:nvPr/>
                </p:nvSpPr>
                <p:spPr>
                  <a:xfrm rot="1080000">
                    <a:off x="8496720" y="824040"/>
                    <a:ext cx="93096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28"/>
                  <p:cNvSpPr/>
                  <p:nvPr/>
                </p:nvSpPr>
                <p:spPr>
                  <a:xfrm rot="1080000">
                    <a:off x="9368640" y="1030680"/>
                    <a:ext cx="50112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29"/>
                <p:cNvGrpSpPr/>
                <p:nvPr/>
              </p:nvGrpSpPr>
              <p:grpSpPr>
                <a:xfrm>
                  <a:off x="8508240" y="653400"/>
                  <a:ext cx="1323000" cy="424440"/>
                  <a:chOff x="8508240" y="653400"/>
                  <a:chExt cx="1323000" cy="424440"/>
                </a:xfrm>
              </p:grpSpPr>
              <p:sp>
                <p:nvSpPr>
                  <p:cNvPr id="189" name="Freeform 30"/>
                  <p:cNvSpPr/>
                  <p:nvPr/>
                </p:nvSpPr>
                <p:spPr>
                  <a:xfrm rot="463200">
                    <a:off x="8515080" y="710280"/>
                    <a:ext cx="8586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31"/>
                  <p:cNvSpPr/>
                  <p:nvPr/>
                </p:nvSpPr>
                <p:spPr>
                  <a:xfrm rot="463200">
                    <a:off x="9354600" y="795960"/>
                    <a:ext cx="461880" cy="252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32"/>
                <p:cNvGrpSpPr/>
                <p:nvPr/>
              </p:nvGrpSpPr>
              <p:grpSpPr>
                <a:xfrm>
                  <a:off x="8528400" y="632160"/>
                  <a:ext cx="1198080" cy="185400"/>
                  <a:chOff x="8528400" y="632160"/>
                  <a:chExt cx="1198080" cy="185400"/>
                </a:xfrm>
              </p:grpSpPr>
              <p:sp>
                <p:nvSpPr>
                  <p:cNvPr id="192" name="Freeform 33"/>
                  <p:cNvSpPr/>
                  <p:nvPr/>
                </p:nvSpPr>
                <p:spPr>
                  <a:xfrm rot="21515400">
                    <a:off x="8529480" y="646920"/>
                    <a:ext cx="78084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34"/>
                  <p:cNvSpPr/>
                  <p:nvPr/>
                </p:nvSpPr>
                <p:spPr>
                  <a:xfrm rot="21515400">
                    <a:off x="9304920" y="637200"/>
                    <a:ext cx="4190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35"/>
                <p:cNvGrpSpPr/>
                <p:nvPr/>
              </p:nvGrpSpPr>
              <p:grpSpPr>
                <a:xfrm>
                  <a:off x="8499960" y="416160"/>
                  <a:ext cx="1063440" cy="336240"/>
                  <a:chOff x="8499960" y="416160"/>
                  <a:chExt cx="1063440" cy="336240"/>
                </a:xfrm>
              </p:grpSpPr>
              <p:sp>
                <p:nvSpPr>
                  <p:cNvPr id="195" name="Freeform 36"/>
                  <p:cNvSpPr/>
                  <p:nvPr/>
                </p:nvSpPr>
                <p:spPr>
                  <a:xfrm rot="20797200">
                    <a:off x="8503200" y="564120"/>
                    <a:ext cx="68580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37"/>
                  <p:cNvSpPr/>
                  <p:nvPr/>
                </p:nvSpPr>
                <p:spPr>
                  <a:xfrm rot="20797200">
                    <a:off x="9180000" y="456480"/>
                    <a:ext cx="36828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38"/>
                <p:cNvGrpSpPr/>
                <p:nvPr/>
              </p:nvGrpSpPr>
              <p:grpSpPr>
                <a:xfrm>
                  <a:off x="7097400" y="901440"/>
                  <a:ext cx="1112040" cy="1153080"/>
                  <a:chOff x="7097400" y="901440"/>
                  <a:chExt cx="1112040" cy="1153080"/>
                </a:xfrm>
              </p:grpSpPr>
              <p:sp>
                <p:nvSpPr>
                  <p:cNvPr id="198" name="Freeform 39"/>
                  <p:cNvSpPr/>
                  <p:nvPr/>
                </p:nvSpPr>
                <p:spPr>
                  <a:xfrm flipH="1" rot="18888600">
                    <a:off x="7394040" y="1189440"/>
                    <a:ext cx="88416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40"/>
                  <p:cNvSpPr/>
                  <p:nvPr/>
                </p:nvSpPr>
                <p:spPr>
                  <a:xfrm flipH="1" rot="18888600">
                    <a:off x="7124040" y="1653480"/>
                    <a:ext cx="474480" cy="272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41"/>
                <p:cNvGrpSpPr/>
                <p:nvPr/>
              </p:nvGrpSpPr>
              <p:grpSpPr>
                <a:xfrm>
                  <a:off x="6836400" y="838440"/>
                  <a:ext cx="1359720" cy="1087200"/>
                  <a:chOff x="6836400" y="838440"/>
                  <a:chExt cx="1359720" cy="1087200"/>
                </a:xfrm>
              </p:grpSpPr>
              <p:sp>
                <p:nvSpPr>
                  <p:cNvPr id="201" name="Freeform 42"/>
                  <p:cNvSpPr/>
                  <p:nvPr/>
                </p:nvSpPr>
                <p:spPr>
                  <a:xfrm flipH="1" rot="19496400">
                    <a:off x="7226640" y="1112040"/>
                    <a:ext cx="100944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43"/>
                  <p:cNvSpPr/>
                  <p:nvPr/>
                </p:nvSpPr>
                <p:spPr>
                  <a:xfrm flipH="1" rot="19496400">
                    <a:off x="6867360" y="1515960"/>
                    <a:ext cx="54108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44"/>
                <p:cNvGrpSpPr/>
                <p:nvPr/>
              </p:nvGrpSpPr>
              <p:grpSpPr>
                <a:xfrm>
                  <a:off x="6815160" y="810360"/>
                  <a:ext cx="1387800" cy="854280"/>
                  <a:chOff x="6815160" y="810360"/>
                  <a:chExt cx="1387800" cy="854280"/>
                </a:xfrm>
              </p:grpSpPr>
              <p:sp>
                <p:nvSpPr>
                  <p:cNvPr id="204" name="Freeform 45"/>
                  <p:cNvSpPr/>
                  <p:nvPr/>
                </p:nvSpPr>
                <p:spPr>
                  <a:xfrm flipH="1" rot="20017200">
                    <a:off x="7253280" y="1016280"/>
                    <a:ext cx="96516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46"/>
                  <p:cNvSpPr/>
                  <p:nvPr/>
                </p:nvSpPr>
                <p:spPr>
                  <a:xfrm flipH="1" rot="20017200">
                    <a:off x="6841800" y="1318680"/>
                    <a:ext cx="516960" cy="243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47"/>
                <p:cNvGrpSpPr/>
                <p:nvPr/>
              </p:nvGrpSpPr>
              <p:grpSpPr>
                <a:xfrm>
                  <a:off x="6800040" y="776520"/>
                  <a:ext cx="1406880" cy="685440"/>
                  <a:chOff x="6800040" y="776520"/>
                  <a:chExt cx="1406880" cy="685440"/>
                </a:xfrm>
              </p:grpSpPr>
              <p:sp>
                <p:nvSpPr>
                  <p:cNvPr id="207" name="Freeform 48"/>
                  <p:cNvSpPr/>
                  <p:nvPr/>
                </p:nvSpPr>
                <p:spPr>
                  <a:xfrm flipH="1" rot="20520000">
                    <a:off x="7272000" y="915840"/>
                    <a:ext cx="93096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49"/>
                  <p:cNvSpPr/>
                  <p:nvPr/>
                </p:nvSpPr>
                <p:spPr>
                  <a:xfrm flipH="1" rot="20520000">
                    <a:off x="6829560" y="1121040"/>
                    <a:ext cx="50112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50"/>
                <p:cNvGrpSpPr/>
                <p:nvPr/>
              </p:nvGrpSpPr>
              <p:grpSpPr>
                <a:xfrm>
                  <a:off x="6868800" y="745200"/>
                  <a:ext cx="1322640" cy="423000"/>
                  <a:chOff x="6868800" y="745200"/>
                  <a:chExt cx="1322640" cy="423000"/>
                </a:xfrm>
              </p:grpSpPr>
              <p:sp>
                <p:nvSpPr>
                  <p:cNvPr id="210" name="Freeform 51"/>
                  <p:cNvSpPr/>
                  <p:nvPr/>
                </p:nvSpPr>
                <p:spPr>
                  <a:xfrm flipH="1" rot="21136800">
                    <a:off x="7326360" y="802080"/>
                    <a:ext cx="85824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52"/>
                  <p:cNvSpPr/>
                  <p:nvPr/>
                </p:nvSpPr>
                <p:spPr>
                  <a:xfrm flipH="1" rot="21136800">
                    <a:off x="6883560" y="887400"/>
                    <a:ext cx="461520" cy="250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3"/>
                <p:cNvGrpSpPr/>
                <p:nvPr/>
              </p:nvGrpSpPr>
              <p:grpSpPr>
                <a:xfrm>
                  <a:off x="6973200" y="722160"/>
                  <a:ext cx="1198440" cy="185760"/>
                  <a:chOff x="6973200" y="722160"/>
                  <a:chExt cx="1198440" cy="185760"/>
                </a:xfrm>
              </p:grpSpPr>
              <p:sp>
                <p:nvSpPr>
                  <p:cNvPr id="213" name="Freeform 54"/>
                  <p:cNvSpPr/>
                  <p:nvPr/>
                </p:nvSpPr>
                <p:spPr>
                  <a:xfrm flipH="1" rot="84600">
                    <a:off x="7389360" y="736920"/>
                    <a:ext cx="78084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55"/>
                  <p:cNvSpPr/>
                  <p:nvPr/>
                </p:nvSpPr>
                <p:spPr>
                  <a:xfrm flipH="1" rot="84600">
                    <a:off x="6975000" y="727200"/>
                    <a:ext cx="419040" cy="175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56"/>
                <p:cNvGrpSpPr/>
                <p:nvPr/>
              </p:nvGrpSpPr>
              <p:grpSpPr>
                <a:xfrm>
                  <a:off x="7136280" y="506520"/>
                  <a:ext cx="1062720" cy="336600"/>
                  <a:chOff x="7136280" y="506520"/>
                  <a:chExt cx="1062720" cy="336600"/>
                </a:xfrm>
              </p:grpSpPr>
              <p:sp>
                <p:nvSpPr>
                  <p:cNvPr id="216" name="Freeform 57"/>
                  <p:cNvSpPr/>
                  <p:nvPr/>
                </p:nvSpPr>
                <p:spPr>
                  <a:xfrm flipH="1" rot="802800">
                    <a:off x="7509600" y="654840"/>
                    <a:ext cx="68580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58"/>
                  <p:cNvSpPr/>
                  <p:nvPr/>
                </p:nvSpPr>
                <p:spPr>
                  <a:xfrm flipH="1" rot="802800">
                    <a:off x="7151040" y="546480"/>
                    <a:ext cx="36828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59"/>
                <p:cNvGrpSpPr/>
                <p:nvPr/>
              </p:nvGrpSpPr>
              <p:grpSpPr>
                <a:xfrm>
                  <a:off x="7194600" y="385560"/>
                  <a:ext cx="1042920" cy="466560"/>
                  <a:chOff x="7194600" y="385560"/>
                  <a:chExt cx="1042920" cy="466560"/>
                </a:xfrm>
              </p:grpSpPr>
              <p:sp>
                <p:nvSpPr>
                  <p:cNvPr id="219" name="Freeform 60"/>
                  <p:cNvSpPr/>
                  <p:nvPr/>
                </p:nvSpPr>
                <p:spPr>
                  <a:xfrm flipH="1" rot="1278000">
                    <a:off x="7554960" y="620640"/>
                    <a:ext cx="68508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61"/>
                  <p:cNvSpPr/>
                  <p:nvPr/>
                </p:nvSpPr>
                <p:spPr>
                  <a:xfrm flipH="1" rot="1278000">
                    <a:off x="7213320" y="446040"/>
                    <a:ext cx="367920" cy="174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62"/>
                <p:cNvGrpSpPr/>
                <p:nvPr/>
              </p:nvGrpSpPr>
              <p:grpSpPr>
                <a:xfrm>
                  <a:off x="7319520" y="214560"/>
                  <a:ext cx="970560" cy="649440"/>
                  <a:chOff x="7319520" y="214560"/>
                  <a:chExt cx="970560" cy="649440"/>
                </a:xfrm>
              </p:grpSpPr>
              <p:sp>
                <p:nvSpPr>
                  <p:cNvPr id="222" name="Freeform 63"/>
                  <p:cNvSpPr/>
                  <p:nvPr/>
                </p:nvSpPr>
                <p:spPr>
                  <a:xfrm flipH="1" rot="2028600">
                    <a:off x="7632360" y="573120"/>
                    <a:ext cx="68472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64"/>
                  <p:cNvSpPr/>
                  <p:nvPr/>
                </p:nvSpPr>
                <p:spPr>
                  <a:xfrm flipH="1" rot="2028600">
                    <a:off x="7335720" y="302040"/>
                    <a:ext cx="367560" cy="171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65"/>
                <p:cNvGrpSpPr/>
                <p:nvPr/>
              </p:nvGrpSpPr>
              <p:grpSpPr>
                <a:xfrm>
                  <a:off x="7444800" y="47520"/>
                  <a:ext cx="886320" cy="790200"/>
                  <a:chOff x="7444800" y="47520"/>
                  <a:chExt cx="886320" cy="790200"/>
                </a:xfrm>
              </p:grpSpPr>
              <p:sp>
                <p:nvSpPr>
                  <p:cNvPr id="225" name="Freeform 66"/>
                  <p:cNvSpPr/>
                  <p:nvPr/>
                </p:nvSpPr>
                <p:spPr>
                  <a:xfrm flipH="1" rot="2664600">
                    <a:off x="7696800" y="500400"/>
                    <a:ext cx="69516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67"/>
                  <p:cNvSpPr/>
                  <p:nvPr/>
                </p:nvSpPr>
                <p:spPr>
                  <a:xfrm flipH="1" rot="2664600">
                    <a:off x="7451640" y="153720"/>
                    <a:ext cx="37440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68"/>
                <p:cNvGrpSpPr/>
                <p:nvPr/>
              </p:nvGrpSpPr>
              <p:grpSpPr>
                <a:xfrm>
                  <a:off x="7711200" y="11880"/>
                  <a:ext cx="639720" cy="790920"/>
                  <a:chOff x="7711200" y="11880"/>
                  <a:chExt cx="639720" cy="790920"/>
                </a:xfrm>
              </p:grpSpPr>
              <p:sp>
                <p:nvSpPr>
                  <p:cNvPr id="228" name="Freeform 69"/>
                  <p:cNvSpPr/>
                  <p:nvPr/>
                </p:nvSpPr>
                <p:spPr>
                  <a:xfrm flipH="1" rot="3474000">
                    <a:off x="7866720" y="472320"/>
                    <a:ext cx="565560" cy="118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70"/>
                  <p:cNvSpPr/>
                  <p:nvPr/>
                </p:nvSpPr>
                <p:spPr>
                  <a:xfrm flipH="1" rot="3474000">
                    <a:off x="7719120" y="96120"/>
                    <a:ext cx="303480" cy="187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Group 71"/>
                <p:cNvGrpSpPr/>
                <p:nvPr/>
              </p:nvGrpSpPr>
              <p:grpSpPr>
                <a:xfrm>
                  <a:off x="7900200" y="-24120"/>
                  <a:ext cx="491400" cy="813240"/>
                  <a:chOff x="7900200" y="-24120"/>
                  <a:chExt cx="491400" cy="813240"/>
                </a:xfrm>
              </p:grpSpPr>
              <p:sp>
                <p:nvSpPr>
                  <p:cNvPr id="231" name="Freeform 72"/>
                  <p:cNvSpPr/>
                  <p:nvPr/>
                </p:nvSpPr>
                <p:spPr>
                  <a:xfrm flipH="1" rot="4126800">
                    <a:off x="7965360" y="454320"/>
                    <a:ext cx="543240" cy="119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73"/>
                  <p:cNvSpPr/>
                  <p:nvPr/>
                </p:nvSpPr>
                <p:spPr>
                  <a:xfrm flipH="1" rot="4126800">
                    <a:off x="7894080" y="52200"/>
                    <a:ext cx="292320" cy="187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74"/>
                <p:cNvGrpSpPr/>
                <p:nvPr/>
              </p:nvGrpSpPr>
              <p:grpSpPr>
                <a:xfrm>
                  <a:off x="8444520" y="266760"/>
                  <a:ext cx="1039320" cy="478080"/>
                  <a:chOff x="8444520" y="266760"/>
                  <a:chExt cx="1039320" cy="478080"/>
                </a:xfrm>
              </p:grpSpPr>
              <p:sp>
                <p:nvSpPr>
                  <p:cNvPr id="234" name="Freeform 75"/>
                  <p:cNvSpPr/>
                  <p:nvPr/>
                </p:nvSpPr>
                <p:spPr>
                  <a:xfrm rot="20274000">
                    <a:off x="8440200" y="509040"/>
                    <a:ext cx="68472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Freeform 76"/>
                  <p:cNvSpPr/>
                  <p:nvPr/>
                </p:nvSpPr>
                <p:spPr>
                  <a:xfrm rot="20274000">
                    <a:off x="9096480" y="329760"/>
                    <a:ext cx="36792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77"/>
                <p:cNvGrpSpPr/>
                <p:nvPr/>
              </p:nvGrpSpPr>
              <p:grpSpPr>
                <a:xfrm>
                  <a:off x="8384760" y="128520"/>
                  <a:ext cx="986400" cy="626760"/>
                  <a:chOff x="8384760" y="128520"/>
                  <a:chExt cx="986400" cy="626760"/>
                </a:xfrm>
              </p:grpSpPr>
              <p:sp>
                <p:nvSpPr>
                  <p:cNvPr id="237" name="Freeform 78"/>
                  <p:cNvSpPr/>
                  <p:nvPr/>
                </p:nvSpPr>
                <p:spPr>
                  <a:xfrm rot="19678800">
                    <a:off x="8361720" y="470880"/>
                    <a:ext cx="686160" cy="110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79"/>
                  <p:cNvSpPr/>
                  <p:nvPr/>
                </p:nvSpPr>
                <p:spPr>
                  <a:xfrm rot="19678800">
                    <a:off x="8984520" y="212760"/>
                    <a:ext cx="3686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Freeform 80"/>
                <p:cNvSpPr/>
                <p:nvPr/>
              </p:nvSpPr>
              <p:spPr>
                <a:xfrm flipH="1" rot="4578600">
                  <a:off x="8060400" y="483480"/>
                  <a:ext cx="527040" cy="80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81"/>
                <p:cNvSpPr/>
                <p:nvPr/>
              </p:nvSpPr>
              <p:spPr>
                <a:xfrm flipH="1" rot="4578600">
                  <a:off x="8061480" y="96120"/>
                  <a:ext cx="282600" cy="12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1" name="Group 82"/>
                <p:cNvGrpSpPr/>
                <p:nvPr/>
              </p:nvGrpSpPr>
              <p:grpSpPr>
                <a:xfrm>
                  <a:off x="8314200" y="-14040"/>
                  <a:ext cx="523800" cy="794880"/>
                  <a:chOff x="8314200" y="-14040"/>
                  <a:chExt cx="523800" cy="794880"/>
                </a:xfrm>
              </p:grpSpPr>
              <p:sp>
                <p:nvSpPr>
                  <p:cNvPr id="242" name="Freeform 83"/>
                  <p:cNvSpPr/>
                  <p:nvPr/>
                </p:nvSpPr>
                <p:spPr>
                  <a:xfrm rot="17742000">
                    <a:off x="8205480" y="462600"/>
                    <a:ext cx="544680" cy="101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84"/>
                  <p:cNvSpPr/>
                  <p:nvPr/>
                </p:nvSpPr>
                <p:spPr>
                  <a:xfrm rot="17742000">
                    <a:off x="8556480" y="72000"/>
                    <a:ext cx="2919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85"/>
                <p:cNvGrpSpPr/>
                <p:nvPr/>
              </p:nvGrpSpPr>
              <p:grpSpPr>
                <a:xfrm>
                  <a:off x="8318880" y="32040"/>
                  <a:ext cx="824760" cy="757800"/>
                  <a:chOff x="8318880" y="32040"/>
                  <a:chExt cx="824760" cy="757800"/>
                </a:xfrm>
              </p:grpSpPr>
              <p:sp>
                <p:nvSpPr>
                  <p:cNvPr id="245" name="Freeform 86"/>
                  <p:cNvSpPr/>
                  <p:nvPr/>
                </p:nvSpPr>
                <p:spPr>
                  <a:xfrm rot="18822600">
                    <a:off x="8281800" y="448560"/>
                    <a:ext cx="591840" cy="150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87"/>
                  <p:cNvSpPr/>
                  <p:nvPr/>
                </p:nvSpPr>
                <p:spPr>
                  <a:xfrm rot="18822600">
                    <a:off x="8790480" y="110520"/>
                    <a:ext cx="317520" cy="234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88"/>
                <p:cNvGrpSpPr/>
                <p:nvPr/>
              </p:nvGrpSpPr>
              <p:grpSpPr>
                <a:xfrm>
                  <a:off x="8354160" y="-1440"/>
                  <a:ext cx="187920" cy="746640"/>
                  <a:chOff x="8354160" y="-1440"/>
                  <a:chExt cx="187920" cy="746640"/>
                </a:xfrm>
              </p:grpSpPr>
              <p:sp>
                <p:nvSpPr>
                  <p:cNvPr id="248" name="Freeform 89"/>
                  <p:cNvSpPr/>
                  <p:nvPr/>
                </p:nvSpPr>
                <p:spPr>
                  <a:xfrm rot="16696200">
                    <a:off x="8168040" y="475560"/>
                    <a:ext cx="489600" cy="47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90"/>
                  <p:cNvSpPr/>
                  <p:nvPr/>
                </p:nvSpPr>
                <p:spPr>
                  <a:xfrm rot="16696200">
                    <a:off x="8354520" y="95760"/>
                    <a:ext cx="262080" cy="75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800" bIns="28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91"/>
                <p:cNvGrpSpPr/>
                <p:nvPr/>
              </p:nvGrpSpPr>
              <p:grpSpPr>
                <a:xfrm>
                  <a:off x="7281720" y="926280"/>
                  <a:ext cx="956880" cy="1258560"/>
                  <a:chOff x="7281720" y="926280"/>
                  <a:chExt cx="956880" cy="1258560"/>
                </a:xfrm>
              </p:grpSpPr>
              <p:sp>
                <p:nvSpPr>
                  <p:cNvPr id="251" name="Freeform 92"/>
                  <p:cNvSpPr/>
                  <p:nvPr/>
                </p:nvSpPr>
                <p:spPr>
                  <a:xfrm flipH="1" rot="18336000">
                    <a:off x="7467840" y="1249920"/>
                    <a:ext cx="8848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3"/>
                  <p:cNvSpPr/>
                  <p:nvPr/>
                </p:nvSpPr>
                <p:spPr>
                  <a:xfrm flipH="1" rot="18336000">
                    <a:off x="7293240" y="1776240"/>
                    <a:ext cx="474480" cy="272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94"/>
                <p:cNvGrpSpPr/>
                <p:nvPr/>
              </p:nvGrpSpPr>
              <p:grpSpPr>
                <a:xfrm>
                  <a:off x="7606440" y="976680"/>
                  <a:ext cx="648000" cy="1254600"/>
                  <a:chOff x="7606440" y="976680"/>
                  <a:chExt cx="648000" cy="1254600"/>
                </a:xfrm>
              </p:grpSpPr>
              <p:sp>
                <p:nvSpPr>
                  <p:cNvPr id="254" name="Freeform 95"/>
                  <p:cNvSpPr/>
                  <p:nvPr/>
                </p:nvSpPr>
                <p:spPr>
                  <a:xfrm flipH="1" rot="17543400">
                    <a:off x="7608600" y="1301760"/>
                    <a:ext cx="81900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96"/>
                  <p:cNvSpPr/>
                  <p:nvPr/>
                </p:nvSpPr>
                <p:spPr>
                  <a:xfrm flipH="1" rot="17543400">
                    <a:off x="7595640" y="1841400"/>
                    <a:ext cx="438480" cy="271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97"/>
                <p:cNvGrpSpPr/>
                <p:nvPr/>
              </p:nvGrpSpPr>
              <p:grpSpPr>
                <a:xfrm>
                  <a:off x="7926120" y="1000080"/>
                  <a:ext cx="382680" cy="1220760"/>
                  <a:chOff x="7926120" y="1000080"/>
                  <a:chExt cx="382680" cy="1220760"/>
                </a:xfrm>
              </p:grpSpPr>
              <p:sp>
                <p:nvSpPr>
                  <p:cNvPr id="257" name="Freeform 98"/>
                  <p:cNvSpPr/>
                  <p:nvPr/>
                </p:nvSpPr>
                <p:spPr>
                  <a:xfrm flipH="1" rot="16870800">
                    <a:off x="7763400" y="1322640"/>
                    <a:ext cx="785520" cy="155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99"/>
                  <p:cNvSpPr/>
                  <p:nvPr/>
                </p:nvSpPr>
                <p:spPr>
                  <a:xfrm flipH="1" rot="16870800">
                    <a:off x="7877160" y="1867680"/>
                    <a:ext cx="420840" cy="245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100"/>
                <p:cNvGrpSpPr/>
                <p:nvPr/>
              </p:nvGrpSpPr>
              <p:grpSpPr>
                <a:xfrm>
                  <a:off x="8471520" y="905040"/>
                  <a:ext cx="994680" cy="1239840"/>
                  <a:chOff x="8471520" y="905040"/>
                  <a:chExt cx="994680" cy="1239840"/>
                </a:xfrm>
              </p:grpSpPr>
              <p:sp>
                <p:nvSpPr>
                  <p:cNvPr id="260" name="Freeform 101"/>
                  <p:cNvSpPr/>
                  <p:nvPr/>
                </p:nvSpPr>
                <p:spPr>
                  <a:xfrm rot="3144000">
                    <a:off x="8367840" y="1221480"/>
                    <a:ext cx="88452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102"/>
                  <p:cNvSpPr/>
                  <p:nvPr/>
                </p:nvSpPr>
                <p:spPr>
                  <a:xfrm rot="3144000">
                    <a:off x="8975880" y="1737000"/>
                    <a:ext cx="474840" cy="272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103"/>
                <p:cNvGrpSpPr/>
                <p:nvPr/>
              </p:nvGrpSpPr>
              <p:grpSpPr>
                <a:xfrm>
                  <a:off x="8452080" y="953280"/>
                  <a:ext cx="768240" cy="1270080"/>
                  <a:chOff x="8452080" y="953280"/>
                  <a:chExt cx="768240" cy="1270080"/>
                </a:xfrm>
              </p:grpSpPr>
              <p:sp>
                <p:nvSpPr>
                  <p:cNvPr id="263" name="Freeform 104"/>
                  <p:cNvSpPr/>
                  <p:nvPr/>
                </p:nvSpPr>
                <p:spPr>
                  <a:xfrm rot="3745200">
                    <a:off x="8298360" y="1283400"/>
                    <a:ext cx="846360" cy="166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105"/>
                  <p:cNvSpPr/>
                  <p:nvPr/>
                </p:nvSpPr>
                <p:spPr>
                  <a:xfrm rot="3745200">
                    <a:off x="8772120" y="1830600"/>
                    <a:ext cx="454320" cy="26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106"/>
                <p:cNvGrpSpPr/>
                <p:nvPr/>
              </p:nvGrpSpPr>
              <p:grpSpPr>
                <a:xfrm>
                  <a:off x="8415360" y="1003320"/>
                  <a:ext cx="535680" cy="1246680"/>
                  <a:chOff x="8415360" y="1003320"/>
                  <a:chExt cx="535680" cy="1246680"/>
                </a:xfrm>
              </p:grpSpPr>
              <p:sp>
                <p:nvSpPr>
                  <p:cNvPr id="266" name="Freeform 107"/>
                  <p:cNvSpPr/>
                  <p:nvPr/>
                </p:nvSpPr>
                <p:spPr>
                  <a:xfrm rot="4286400">
                    <a:off x="8200080" y="1345680"/>
                    <a:ext cx="820440" cy="136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108"/>
                  <p:cNvSpPr/>
                  <p:nvPr/>
                </p:nvSpPr>
                <p:spPr>
                  <a:xfrm rot="4286400">
                    <a:off x="8558640" y="1899360"/>
                    <a:ext cx="441000" cy="214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109"/>
                <p:cNvGrpSpPr/>
                <p:nvPr/>
              </p:nvGrpSpPr>
              <p:grpSpPr>
                <a:xfrm>
                  <a:off x="8382960" y="1058040"/>
                  <a:ext cx="307800" cy="1158120"/>
                  <a:chOff x="8382960" y="1058040"/>
                  <a:chExt cx="307800" cy="1158120"/>
                </a:xfrm>
              </p:grpSpPr>
              <p:sp>
                <p:nvSpPr>
                  <p:cNvPr id="269" name="Freeform 110"/>
                  <p:cNvSpPr/>
                  <p:nvPr/>
                </p:nvSpPr>
                <p:spPr>
                  <a:xfrm rot="4898400">
                    <a:off x="8128080" y="1372680"/>
                    <a:ext cx="754200" cy="13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111"/>
                  <p:cNvSpPr/>
                  <p:nvPr/>
                </p:nvSpPr>
                <p:spPr>
                  <a:xfrm rot="4898400">
                    <a:off x="8352360" y="1892880"/>
                    <a:ext cx="405000" cy="214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112"/>
                <p:cNvGrpSpPr/>
                <p:nvPr/>
              </p:nvGrpSpPr>
              <p:grpSpPr>
                <a:xfrm>
                  <a:off x="8128080" y="1077120"/>
                  <a:ext cx="293760" cy="1132560"/>
                  <a:chOff x="8128080" y="1077120"/>
                  <a:chExt cx="293760" cy="1132560"/>
                </a:xfrm>
              </p:grpSpPr>
              <p:sp>
                <p:nvSpPr>
                  <p:cNvPr id="272" name="Freeform 113"/>
                  <p:cNvSpPr/>
                  <p:nvPr/>
                </p:nvSpPr>
                <p:spPr>
                  <a:xfrm rot="5755200">
                    <a:off x="7962840" y="1396800"/>
                    <a:ext cx="737640" cy="1047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114"/>
                  <p:cNvSpPr/>
                  <p:nvPr/>
                </p:nvSpPr>
                <p:spPr>
                  <a:xfrm rot="5755200">
                    <a:off x="8031600" y="1922400"/>
                    <a:ext cx="396000" cy="163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4" name="Freeform 115"/>
              <p:cNvSpPr/>
              <p:nvPr/>
            </p:nvSpPr>
            <p:spPr>
              <a:xfrm flipH="1">
                <a:off x="7903440" y="1222560"/>
                <a:ext cx="27036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Arc 116"/>
              <p:cNvSpPr/>
              <p:nvPr/>
            </p:nvSpPr>
            <p:spPr>
              <a:xfrm flipH="1">
                <a:off x="7415280" y="948960"/>
                <a:ext cx="118080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Arc 117"/>
              <p:cNvSpPr/>
              <p:nvPr/>
            </p:nvSpPr>
            <p:spPr>
              <a:xfrm flipV="1">
                <a:off x="8478360" y="233640"/>
                <a:ext cx="14274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Arc 118"/>
              <p:cNvSpPr/>
              <p:nvPr/>
            </p:nvSpPr>
            <p:spPr>
              <a:xfrm flipH="1">
                <a:off x="7533360" y="759240"/>
                <a:ext cx="6901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Arc 119"/>
              <p:cNvSpPr/>
              <p:nvPr/>
            </p:nvSpPr>
            <p:spPr>
              <a:xfrm flipH="1">
                <a:off x="7044480" y="821880"/>
                <a:ext cx="1121400" cy="12186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Arc 120"/>
              <p:cNvSpPr/>
              <p:nvPr/>
            </p:nvSpPr>
            <p:spPr>
              <a:xfrm flipH="1">
                <a:off x="6945840" y="599400"/>
                <a:ext cx="132264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Arc 121"/>
              <p:cNvSpPr/>
              <p:nvPr/>
            </p:nvSpPr>
            <p:spPr>
              <a:xfrm>
                <a:off x="8408880" y="770760"/>
                <a:ext cx="2109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Arc 122"/>
              <p:cNvSpPr/>
              <p:nvPr/>
            </p:nvSpPr>
            <p:spPr>
              <a:xfrm>
                <a:off x="8464320" y="765720"/>
                <a:ext cx="55836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Arc 123"/>
              <p:cNvSpPr/>
              <p:nvPr/>
            </p:nvSpPr>
            <p:spPr>
              <a:xfrm>
                <a:off x="8513640" y="605880"/>
                <a:ext cx="7923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124"/>
              <p:cNvSpPr/>
              <p:nvPr/>
            </p:nvSpPr>
            <p:spPr>
              <a:xfrm>
                <a:off x="8667000" y="1351800"/>
                <a:ext cx="26784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25"/>
              <p:cNvSpPr/>
              <p:nvPr/>
            </p:nvSpPr>
            <p:spPr>
              <a:xfrm flipV="1" rot="19660800">
                <a:off x="8246160" y="1103040"/>
                <a:ext cx="246600" cy="4276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Arc 126"/>
              <p:cNvSpPr/>
              <p:nvPr/>
            </p:nvSpPr>
            <p:spPr>
              <a:xfrm flipH="1">
                <a:off x="6870600" y="417600"/>
                <a:ext cx="14104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Arc 127"/>
              <p:cNvSpPr/>
              <p:nvPr/>
            </p:nvSpPr>
            <p:spPr>
              <a:xfrm flipH="1">
                <a:off x="7268040" y="159480"/>
                <a:ext cx="102636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Arc 128"/>
              <p:cNvSpPr/>
              <p:nvPr/>
            </p:nvSpPr>
            <p:spPr>
              <a:xfrm>
                <a:off x="8366400" y="657000"/>
                <a:ext cx="424080" cy="11818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29"/>
              <p:cNvSpPr/>
              <p:nvPr/>
            </p:nvSpPr>
            <p:spPr>
              <a:xfrm flipH="1">
                <a:off x="7099560" y="1283760"/>
                <a:ext cx="60228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30"/>
              <p:cNvSpPr/>
              <p:nvPr/>
            </p:nvSpPr>
            <p:spPr>
              <a:xfrm flipH="1">
                <a:off x="7384680" y="457920"/>
                <a:ext cx="3870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31"/>
              <p:cNvSpPr/>
              <p:nvPr/>
            </p:nvSpPr>
            <p:spPr>
              <a:xfrm flipH="1">
                <a:off x="7831800" y="225000"/>
                <a:ext cx="23112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32"/>
              <p:cNvSpPr/>
              <p:nvPr/>
            </p:nvSpPr>
            <p:spPr>
              <a:xfrm>
                <a:off x="9275040" y="1170000"/>
                <a:ext cx="55980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33"/>
              <p:cNvSpPr/>
              <p:nvPr/>
            </p:nvSpPr>
            <p:spPr>
              <a:xfrm>
                <a:off x="8985960" y="753840"/>
                <a:ext cx="844920" cy="546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34"/>
              <p:cNvSpPr/>
              <p:nvPr/>
            </p:nvSpPr>
            <p:spPr>
              <a:xfrm>
                <a:off x="9016920" y="172440"/>
                <a:ext cx="368640" cy="7340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35"/>
              <p:cNvSpPr/>
              <p:nvPr/>
            </p:nvSpPr>
            <p:spPr>
              <a:xfrm rot="20253000">
                <a:off x="8654400" y="783360"/>
                <a:ext cx="24660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6"/>
              <p:cNvSpPr/>
              <p:nvPr/>
            </p:nvSpPr>
            <p:spPr>
              <a:xfrm flipH="1" rot="1347000">
                <a:off x="7775640" y="770760"/>
                <a:ext cx="243360" cy="43200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0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DB5A-0CAE-4ED1-A7A7-9BC60F3DC14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338" name="Freeform 3"/>
            <p:cNvSpPr/>
            <p:nvPr/>
          </p:nvSpPr>
          <p:spPr>
            <a:xfrm>
              <a:off x="0" y="3981600"/>
              <a:ext cx="368424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4"/>
            <p:cNvSpPr/>
            <p:nvPr/>
          </p:nvSpPr>
          <p:spPr>
            <a:xfrm>
              <a:off x="0" y="3902040"/>
              <a:ext cx="318888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5"/>
            <p:cNvSpPr/>
            <p:nvPr/>
          </p:nvSpPr>
          <p:spPr>
            <a:xfrm>
              <a:off x="0" y="4341960"/>
              <a:ext cx="300132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0" y="4038480"/>
              <a:ext cx="300132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7"/>
            <p:cNvSpPr/>
            <p:nvPr/>
          </p:nvSpPr>
          <p:spPr>
            <a:xfrm>
              <a:off x="359640" y="4419720"/>
              <a:ext cx="1490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CA4D-AE0D-4216-AB8C-F124821AB8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4118040" y="1789200"/>
            <a:ext cx="5784480" cy="5056200"/>
            <a:chOff x="4118040" y="1789200"/>
            <a:chExt cx="5784480" cy="5056200"/>
          </a:xfrm>
        </p:grpSpPr>
        <p:sp>
          <p:nvSpPr>
            <p:cNvPr id="387" name="Rectangle 3"/>
            <p:cNvSpPr/>
            <p:nvPr/>
          </p:nvSpPr>
          <p:spPr>
            <a:xfrm>
              <a:off x="7274880" y="2166840"/>
              <a:ext cx="33876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4"/>
            <p:cNvSpPr/>
            <p:nvPr/>
          </p:nvSpPr>
          <p:spPr>
            <a:xfrm>
              <a:off x="7393680" y="1881360"/>
              <a:ext cx="7884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5"/>
            <p:cNvSpPr/>
            <p:nvPr/>
          </p:nvSpPr>
          <p:spPr>
            <a:xfrm rot="994800">
              <a:off x="8951760" y="2373120"/>
              <a:ext cx="1008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6"/>
            <p:cNvSpPr/>
            <p:nvPr/>
          </p:nvSpPr>
          <p:spPr>
            <a:xfrm>
              <a:off x="8377560" y="5568840"/>
              <a:ext cx="1134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Rectangle 7"/>
            <p:cNvSpPr/>
            <p:nvPr/>
          </p:nvSpPr>
          <p:spPr>
            <a:xfrm rot="91200">
              <a:off x="9436680" y="2436480"/>
              <a:ext cx="1044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Rectangle 8"/>
            <p:cNvSpPr/>
            <p:nvPr/>
          </p:nvSpPr>
          <p:spPr>
            <a:xfrm rot="20673600">
              <a:off x="9699480" y="2414520"/>
              <a:ext cx="1008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 rot="20459400">
              <a:off x="5923440" y="2882520"/>
              <a:ext cx="1044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 rot="1114200">
              <a:off x="4742280" y="2890800"/>
              <a:ext cx="1008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rot="254400">
              <a:off x="5220360" y="2968200"/>
              <a:ext cx="1008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6891840" y="4795920"/>
              <a:ext cx="1071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13"/>
            <p:cNvSpPr/>
            <p:nvPr/>
          </p:nvSpPr>
          <p:spPr>
            <a:xfrm>
              <a:off x="8190000" y="5700600"/>
              <a:ext cx="17125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14"/>
            <p:cNvSpPr/>
            <p:nvPr/>
          </p:nvSpPr>
          <p:spPr>
            <a:xfrm>
              <a:off x="8231400" y="5786280"/>
              <a:ext cx="167112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8262000" y="5700600"/>
              <a:ext cx="1640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6"/>
            <p:cNvSpPr/>
            <p:nvPr/>
          </p:nvSpPr>
          <p:spPr>
            <a:xfrm>
              <a:off x="5261400" y="2446200"/>
              <a:ext cx="17532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7"/>
            <p:cNvSpPr/>
            <p:nvPr/>
          </p:nvSpPr>
          <p:spPr>
            <a:xfrm>
              <a:off x="5261400" y="2682720"/>
              <a:ext cx="1548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8"/>
            <p:cNvSpPr/>
            <p:nvPr/>
          </p:nvSpPr>
          <p:spPr>
            <a:xfrm>
              <a:off x="5261400" y="2806560"/>
              <a:ext cx="15480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9"/>
            <p:cNvSpPr/>
            <p:nvPr/>
          </p:nvSpPr>
          <p:spPr>
            <a:xfrm>
              <a:off x="9407520" y="1913040"/>
              <a:ext cx="1753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20"/>
            <p:cNvSpPr/>
            <p:nvPr/>
          </p:nvSpPr>
          <p:spPr>
            <a:xfrm>
              <a:off x="9417960" y="2141640"/>
              <a:ext cx="1440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21"/>
            <p:cNvSpPr/>
            <p:nvPr/>
          </p:nvSpPr>
          <p:spPr>
            <a:xfrm>
              <a:off x="9407520" y="2274840"/>
              <a:ext cx="15480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22"/>
            <p:cNvSpPr/>
            <p:nvPr/>
          </p:nvSpPr>
          <p:spPr>
            <a:xfrm>
              <a:off x="9335160" y="5595840"/>
              <a:ext cx="11340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23"/>
            <p:cNvSpPr/>
            <p:nvPr/>
          </p:nvSpPr>
          <p:spPr>
            <a:xfrm>
              <a:off x="5189040" y="1789200"/>
              <a:ext cx="44762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4"/>
            <p:cNvSpPr/>
            <p:nvPr/>
          </p:nvSpPr>
          <p:spPr>
            <a:xfrm>
              <a:off x="5046480" y="5989680"/>
              <a:ext cx="1443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5"/>
            <p:cNvSpPr/>
            <p:nvPr/>
          </p:nvSpPr>
          <p:spPr>
            <a:xfrm>
              <a:off x="6499440" y="6146640"/>
              <a:ext cx="15480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6"/>
            <p:cNvSpPr/>
            <p:nvPr/>
          </p:nvSpPr>
          <p:spPr>
            <a:xfrm>
              <a:off x="4128120" y="6146640"/>
              <a:ext cx="12384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27"/>
            <p:cNvSpPr/>
            <p:nvPr/>
          </p:nvSpPr>
          <p:spPr>
            <a:xfrm>
              <a:off x="4203720" y="6093000"/>
              <a:ext cx="237312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28"/>
            <p:cNvSpPr/>
            <p:nvPr/>
          </p:nvSpPr>
          <p:spPr>
            <a:xfrm>
              <a:off x="4118040" y="6086520"/>
              <a:ext cx="258264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29"/>
            <p:cNvSpPr/>
            <p:nvPr/>
          </p:nvSpPr>
          <p:spPr>
            <a:xfrm>
              <a:off x="4198680" y="6127920"/>
              <a:ext cx="245052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30"/>
            <p:cNvSpPr/>
            <p:nvPr/>
          </p:nvSpPr>
          <p:spPr>
            <a:xfrm>
              <a:off x="6437880" y="6013440"/>
              <a:ext cx="15408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1"/>
            <p:cNvSpPr/>
            <p:nvPr/>
          </p:nvSpPr>
          <p:spPr>
            <a:xfrm>
              <a:off x="9325080" y="5719680"/>
              <a:ext cx="12348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32"/>
            <p:cNvSpPr/>
            <p:nvPr/>
          </p:nvSpPr>
          <p:spPr>
            <a:xfrm>
              <a:off x="7288560" y="2814480"/>
              <a:ext cx="29916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33"/>
            <p:cNvSpPr/>
            <p:nvPr/>
          </p:nvSpPr>
          <p:spPr>
            <a:xfrm>
              <a:off x="7374960" y="2452680"/>
              <a:ext cx="13032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AutoShape 34"/>
            <p:cNvSpPr/>
            <p:nvPr/>
          </p:nvSpPr>
          <p:spPr>
            <a:xfrm>
              <a:off x="7257960" y="2766960"/>
              <a:ext cx="352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5"/>
            <p:cNvSpPr/>
            <p:nvPr/>
          </p:nvSpPr>
          <p:spPr>
            <a:xfrm>
              <a:off x="7405560" y="2427120"/>
              <a:ext cx="43344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6"/>
            <p:cNvSpPr/>
            <p:nvPr/>
          </p:nvSpPr>
          <p:spPr>
            <a:xfrm>
              <a:off x="7170120" y="2255760"/>
              <a:ext cx="54504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16"/>
          </p:nvPr>
        </p:nvSpPr>
        <p:spPr>
          <a:xfrm>
            <a:off x="495360" y="627840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17"/>
          </p:nvPr>
        </p:nvSpPr>
        <p:spPr>
          <a:xfrm>
            <a:off x="3384360" y="62784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18"/>
          </p:nvPr>
        </p:nvSpPr>
        <p:spPr>
          <a:xfrm>
            <a:off x="709884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1DFF-0E26-4D05-9E29-8726E52756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0" y="0"/>
            <a:ext cx="9162720" cy="5943600"/>
            <a:chOff x="0" y="0"/>
            <a:chExt cx="9162720" cy="5943600"/>
          </a:xfrm>
        </p:grpSpPr>
        <p:sp>
          <p:nvSpPr>
            <p:cNvPr id="463" name="Freeform 3"/>
            <p:cNvSpPr/>
            <p:nvPr/>
          </p:nvSpPr>
          <p:spPr>
            <a:xfrm>
              <a:off x="0" y="2286000"/>
              <a:ext cx="886536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4"/>
            <p:cNvSpPr/>
            <p:nvPr/>
          </p:nvSpPr>
          <p:spPr>
            <a:xfrm>
              <a:off x="0" y="0"/>
              <a:ext cx="916272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BB9C-1E8E-492F-BAE2-DBC0C04ED6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2186280" y="239040"/>
            <a:ext cx="7463520" cy="5464440"/>
            <a:chOff x="2186280" y="239040"/>
            <a:chExt cx="7463520" cy="5464440"/>
          </a:xfrm>
        </p:grpSpPr>
        <p:grpSp>
          <p:nvGrpSpPr>
            <p:cNvPr id="507" name="Group 3"/>
            <p:cNvGrpSpPr/>
            <p:nvPr/>
          </p:nvGrpSpPr>
          <p:grpSpPr>
            <a:xfrm>
              <a:off x="3773880" y="952560"/>
              <a:ext cx="1022760" cy="709560"/>
              <a:chOff x="3773880" y="952560"/>
              <a:chExt cx="1022760" cy="709560"/>
            </a:xfrm>
          </p:grpSpPr>
          <p:sp>
            <p:nvSpPr>
              <p:cNvPr id="508" name="Oval 4"/>
              <p:cNvSpPr/>
              <p:nvPr/>
            </p:nvSpPr>
            <p:spPr>
              <a:xfrm>
                <a:off x="3773880" y="952560"/>
                <a:ext cx="102276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Oval 5"/>
              <p:cNvSpPr/>
              <p:nvPr/>
            </p:nvSpPr>
            <p:spPr>
              <a:xfrm>
                <a:off x="4141800" y="1264320"/>
                <a:ext cx="2451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6"/>
            <p:cNvGrpSpPr/>
            <p:nvPr/>
          </p:nvGrpSpPr>
          <p:grpSpPr>
            <a:xfrm>
              <a:off x="2186280" y="239040"/>
              <a:ext cx="7463520" cy="5464440"/>
              <a:chOff x="2186280" y="239040"/>
              <a:chExt cx="7463520" cy="5464440"/>
            </a:xfrm>
          </p:grpSpPr>
          <p:grpSp>
            <p:nvGrpSpPr>
              <p:cNvPr id="511" name="Group 7"/>
              <p:cNvGrpSpPr/>
              <p:nvPr/>
            </p:nvGrpSpPr>
            <p:grpSpPr>
              <a:xfrm>
                <a:off x="2186280" y="239040"/>
                <a:ext cx="7449840" cy="5464440"/>
                <a:chOff x="2186280" y="239040"/>
                <a:chExt cx="7449840" cy="5464440"/>
              </a:xfrm>
            </p:grpSpPr>
            <p:grpSp>
              <p:nvGrpSpPr>
                <p:cNvPr id="512" name="Group 8"/>
                <p:cNvGrpSpPr/>
                <p:nvPr/>
              </p:nvGrpSpPr>
              <p:grpSpPr>
                <a:xfrm>
                  <a:off x="4046400" y="1266120"/>
                  <a:ext cx="3900960" cy="2651400"/>
                  <a:chOff x="4046400" y="1266120"/>
                  <a:chExt cx="3900960" cy="2651400"/>
                </a:xfrm>
              </p:grpSpPr>
              <p:sp>
                <p:nvSpPr>
                  <p:cNvPr id="513" name="Oval 9"/>
                  <p:cNvSpPr/>
                  <p:nvPr/>
                </p:nvSpPr>
                <p:spPr>
                  <a:xfrm>
                    <a:off x="4046400" y="1266120"/>
                    <a:ext cx="390096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Oval 10"/>
                  <p:cNvSpPr/>
                  <p:nvPr/>
                </p:nvSpPr>
                <p:spPr>
                  <a:xfrm>
                    <a:off x="5535720" y="2235240"/>
                    <a:ext cx="77220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Group 11"/>
                <p:cNvGrpSpPr/>
                <p:nvPr/>
              </p:nvGrpSpPr>
              <p:grpSpPr>
                <a:xfrm>
                  <a:off x="2186280" y="239040"/>
                  <a:ext cx="7449840" cy="5464440"/>
                  <a:chOff x="2186280" y="239040"/>
                  <a:chExt cx="7449840" cy="5464440"/>
                </a:xfrm>
              </p:grpSpPr>
              <p:grpSp>
                <p:nvGrpSpPr>
                  <p:cNvPr id="516" name="Group 12"/>
                  <p:cNvGrpSpPr/>
                  <p:nvPr/>
                </p:nvGrpSpPr>
                <p:grpSpPr>
                  <a:xfrm>
                    <a:off x="6305040" y="2310120"/>
                    <a:ext cx="2674800" cy="2772000"/>
                    <a:chOff x="6305040" y="2310120"/>
                    <a:chExt cx="2674800" cy="2772000"/>
                  </a:xfrm>
                </p:grpSpPr>
                <p:sp>
                  <p:nvSpPr>
                    <p:cNvPr id="517" name="Freeform 13"/>
                    <p:cNvSpPr/>
                    <p:nvPr/>
                  </p:nvSpPr>
                  <p:spPr>
                    <a:xfrm rot="2711400">
                      <a:off x="6139080" y="3002760"/>
                      <a:ext cx="21261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Freeform 14"/>
                    <p:cNvSpPr/>
                    <p:nvPr/>
                  </p:nvSpPr>
                  <p:spPr>
                    <a:xfrm rot="2711400">
                      <a:off x="7776720" y="4120920"/>
                      <a:ext cx="1139400" cy="65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Group 15"/>
                  <p:cNvGrpSpPr/>
                  <p:nvPr/>
                </p:nvGrpSpPr>
                <p:grpSpPr>
                  <a:xfrm>
                    <a:off x="6280560" y="2094480"/>
                    <a:ext cx="3267720" cy="2611800"/>
                    <a:chOff x="6280560" y="2094480"/>
                    <a:chExt cx="3267720" cy="2611800"/>
                  </a:xfrm>
                </p:grpSpPr>
                <p:sp>
                  <p:nvSpPr>
                    <p:cNvPr id="520" name="Freeform 16"/>
                    <p:cNvSpPr/>
                    <p:nvPr/>
                  </p:nvSpPr>
                  <p:spPr>
                    <a:xfrm rot="2103600">
                      <a:off x="6182640" y="2751840"/>
                      <a:ext cx="2424600" cy="426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Freeform 17"/>
                    <p:cNvSpPr/>
                    <p:nvPr/>
                  </p:nvSpPr>
                  <p:spPr>
                    <a:xfrm rot="2103600">
                      <a:off x="8172000" y="3721320"/>
                      <a:ext cx="1301040" cy="672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Group 18"/>
                  <p:cNvGrpSpPr/>
                  <p:nvPr/>
                </p:nvGrpSpPr>
                <p:grpSpPr>
                  <a:xfrm>
                    <a:off x="6264000" y="2025000"/>
                    <a:ext cx="3336120" cy="2053440"/>
                    <a:chOff x="6264000" y="2025000"/>
                    <a:chExt cx="3336120" cy="2053440"/>
                  </a:xfrm>
                </p:grpSpPr>
                <p:sp>
                  <p:nvSpPr>
                    <p:cNvPr id="523" name="Freeform 19"/>
                    <p:cNvSpPr/>
                    <p:nvPr/>
                  </p:nvSpPr>
                  <p:spPr>
                    <a:xfrm rot="1582800">
                      <a:off x="6226560" y="2520360"/>
                      <a:ext cx="231804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Freeform 20"/>
                    <p:cNvSpPr/>
                    <p:nvPr/>
                  </p:nvSpPr>
                  <p:spPr>
                    <a:xfrm rot="1582800">
                      <a:off x="8289360" y="3245400"/>
                      <a:ext cx="124488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21"/>
                  <p:cNvGrpSpPr/>
                  <p:nvPr/>
                </p:nvGrpSpPr>
                <p:grpSpPr>
                  <a:xfrm>
                    <a:off x="6253920" y="1942920"/>
                    <a:ext cx="3382200" cy="1648800"/>
                    <a:chOff x="6253920" y="1942920"/>
                    <a:chExt cx="3382200" cy="1648800"/>
                  </a:xfrm>
                </p:grpSpPr>
                <p:sp>
                  <p:nvSpPr>
                    <p:cNvPr id="526" name="Freeform 22"/>
                    <p:cNvSpPr/>
                    <p:nvPr/>
                  </p:nvSpPr>
                  <p:spPr>
                    <a:xfrm rot="1080000">
                      <a:off x="6262560" y="2278800"/>
                      <a:ext cx="22402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Freeform 23"/>
                    <p:cNvSpPr/>
                    <p:nvPr/>
                  </p:nvSpPr>
                  <p:spPr>
                    <a:xfrm rot="1080000">
                      <a:off x="8362440" y="2771640"/>
                      <a:ext cx="1202400" cy="649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Group 24"/>
                  <p:cNvGrpSpPr/>
                  <p:nvPr/>
                </p:nvGrpSpPr>
                <p:grpSpPr>
                  <a:xfrm>
                    <a:off x="6293520" y="1868400"/>
                    <a:ext cx="3178800" cy="1018440"/>
                    <a:chOff x="6293520" y="1868400"/>
                    <a:chExt cx="3178800" cy="1018440"/>
                  </a:xfrm>
                </p:grpSpPr>
                <p:sp>
                  <p:nvSpPr>
                    <p:cNvPr id="529" name="Freeform 25"/>
                    <p:cNvSpPr/>
                    <p:nvPr/>
                  </p:nvSpPr>
                  <p:spPr>
                    <a:xfrm rot="463200">
                      <a:off x="6309720" y="2005200"/>
                      <a:ext cx="2062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Freeform 26"/>
                    <p:cNvSpPr/>
                    <p:nvPr/>
                  </p:nvSpPr>
                  <p:spPr>
                    <a:xfrm rot="463200">
                      <a:off x="8327880" y="2212200"/>
                      <a:ext cx="110880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Group 27"/>
                  <p:cNvGrpSpPr/>
                  <p:nvPr/>
                </p:nvGrpSpPr>
                <p:grpSpPr>
                  <a:xfrm>
                    <a:off x="6340320" y="1813680"/>
                    <a:ext cx="2878560" cy="446760"/>
                    <a:chOff x="6340320" y="1813680"/>
                    <a:chExt cx="2878560" cy="446760"/>
                  </a:xfrm>
                </p:grpSpPr>
                <p:sp>
                  <p:nvSpPr>
                    <p:cNvPr id="532" name="Freeform 28"/>
                    <p:cNvSpPr/>
                    <p:nvPr/>
                  </p:nvSpPr>
                  <p:spPr>
                    <a:xfrm rot="21515400">
                      <a:off x="6343200" y="1851480"/>
                      <a:ext cx="1875600" cy="26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Freeform 29"/>
                    <p:cNvSpPr/>
                    <p:nvPr/>
                  </p:nvSpPr>
                  <p:spPr>
                    <a:xfrm rot="21515400">
                      <a:off x="8206200" y="1825920"/>
                      <a:ext cx="1007280" cy="421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Group 30"/>
                  <p:cNvGrpSpPr/>
                  <p:nvPr/>
                </p:nvGrpSpPr>
                <p:grpSpPr>
                  <a:xfrm>
                    <a:off x="6273360" y="1297080"/>
                    <a:ext cx="2555640" cy="807840"/>
                    <a:chOff x="6273360" y="1297080"/>
                    <a:chExt cx="2555640" cy="807840"/>
                  </a:xfrm>
                </p:grpSpPr>
                <p:sp>
                  <p:nvSpPr>
                    <p:cNvPr id="535" name="Freeform 31"/>
                    <p:cNvSpPr/>
                    <p:nvPr/>
                  </p:nvSpPr>
                  <p:spPr>
                    <a:xfrm rot="20797200">
                      <a:off x="6281280" y="1653120"/>
                      <a:ext cx="164700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Freeform 32"/>
                    <p:cNvSpPr/>
                    <p:nvPr/>
                  </p:nvSpPr>
                  <p:spPr>
                    <a:xfrm rot="20797200">
                      <a:off x="7908840" y="1393560"/>
                      <a:ext cx="884160" cy="415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Group 33"/>
                  <p:cNvGrpSpPr/>
                  <p:nvPr/>
                </p:nvGrpSpPr>
                <p:grpSpPr>
                  <a:xfrm>
                    <a:off x="2899800" y="2460240"/>
                    <a:ext cx="2675520" cy="2771640"/>
                    <a:chOff x="2899800" y="2460240"/>
                    <a:chExt cx="2675520" cy="2771640"/>
                  </a:xfrm>
                </p:grpSpPr>
                <p:sp>
                  <p:nvSpPr>
                    <p:cNvPr id="538" name="Freeform 34"/>
                    <p:cNvSpPr/>
                    <p:nvPr/>
                  </p:nvSpPr>
                  <p:spPr>
                    <a:xfrm flipH="1" rot="18888600">
                      <a:off x="3615120" y="3152880"/>
                      <a:ext cx="21261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Freeform 35"/>
                    <p:cNvSpPr/>
                    <p:nvPr/>
                  </p:nvSpPr>
                  <p:spPr>
                    <a:xfrm flipH="1" rot="18888600">
                      <a:off x="2962800" y="4270320"/>
                      <a:ext cx="1141560" cy="653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Group 36"/>
                  <p:cNvGrpSpPr/>
                  <p:nvPr/>
                </p:nvGrpSpPr>
                <p:grpSpPr>
                  <a:xfrm>
                    <a:off x="2274480" y="2311560"/>
                    <a:ext cx="3269880" cy="2613600"/>
                    <a:chOff x="2274480" y="2311560"/>
                    <a:chExt cx="3269880" cy="2613600"/>
                  </a:xfrm>
                </p:grpSpPr>
                <p:sp>
                  <p:nvSpPr>
                    <p:cNvPr id="541" name="Freeform 37"/>
                    <p:cNvSpPr/>
                    <p:nvPr/>
                  </p:nvSpPr>
                  <p:spPr>
                    <a:xfrm flipH="1" rot="19496400">
                      <a:off x="3215880" y="2968920"/>
                      <a:ext cx="2424960" cy="428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Freeform 38"/>
                    <p:cNvSpPr/>
                    <p:nvPr/>
                  </p:nvSpPr>
                  <p:spPr>
                    <a:xfrm flipH="1" rot="19496400">
                      <a:off x="2349360" y="3940560"/>
                      <a:ext cx="130104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Group 39"/>
                  <p:cNvGrpSpPr/>
                  <p:nvPr/>
                </p:nvGrpSpPr>
                <p:grpSpPr>
                  <a:xfrm>
                    <a:off x="2222640" y="2243520"/>
                    <a:ext cx="3335400" cy="2052000"/>
                    <a:chOff x="2222640" y="2243520"/>
                    <a:chExt cx="3335400" cy="2052000"/>
                  </a:xfrm>
                </p:grpSpPr>
                <p:sp>
                  <p:nvSpPr>
                    <p:cNvPr id="544" name="Freeform 40"/>
                    <p:cNvSpPr/>
                    <p:nvPr/>
                  </p:nvSpPr>
                  <p:spPr>
                    <a:xfrm flipH="1" rot="20017200">
                      <a:off x="3277080" y="2738880"/>
                      <a:ext cx="2318040" cy="374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Freeform 41"/>
                    <p:cNvSpPr/>
                    <p:nvPr/>
                  </p:nvSpPr>
                  <p:spPr>
                    <a:xfrm flipH="1" rot="20017200">
                      <a:off x="2287800" y="3462480"/>
                      <a:ext cx="124488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Group 42"/>
                  <p:cNvGrpSpPr/>
                  <p:nvPr/>
                </p:nvGrpSpPr>
                <p:grpSpPr>
                  <a:xfrm>
                    <a:off x="2186280" y="2162160"/>
                    <a:ext cx="3382200" cy="1648800"/>
                    <a:chOff x="2186280" y="2162160"/>
                    <a:chExt cx="3382200" cy="1648800"/>
                  </a:xfrm>
                </p:grpSpPr>
                <p:sp>
                  <p:nvSpPr>
                    <p:cNvPr id="547" name="Freeform 43"/>
                    <p:cNvSpPr/>
                    <p:nvPr/>
                  </p:nvSpPr>
                  <p:spPr>
                    <a:xfrm flipH="1" rot="20520000">
                      <a:off x="3318840" y="2498040"/>
                      <a:ext cx="22406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44"/>
                    <p:cNvSpPr/>
                    <p:nvPr/>
                  </p:nvSpPr>
                  <p:spPr>
                    <a:xfrm flipH="1" rot="20520000">
                      <a:off x="2256480" y="2991240"/>
                      <a:ext cx="1202040" cy="649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Group 45"/>
                  <p:cNvGrpSpPr/>
                  <p:nvPr/>
                </p:nvGrpSpPr>
                <p:grpSpPr>
                  <a:xfrm>
                    <a:off x="2349720" y="2086200"/>
                    <a:ext cx="3180240" cy="1017360"/>
                    <a:chOff x="2349720" y="2086200"/>
                    <a:chExt cx="3180240" cy="1017360"/>
                  </a:xfrm>
                </p:grpSpPr>
                <p:sp>
                  <p:nvSpPr>
                    <p:cNvPr id="550" name="Freeform 46"/>
                    <p:cNvSpPr/>
                    <p:nvPr/>
                  </p:nvSpPr>
                  <p:spPr>
                    <a:xfrm flipH="1" rot="21136800">
                      <a:off x="3450600" y="2222640"/>
                      <a:ext cx="2062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Freeform 47"/>
                    <p:cNvSpPr/>
                    <p:nvPr/>
                  </p:nvSpPr>
                  <p:spPr>
                    <a:xfrm flipH="1" rot="21136800">
                      <a:off x="2384640" y="2428560"/>
                      <a:ext cx="110880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Group 48"/>
                  <p:cNvGrpSpPr/>
                  <p:nvPr/>
                </p:nvGrpSpPr>
                <p:grpSpPr>
                  <a:xfrm>
                    <a:off x="2603880" y="2031120"/>
                    <a:ext cx="2880000" cy="448560"/>
                    <a:chOff x="2603880" y="2031120"/>
                    <a:chExt cx="2880000" cy="448560"/>
                  </a:xfrm>
                </p:grpSpPr>
                <p:sp>
                  <p:nvSpPr>
                    <p:cNvPr id="553" name="Freeform 49"/>
                    <p:cNvSpPr/>
                    <p:nvPr/>
                  </p:nvSpPr>
                  <p:spPr>
                    <a:xfrm flipH="1" rot="84600">
                      <a:off x="3605400" y="2068920"/>
                      <a:ext cx="1875600" cy="269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Freeform 50"/>
                    <p:cNvSpPr/>
                    <p:nvPr/>
                  </p:nvSpPr>
                  <p:spPr>
                    <a:xfrm flipH="1" rot="84600">
                      <a:off x="2608920" y="2043360"/>
                      <a:ext cx="1007280" cy="42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Group 51"/>
                  <p:cNvGrpSpPr/>
                  <p:nvPr/>
                </p:nvGrpSpPr>
                <p:grpSpPr>
                  <a:xfrm>
                    <a:off x="2994840" y="1513800"/>
                    <a:ext cx="2553840" cy="809640"/>
                    <a:chOff x="2994840" y="1513800"/>
                    <a:chExt cx="2553840" cy="809640"/>
                  </a:xfrm>
                </p:grpSpPr>
                <p:sp>
                  <p:nvSpPr>
                    <p:cNvPr id="556" name="Freeform 52"/>
                    <p:cNvSpPr/>
                    <p:nvPr/>
                  </p:nvSpPr>
                  <p:spPr>
                    <a:xfrm flipH="1" rot="802800">
                      <a:off x="3893040" y="1871280"/>
                      <a:ext cx="16470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Freeform 53"/>
                    <p:cNvSpPr/>
                    <p:nvPr/>
                  </p:nvSpPr>
                  <p:spPr>
                    <a:xfrm flipH="1" rot="802800">
                      <a:off x="3030480" y="1610280"/>
                      <a:ext cx="884160" cy="417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8" name="Group 54"/>
                  <p:cNvGrpSpPr/>
                  <p:nvPr/>
                </p:nvGrpSpPr>
                <p:grpSpPr>
                  <a:xfrm>
                    <a:off x="3133800" y="1224000"/>
                    <a:ext cx="2509200" cy="1118520"/>
                    <a:chOff x="3133800" y="1224000"/>
                    <a:chExt cx="2509200" cy="1118520"/>
                  </a:xfrm>
                </p:grpSpPr>
                <p:sp>
                  <p:nvSpPr>
                    <p:cNvPr id="559" name="Freeform 55"/>
                    <p:cNvSpPr/>
                    <p:nvPr/>
                  </p:nvSpPr>
                  <p:spPr>
                    <a:xfrm flipH="1" rot="1278000">
                      <a:off x="4003920" y="1787040"/>
                      <a:ext cx="16473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Freeform 56"/>
                    <p:cNvSpPr/>
                    <p:nvPr/>
                  </p:nvSpPr>
                  <p:spPr>
                    <a:xfrm flipH="1" rot="1278000">
                      <a:off x="3178440" y="1370520"/>
                      <a:ext cx="884520" cy="415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1" name="Group 57"/>
                  <p:cNvGrpSpPr/>
                  <p:nvPr/>
                </p:nvGrpSpPr>
                <p:grpSpPr>
                  <a:xfrm>
                    <a:off x="3433320" y="812520"/>
                    <a:ext cx="2337480" cy="1561320"/>
                    <a:chOff x="3433320" y="812520"/>
                    <a:chExt cx="2337480" cy="1561320"/>
                  </a:xfrm>
                </p:grpSpPr>
                <p:sp>
                  <p:nvSpPr>
                    <p:cNvPr id="562" name="Freeform 58"/>
                    <p:cNvSpPr/>
                    <p:nvPr/>
                  </p:nvSpPr>
                  <p:spPr>
                    <a:xfrm flipH="1" rot="2028600">
                      <a:off x="4188600" y="1672560"/>
                      <a:ext cx="164736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Freeform 59"/>
                    <p:cNvSpPr/>
                    <p:nvPr/>
                  </p:nvSpPr>
                  <p:spPr>
                    <a:xfrm flipH="1" rot="2028600">
                      <a:off x="3473640" y="1023480"/>
                      <a:ext cx="884160" cy="4154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60"/>
                  <p:cNvGrpSpPr/>
                  <p:nvPr/>
                </p:nvGrpSpPr>
                <p:grpSpPr>
                  <a:xfrm>
                    <a:off x="3735000" y="411120"/>
                    <a:ext cx="2133720" cy="1900440"/>
                    <a:chOff x="3735000" y="411120"/>
                    <a:chExt cx="2133720" cy="1900440"/>
                  </a:xfrm>
                </p:grpSpPr>
                <p:sp>
                  <p:nvSpPr>
                    <p:cNvPr id="565" name="Freeform 61"/>
                    <p:cNvSpPr/>
                    <p:nvPr/>
                  </p:nvSpPr>
                  <p:spPr>
                    <a:xfrm flipH="1" rot="2664600">
                      <a:off x="4343760" y="1499760"/>
                      <a:ext cx="1671120" cy="2646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Freeform 62"/>
                    <p:cNvSpPr/>
                    <p:nvPr/>
                  </p:nvSpPr>
                  <p:spPr>
                    <a:xfrm flipH="1" rot="2664600">
                      <a:off x="3753000" y="665280"/>
                      <a:ext cx="89748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Group 63"/>
                  <p:cNvGrpSpPr/>
                  <p:nvPr/>
                </p:nvGrpSpPr>
                <p:grpSpPr>
                  <a:xfrm>
                    <a:off x="4378320" y="324720"/>
                    <a:ext cx="1537920" cy="1902600"/>
                    <a:chOff x="4378320" y="324720"/>
                    <a:chExt cx="1537920" cy="1902600"/>
                  </a:xfrm>
                </p:grpSpPr>
                <p:sp>
                  <p:nvSpPr>
                    <p:cNvPr id="568" name="Freeform 64"/>
                    <p:cNvSpPr/>
                    <p:nvPr/>
                  </p:nvSpPr>
                  <p:spPr>
                    <a:xfrm flipH="1" rot="3474000">
                      <a:off x="4754880" y="1432440"/>
                      <a:ext cx="1357560" cy="286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Freeform 65"/>
                    <p:cNvSpPr/>
                    <p:nvPr/>
                  </p:nvSpPr>
                  <p:spPr>
                    <a:xfrm flipH="1" rot="3474000">
                      <a:off x="4399200" y="527040"/>
                      <a:ext cx="729000" cy="452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0" name="Group 66"/>
                  <p:cNvGrpSpPr/>
                  <p:nvPr/>
                </p:nvGrpSpPr>
                <p:grpSpPr>
                  <a:xfrm>
                    <a:off x="4828320" y="239040"/>
                    <a:ext cx="1186200" cy="1956960"/>
                    <a:chOff x="4828320" y="239040"/>
                    <a:chExt cx="1186200" cy="1956960"/>
                  </a:xfrm>
                </p:grpSpPr>
                <p:sp>
                  <p:nvSpPr>
                    <p:cNvPr id="571" name="Freeform 67"/>
                    <p:cNvSpPr/>
                    <p:nvPr/>
                  </p:nvSpPr>
                  <p:spPr>
                    <a:xfrm flipH="1" rot="4126800">
                      <a:off x="4989240" y="1390320"/>
                      <a:ext cx="1308240" cy="287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Freeform 68"/>
                    <p:cNvSpPr/>
                    <p:nvPr/>
                  </p:nvSpPr>
                  <p:spPr>
                    <a:xfrm flipH="1" rot="4126800">
                      <a:off x="4814640" y="422280"/>
                      <a:ext cx="702720" cy="452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3" name="Group 69"/>
                  <p:cNvGrpSpPr/>
                  <p:nvPr/>
                </p:nvGrpSpPr>
                <p:grpSpPr>
                  <a:xfrm>
                    <a:off x="6137640" y="939240"/>
                    <a:ext cx="2499480" cy="1148400"/>
                    <a:chOff x="6137640" y="939240"/>
                    <a:chExt cx="2499480" cy="1148400"/>
                  </a:xfrm>
                </p:grpSpPr>
                <p:sp>
                  <p:nvSpPr>
                    <p:cNvPr id="574" name="Freeform 70"/>
                    <p:cNvSpPr/>
                    <p:nvPr/>
                  </p:nvSpPr>
                  <p:spPr>
                    <a:xfrm rot="20274000">
                      <a:off x="6126840" y="1522440"/>
                      <a:ext cx="16470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Freeform 71"/>
                    <p:cNvSpPr/>
                    <p:nvPr/>
                  </p:nvSpPr>
                  <p:spPr>
                    <a:xfrm rot="20274000">
                      <a:off x="7706880" y="1090080"/>
                      <a:ext cx="8841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Group 72"/>
                  <p:cNvGrpSpPr/>
                  <p:nvPr/>
                </p:nvGrpSpPr>
                <p:grpSpPr>
                  <a:xfrm>
                    <a:off x="5996160" y="607320"/>
                    <a:ext cx="2367360" cy="1503000"/>
                    <a:chOff x="5996160" y="607320"/>
                    <a:chExt cx="2367360" cy="1503000"/>
                  </a:xfrm>
                </p:grpSpPr>
                <p:sp>
                  <p:nvSpPr>
                    <p:cNvPr id="577" name="Freeform 73"/>
                    <p:cNvSpPr/>
                    <p:nvPr/>
                  </p:nvSpPr>
                  <p:spPr>
                    <a:xfrm rot="19678800">
                      <a:off x="5941080" y="1428840"/>
                      <a:ext cx="16470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Freeform 74"/>
                    <p:cNvSpPr/>
                    <p:nvPr/>
                  </p:nvSpPr>
                  <p:spPr>
                    <a:xfrm rot="19678800">
                      <a:off x="7435440" y="809640"/>
                      <a:ext cx="884160" cy="417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Freeform 75"/>
                  <p:cNvSpPr/>
                  <p:nvPr/>
                </p:nvSpPr>
                <p:spPr>
                  <a:xfrm flipH="1" rot="4578600">
                    <a:off x="5214960" y="1459080"/>
                    <a:ext cx="1265040" cy="19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Freeform 76"/>
                  <p:cNvSpPr/>
                  <p:nvPr/>
                </p:nvSpPr>
                <p:spPr>
                  <a:xfrm flipH="1" rot="4578600">
                    <a:off x="5222520" y="525600"/>
                    <a:ext cx="680760" cy="30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1" name="Group 77"/>
                  <p:cNvGrpSpPr/>
                  <p:nvPr/>
                </p:nvGrpSpPr>
                <p:grpSpPr>
                  <a:xfrm>
                    <a:off x="5826960" y="264240"/>
                    <a:ext cx="1257120" cy="1910520"/>
                    <a:chOff x="5826960" y="264240"/>
                    <a:chExt cx="1257120" cy="1910520"/>
                  </a:xfrm>
                </p:grpSpPr>
                <p:sp>
                  <p:nvSpPr>
                    <p:cNvPr id="582" name="Freeform 78"/>
                    <p:cNvSpPr/>
                    <p:nvPr/>
                  </p:nvSpPr>
                  <p:spPr>
                    <a:xfrm rot="17742000">
                      <a:off x="5566680" y="1408320"/>
                      <a:ext cx="1309680" cy="24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79"/>
                    <p:cNvSpPr/>
                    <p:nvPr/>
                  </p:nvSpPr>
                  <p:spPr>
                    <a:xfrm rot="17742000">
                      <a:off x="6406560" y="471240"/>
                      <a:ext cx="702720" cy="38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80"/>
                  <p:cNvGrpSpPr/>
                  <p:nvPr/>
                </p:nvGrpSpPr>
                <p:grpSpPr>
                  <a:xfrm>
                    <a:off x="5834160" y="373320"/>
                    <a:ext cx="1987920" cy="1821600"/>
                    <a:chOff x="5834160" y="373320"/>
                    <a:chExt cx="1987920" cy="1821600"/>
                  </a:xfrm>
                </p:grpSpPr>
                <p:sp>
                  <p:nvSpPr>
                    <p:cNvPr id="585" name="Freeform 81"/>
                    <p:cNvSpPr/>
                    <p:nvPr/>
                  </p:nvSpPr>
                  <p:spPr>
                    <a:xfrm rot="18822600">
                      <a:off x="5744520" y="1374120"/>
                      <a:ext cx="1424520" cy="361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82"/>
                    <p:cNvSpPr/>
                    <p:nvPr/>
                  </p:nvSpPr>
                  <p:spPr>
                    <a:xfrm rot="18822600">
                      <a:off x="6970680" y="562680"/>
                      <a:ext cx="765360" cy="56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83"/>
                  <p:cNvGrpSpPr/>
                  <p:nvPr/>
                </p:nvGrpSpPr>
                <p:grpSpPr>
                  <a:xfrm>
                    <a:off x="5919840" y="290880"/>
                    <a:ext cx="452160" cy="1796760"/>
                    <a:chOff x="5919840" y="290880"/>
                    <a:chExt cx="452160" cy="1796760"/>
                  </a:xfrm>
                </p:grpSpPr>
                <p:sp>
                  <p:nvSpPr>
                    <p:cNvPr id="588" name="Freeform 222"/>
                    <p:cNvSpPr/>
                    <p:nvPr/>
                  </p:nvSpPr>
                  <p:spPr>
                    <a:xfrm rot="16696200">
                      <a:off x="5472720" y="1440000"/>
                      <a:ext cx="1176120" cy="11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223"/>
                    <p:cNvSpPr/>
                    <p:nvPr/>
                  </p:nvSpPr>
                  <p:spPr>
                    <a:xfrm rot="16696200">
                      <a:off x="5922360" y="526680"/>
                      <a:ext cx="631440" cy="178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86"/>
                  <p:cNvGrpSpPr/>
                  <p:nvPr/>
                </p:nvGrpSpPr>
                <p:grpSpPr>
                  <a:xfrm>
                    <a:off x="3343680" y="2518920"/>
                    <a:ext cx="2301120" cy="3029040"/>
                    <a:chOff x="3343680" y="2518920"/>
                    <a:chExt cx="2301120" cy="3029040"/>
                  </a:xfrm>
                </p:grpSpPr>
                <p:sp>
                  <p:nvSpPr>
                    <p:cNvPr id="591" name="Freeform 87"/>
                    <p:cNvSpPr/>
                    <p:nvPr/>
                  </p:nvSpPr>
                  <p:spPr>
                    <a:xfrm flipH="1" rot="18336000">
                      <a:off x="3794040" y="3295800"/>
                      <a:ext cx="212544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88"/>
                    <p:cNvSpPr/>
                    <p:nvPr/>
                  </p:nvSpPr>
                  <p:spPr>
                    <a:xfrm flipH="1" rot="18336000">
                      <a:off x="3371760" y="4565880"/>
                      <a:ext cx="1139040" cy="65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89"/>
                  <p:cNvGrpSpPr/>
                  <p:nvPr/>
                </p:nvGrpSpPr>
                <p:grpSpPr>
                  <a:xfrm>
                    <a:off x="4122000" y="2642400"/>
                    <a:ext cx="1559160" cy="3017160"/>
                    <a:chOff x="4122000" y="2642400"/>
                    <a:chExt cx="1559160" cy="3017160"/>
                  </a:xfrm>
                </p:grpSpPr>
                <p:sp>
                  <p:nvSpPr>
                    <p:cNvPr id="594" name="Freeform 90"/>
                    <p:cNvSpPr/>
                    <p:nvPr/>
                  </p:nvSpPr>
                  <p:spPr>
                    <a:xfrm flipH="1" rot="17543400">
                      <a:off x="4130280" y="3422520"/>
                      <a:ext cx="19666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91"/>
                    <p:cNvSpPr/>
                    <p:nvPr/>
                  </p:nvSpPr>
                  <p:spPr>
                    <a:xfrm flipH="1" rot="17543400">
                      <a:off x="4097880" y="4719240"/>
                      <a:ext cx="1055160" cy="6552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92"/>
                  <p:cNvGrpSpPr/>
                  <p:nvPr/>
                </p:nvGrpSpPr>
                <p:grpSpPr>
                  <a:xfrm>
                    <a:off x="4891680" y="2698920"/>
                    <a:ext cx="919800" cy="2934000"/>
                    <a:chOff x="4891680" y="2698920"/>
                    <a:chExt cx="919800" cy="2934000"/>
                  </a:xfrm>
                </p:grpSpPr>
                <p:sp>
                  <p:nvSpPr>
                    <p:cNvPr id="597" name="Freeform 93"/>
                    <p:cNvSpPr/>
                    <p:nvPr/>
                  </p:nvSpPr>
                  <p:spPr>
                    <a:xfrm flipH="1" rot="16870800">
                      <a:off x="4501800" y="3473640"/>
                      <a:ext cx="1887120" cy="373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94"/>
                    <p:cNvSpPr/>
                    <p:nvPr/>
                  </p:nvSpPr>
                  <p:spPr>
                    <a:xfrm flipH="1" rot="16870800">
                      <a:off x="4771440" y="4785480"/>
                      <a:ext cx="1012320" cy="587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95"/>
                  <p:cNvGrpSpPr/>
                  <p:nvPr/>
                </p:nvGrpSpPr>
                <p:grpSpPr>
                  <a:xfrm>
                    <a:off x="6205680" y="2472120"/>
                    <a:ext cx="2385720" cy="2978640"/>
                    <a:chOff x="6205680" y="2472120"/>
                    <a:chExt cx="2385720" cy="2978640"/>
                  </a:xfrm>
                </p:grpSpPr>
                <p:sp>
                  <p:nvSpPr>
                    <p:cNvPr id="600" name="Freeform 96"/>
                    <p:cNvSpPr/>
                    <p:nvPr/>
                  </p:nvSpPr>
                  <p:spPr>
                    <a:xfrm rot="3144000">
                      <a:off x="5956200" y="3232800"/>
                      <a:ext cx="212616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97"/>
                    <p:cNvSpPr/>
                    <p:nvPr/>
                  </p:nvSpPr>
                  <p:spPr>
                    <a:xfrm rot="3144000">
                      <a:off x="7415640" y="4473360"/>
                      <a:ext cx="1139040" cy="653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98"/>
                  <p:cNvGrpSpPr/>
                  <p:nvPr/>
                </p:nvGrpSpPr>
                <p:grpSpPr>
                  <a:xfrm>
                    <a:off x="6158160" y="2585520"/>
                    <a:ext cx="1843560" cy="3051360"/>
                    <a:chOff x="6158160" y="2585520"/>
                    <a:chExt cx="1843560" cy="3051360"/>
                  </a:xfrm>
                </p:grpSpPr>
                <p:sp>
                  <p:nvSpPr>
                    <p:cNvPr id="603" name="Freeform 99"/>
                    <p:cNvSpPr/>
                    <p:nvPr/>
                  </p:nvSpPr>
                  <p:spPr>
                    <a:xfrm rot="3745200">
                      <a:off x="5788800" y="3379320"/>
                      <a:ext cx="2033280" cy="399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100"/>
                    <p:cNvSpPr/>
                    <p:nvPr/>
                  </p:nvSpPr>
                  <p:spPr>
                    <a:xfrm rot="3745200">
                      <a:off x="6926760" y="4695840"/>
                      <a:ext cx="1090080" cy="62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101"/>
                  <p:cNvGrpSpPr/>
                  <p:nvPr/>
                </p:nvGrpSpPr>
                <p:grpSpPr>
                  <a:xfrm>
                    <a:off x="6067080" y="2706840"/>
                    <a:ext cx="1288800" cy="2996640"/>
                    <a:chOff x="6067080" y="2706840"/>
                    <a:chExt cx="1288800" cy="2996640"/>
                  </a:xfrm>
                </p:grpSpPr>
                <p:sp>
                  <p:nvSpPr>
                    <p:cNvPr id="606" name="Freeform 102"/>
                    <p:cNvSpPr/>
                    <p:nvPr/>
                  </p:nvSpPr>
                  <p:spPr>
                    <a:xfrm rot="4286400">
                      <a:off x="5550120" y="3529800"/>
                      <a:ext cx="1972800" cy="32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103"/>
                    <p:cNvSpPr/>
                    <p:nvPr/>
                  </p:nvSpPr>
                  <p:spPr>
                    <a:xfrm rot="4286400">
                      <a:off x="6413400" y="4861440"/>
                      <a:ext cx="1059120" cy="515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Group 104"/>
                  <p:cNvGrpSpPr/>
                  <p:nvPr/>
                </p:nvGrpSpPr>
                <p:grpSpPr>
                  <a:xfrm>
                    <a:off x="5994000" y="2836800"/>
                    <a:ext cx="735480" cy="2784240"/>
                    <a:chOff x="5994000" y="2836800"/>
                    <a:chExt cx="735480" cy="2784240"/>
                  </a:xfrm>
                </p:grpSpPr>
                <p:sp>
                  <p:nvSpPr>
                    <p:cNvPr id="609" name="Freeform 105"/>
                    <p:cNvSpPr/>
                    <p:nvPr/>
                  </p:nvSpPr>
                  <p:spPr>
                    <a:xfrm rot="4898400">
                      <a:off x="5380920" y="3593880"/>
                      <a:ext cx="1814040" cy="328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Freeform 106"/>
                    <p:cNvSpPr/>
                    <p:nvPr/>
                  </p:nvSpPr>
                  <p:spPr>
                    <a:xfrm rot="4898400">
                      <a:off x="5917320" y="4844520"/>
                      <a:ext cx="974160" cy="51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Group 107"/>
                  <p:cNvGrpSpPr/>
                  <p:nvPr/>
                </p:nvGrpSpPr>
                <p:grpSpPr>
                  <a:xfrm>
                    <a:off x="5379480" y="2885760"/>
                    <a:ext cx="707400" cy="2720520"/>
                    <a:chOff x="5379480" y="2885760"/>
                    <a:chExt cx="707400" cy="2720520"/>
                  </a:xfrm>
                </p:grpSpPr>
                <p:sp>
                  <p:nvSpPr>
                    <p:cNvPr id="612" name="Freeform 108"/>
                    <p:cNvSpPr/>
                    <p:nvPr/>
                  </p:nvSpPr>
                  <p:spPr>
                    <a:xfrm rot="5755200">
                      <a:off x="4984200" y="3654360"/>
                      <a:ext cx="1772280" cy="250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Freeform 109"/>
                    <p:cNvSpPr/>
                    <p:nvPr/>
                  </p:nvSpPr>
                  <p:spPr>
                    <a:xfrm rot="5755200">
                      <a:off x="5149800" y="4915080"/>
                      <a:ext cx="950760" cy="395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4" name="Group 110"/>
              <p:cNvGrpSpPr/>
              <p:nvPr/>
            </p:nvGrpSpPr>
            <p:grpSpPr>
              <a:xfrm>
                <a:off x="2356200" y="681480"/>
                <a:ext cx="7293600" cy="4521960"/>
                <a:chOff x="2356200" y="681480"/>
                <a:chExt cx="7293600" cy="4521960"/>
              </a:xfrm>
            </p:grpSpPr>
            <p:grpSp>
              <p:nvGrpSpPr>
                <p:cNvPr id="615" name="Group 111"/>
                <p:cNvGrpSpPr/>
                <p:nvPr/>
              </p:nvGrpSpPr>
              <p:grpSpPr>
                <a:xfrm>
                  <a:off x="2356200" y="681480"/>
                  <a:ext cx="7293600" cy="4521960"/>
                  <a:chOff x="2356200" y="681480"/>
                  <a:chExt cx="7293600" cy="4521960"/>
                </a:xfrm>
              </p:grpSpPr>
              <p:sp>
                <p:nvSpPr>
                  <p:cNvPr id="616" name="Arc 112"/>
                  <p:cNvSpPr/>
                  <p:nvPr/>
                </p:nvSpPr>
                <p:spPr>
                  <a:xfrm flipV="1">
                    <a:off x="6220080" y="857520"/>
                    <a:ext cx="3429720" cy="25243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Arc 113"/>
                  <p:cNvSpPr/>
                  <p:nvPr/>
                </p:nvSpPr>
                <p:spPr>
                  <a:xfrm flipH="1">
                    <a:off x="2773800" y="2269800"/>
                    <a:ext cx="2694600" cy="293364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Arc 114"/>
                  <p:cNvSpPr/>
                  <p:nvPr/>
                </p:nvSpPr>
                <p:spPr>
                  <a:xfrm>
                    <a:off x="6304320" y="1751760"/>
                    <a:ext cx="190368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Arc 115"/>
                  <p:cNvSpPr/>
                  <p:nvPr/>
                </p:nvSpPr>
                <p:spPr>
                  <a:xfrm flipH="1">
                    <a:off x="2356200" y="1296720"/>
                    <a:ext cx="3393360" cy="293472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Arc 116"/>
                  <p:cNvSpPr/>
                  <p:nvPr/>
                </p:nvSpPr>
                <p:spPr>
                  <a:xfrm flipH="1">
                    <a:off x="3312000" y="681480"/>
                    <a:ext cx="246996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Arc 117"/>
                  <p:cNvSpPr/>
                  <p:nvPr/>
                </p:nvSpPr>
                <p:spPr>
                  <a:xfrm>
                    <a:off x="5948640" y="1875240"/>
                    <a:ext cx="1020600" cy="284112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Freeform 118"/>
                  <p:cNvSpPr/>
                  <p:nvPr/>
                </p:nvSpPr>
                <p:spPr>
                  <a:xfrm flipH="1">
                    <a:off x="4661640" y="835560"/>
                    <a:ext cx="558360" cy="187956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9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" name="Freeform 119"/>
                <p:cNvSpPr/>
                <p:nvPr/>
              </p:nvSpPr>
              <p:spPr>
                <a:xfrm rot="20253000">
                  <a:off x="6639480" y="2180880"/>
                  <a:ext cx="590400" cy="103212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4" name="Group 120"/>
            <p:cNvGrpSpPr/>
            <p:nvPr/>
          </p:nvGrpSpPr>
          <p:grpSpPr>
            <a:xfrm>
              <a:off x="2539080" y="716040"/>
              <a:ext cx="6940800" cy="4709160"/>
              <a:chOff x="2539080" y="716040"/>
              <a:chExt cx="6940800" cy="4709160"/>
            </a:xfrm>
          </p:grpSpPr>
          <p:sp>
            <p:nvSpPr>
              <p:cNvPr id="625" name="Freeform 121"/>
              <p:cNvSpPr/>
              <p:nvPr/>
            </p:nvSpPr>
            <p:spPr>
              <a:xfrm flipH="1">
                <a:off x="4842720" y="3238560"/>
                <a:ext cx="64584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Arc 122"/>
              <p:cNvSpPr/>
              <p:nvPr/>
            </p:nvSpPr>
            <p:spPr>
              <a:xfrm flipH="1">
                <a:off x="3666960" y="2583360"/>
                <a:ext cx="2833560" cy="28418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Arc 123"/>
              <p:cNvSpPr/>
              <p:nvPr/>
            </p:nvSpPr>
            <p:spPr>
              <a:xfrm flipH="1">
                <a:off x="3948840" y="2125800"/>
                <a:ext cx="166068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Arc 124"/>
              <p:cNvSpPr/>
              <p:nvPr/>
            </p:nvSpPr>
            <p:spPr>
              <a:xfrm flipH="1">
                <a:off x="2538720" y="1742040"/>
                <a:ext cx="317268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Arc 125"/>
              <p:cNvSpPr/>
              <p:nvPr/>
            </p:nvSpPr>
            <p:spPr>
              <a:xfrm>
                <a:off x="6052320" y="2154240"/>
                <a:ext cx="507240" cy="29343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Arc 126"/>
              <p:cNvSpPr/>
              <p:nvPr/>
            </p:nvSpPr>
            <p:spPr>
              <a:xfrm>
                <a:off x="6184800" y="2140560"/>
                <a:ext cx="1339200" cy="29343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Freeform 127"/>
              <p:cNvSpPr/>
              <p:nvPr/>
            </p:nvSpPr>
            <p:spPr>
              <a:xfrm>
                <a:off x="6666480" y="3550680"/>
                <a:ext cx="64620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128"/>
              <p:cNvSpPr/>
              <p:nvPr/>
            </p:nvSpPr>
            <p:spPr>
              <a:xfrm flipV="1" rot="19660800">
                <a:off x="5658120" y="2950560"/>
                <a:ext cx="590040" cy="1033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Freeform 129"/>
              <p:cNvSpPr/>
              <p:nvPr/>
            </p:nvSpPr>
            <p:spPr>
              <a:xfrm flipH="1">
                <a:off x="2912400" y="3387960"/>
                <a:ext cx="144828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130"/>
              <p:cNvSpPr/>
              <p:nvPr/>
            </p:nvSpPr>
            <p:spPr>
              <a:xfrm flipH="1">
                <a:off x="3593520" y="1401840"/>
                <a:ext cx="929160" cy="1879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Freeform 131"/>
              <p:cNvSpPr/>
              <p:nvPr/>
            </p:nvSpPr>
            <p:spPr>
              <a:xfrm>
                <a:off x="8135280" y="3111480"/>
                <a:ext cx="13446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132"/>
              <p:cNvSpPr/>
              <p:nvPr/>
            </p:nvSpPr>
            <p:spPr>
              <a:xfrm>
                <a:off x="7437240" y="2113560"/>
                <a:ext cx="202680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133"/>
              <p:cNvSpPr/>
              <p:nvPr/>
            </p:nvSpPr>
            <p:spPr>
              <a:xfrm>
                <a:off x="7511760" y="716040"/>
                <a:ext cx="88488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134"/>
              <p:cNvSpPr/>
              <p:nvPr/>
            </p:nvSpPr>
            <p:spPr>
              <a:xfrm flipH="1" rot="1347000">
                <a:off x="4531320" y="2157840"/>
                <a:ext cx="591120" cy="1032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42680" y="301320"/>
            <a:ext cx="842004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2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6D27-9A52-46F0-AEF1-8361A023C1A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681" name="Freeform 3"/>
            <p:cNvSpPr/>
            <p:nvPr/>
          </p:nvSpPr>
          <p:spPr>
            <a:xfrm>
              <a:off x="0" y="3981600"/>
              <a:ext cx="368424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4"/>
            <p:cNvSpPr/>
            <p:nvPr/>
          </p:nvSpPr>
          <p:spPr>
            <a:xfrm>
              <a:off x="0" y="3902040"/>
              <a:ext cx="318888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5"/>
            <p:cNvSpPr/>
            <p:nvPr/>
          </p:nvSpPr>
          <p:spPr>
            <a:xfrm>
              <a:off x="0" y="4341960"/>
              <a:ext cx="300132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6"/>
            <p:cNvSpPr/>
            <p:nvPr/>
          </p:nvSpPr>
          <p:spPr>
            <a:xfrm>
              <a:off x="0" y="4038480"/>
              <a:ext cx="300132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359640" y="4419720"/>
              <a:ext cx="1490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17C3-9DB1-4830-91F5-EE291CF343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5"/>
          <p:cNvSpPr/>
          <p:nvPr/>
        </p:nvSpPr>
        <p:spPr>
          <a:xfrm>
            <a:off x="1911240" y="3070080"/>
            <a:ext cx="655164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7"/>
          <p:cNvSpPr/>
          <p:nvPr/>
        </p:nvSpPr>
        <p:spPr>
          <a:xfrm>
            <a:off x="0" y="6093000"/>
            <a:ext cx="9906120" cy="765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3300"/>
              </a:gs>
              <a:gs pos="100000">
                <a:srgbClr val="fe1f08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Rounded MT Bold"/>
              </a:rPr>
              <a:t>Wujudkan Masyarakat Sadar dan Peduli Paja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426960" y="189000"/>
            <a:ext cx="9128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817560" y="1052640"/>
            <a:ext cx="866124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ITC Avant Garde Gothic Demi"/>
              </a:rPr>
              <a:t>Pajak Bumi dan Bangunan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18"/>
          <p:cNvSpPr/>
          <p:nvPr/>
        </p:nvSpPr>
        <p:spPr>
          <a:xfrm>
            <a:off x="1208160" y="2852640"/>
            <a:ext cx="811188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Rounded MT Bold"/>
              </a:rPr>
              <a:t>Kelas /Semester : XI / 1 (satu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Rounded MT Bold"/>
              </a:rPr>
              <a:t>S. IMAM SUJA’I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Rounded MT Bold"/>
              </a:rPr>
              <a:t>SMA Negeri 5 Balikpapan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 Rounded MT Bold"/>
              </a:rPr>
              <a:t>Kalimantan Timu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WordArt 4"/>
          <p:cNvSpPr txBox="1"/>
          <p:nvPr/>
        </p:nvSpPr>
        <p:spPr>
          <a:xfrm>
            <a:off x="817560" y="262080"/>
            <a:ext cx="4602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a NJOP ?</a:t>
            </a:r>
            <a:endParaRPr b="0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976320" y="1197000"/>
            <a:ext cx="8424720" cy="21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Comic Sans MS"/>
              </a:rPr>
              <a:t>Seluruh nilai aset / obyek yang telah dihitung dengan cara mengalikan harga yang berlaku </a:t>
            </a:r>
            <a:r>
              <a:rPr b="0" lang="en-US" sz="3300" spc="-1" strike="noStrike">
                <a:solidFill>
                  <a:srgbClr val="ffffff"/>
                </a:solidFill>
                <a:latin typeface="Comic Sans MS"/>
              </a:rPr>
              <a:t>yang</a:t>
            </a:r>
            <a:r>
              <a:rPr b="0" lang="id-ID" sz="3300" spc="-1" strike="noStrike">
                <a:solidFill>
                  <a:srgbClr val="ffffff"/>
                </a:solidFill>
                <a:latin typeface="Comic Sans MS"/>
              </a:rPr>
              <a:t> telah ditetapkan oleh kantor pajak. </a:t>
            </a:r>
            <a:r>
              <a:rPr b="0" i="1" lang="id-ID" sz="3300" spc="-1" strike="noStrike">
                <a:solidFill>
                  <a:srgbClr val="ff3300"/>
                </a:solidFill>
                <a:latin typeface="Comic Sans MS"/>
              </a:rPr>
              <a:t>“Lihat SPPT”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92"/>
          <p:cNvSpPr/>
          <p:nvPr/>
        </p:nvSpPr>
        <p:spPr>
          <a:xfrm>
            <a:off x="426960" y="692280"/>
            <a:ext cx="0" cy="583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Line 93"/>
          <p:cNvSpPr/>
          <p:nvPr/>
        </p:nvSpPr>
        <p:spPr>
          <a:xfrm>
            <a:off x="426960" y="6524640"/>
            <a:ext cx="756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95"/>
          <p:cNvSpPr/>
          <p:nvPr/>
        </p:nvSpPr>
        <p:spPr>
          <a:xfrm flipV="1">
            <a:off x="7994520" y="6165360"/>
            <a:ext cx="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96"/>
          <p:cNvSpPr/>
          <p:nvPr/>
        </p:nvSpPr>
        <p:spPr>
          <a:xfrm>
            <a:off x="426960" y="692280"/>
            <a:ext cx="235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1130400" y="3284640"/>
          <a:ext cx="8034120" cy="2479680"/>
        </p:xfrm>
        <a:graphic>
          <a:graphicData uri="http://schemas.openxmlformats.org/drawingml/2006/table">
            <a:tbl>
              <a:tblPr/>
              <a:tblGrid>
                <a:gridCol w="623880"/>
                <a:gridCol w="1749240"/>
                <a:gridCol w="1224000"/>
                <a:gridCol w="2149560"/>
                <a:gridCol w="2287440"/>
              </a:tblGrid>
              <a:tr h="57600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No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Obyek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Luas/m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Harg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0000"/>
                          </a:solidFill>
                          <a:latin typeface="Comic Sans MS"/>
                          <a:ea typeface="Arial"/>
                        </a:rPr>
                        <a:t>Jumlah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47628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Tanah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62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Rp  140.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 </a:t>
                      </a: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86.800.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Bangunan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14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Rp  975.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 </a:t>
                      </a: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140.400.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Jumlah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1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227.200.000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WordArt 4"/>
          <p:cNvSpPr txBox="1"/>
          <p:nvPr/>
        </p:nvSpPr>
        <p:spPr>
          <a:xfrm>
            <a:off x="2066760" y="692280"/>
            <a:ext cx="6944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pa NJTKP ?</a:t>
            </a:r>
            <a:endParaRPr b="0" lang="en-US" sz="19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4" name="AutoShape 5"/>
          <p:cNvSpPr/>
          <p:nvPr/>
        </p:nvSpPr>
        <p:spPr>
          <a:xfrm>
            <a:off x="1208160" y="1484280"/>
            <a:ext cx="703080" cy="1727280"/>
          </a:xfrm>
          <a:custGeom>
            <a:avLst/>
            <a:gdLst>
              <a:gd name="textAreaLeft" fmla="*/ 93960 w 703080"/>
              <a:gd name="textAreaRight" fmla="*/ 609120 w 703080"/>
              <a:gd name="textAreaTop" fmla="*/ 302040 h 1727280"/>
              <a:gd name="textAreaBottom" fmla="*/ 1252440 h 172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2690640" y="2565360"/>
            <a:ext cx="6944040" cy="38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Comic Sans MS"/>
              </a:rPr>
              <a:t>Adalah Nilai Jual Tidak Kena Pajak, dimana Pemerintah telah menetapkan bahwa besarnya Rp. 8.000.000,-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cc00"/>
                </a:solidFill>
                <a:latin typeface="Comic Sans MS"/>
              </a:rPr>
              <a:t>Apabila NJOP tidak sampai pada NJTKP maka tidak wajib dikenakan pajak (PBB)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AutoShape 8"/>
          <p:cNvSpPr/>
          <p:nvPr/>
        </p:nvSpPr>
        <p:spPr>
          <a:xfrm>
            <a:off x="271440" y="3430440"/>
            <a:ext cx="2106720" cy="2662560"/>
          </a:xfrm>
          <a:prstGeom prst="cloudCallout">
            <a:avLst>
              <a:gd name="adj1" fmla="val -20726"/>
              <a:gd name="adj2" fmla="val 91671"/>
            </a:avLst>
          </a:prstGeom>
          <a:solidFill>
            <a:srgbClr val="1414e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UU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No.20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Comic Sans MS"/>
              </a:rPr>
              <a:t>2000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5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WordArt 4"/>
          <p:cNvSpPr txBox="1"/>
          <p:nvPr/>
        </p:nvSpPr>
        <p:spPr>
          <a:xfrm>
            <a:off x="585720" y="765000"/>
            <a:ext cx="3792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a NJKP ?</a:t>
            </a:r>
            <a:endParaRPr b="0" lang="en-US" sz="19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754280" y="1916280"/>
          <a:ext cx="7021440" cy="3043080"/>
        </p:xfrm>
        <a:graphic>
          <a:graphicData uri="http://schemas.openxmlformats.org/drawingml/2006/table">
            <a:tbl>
              <a:tblPr/>
              <a:tblGrid>
                <a:gridCol w="687240"/>
                <a:gridCol w="3081240"/>
                <a:gridCol w="3252960"/>
              </a:tblGrid>
              <a:tr h="60480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7960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Keteranga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7960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Jumla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7960"/>
                    </a:solidFill>
                  </a:tcPr>
                </a:tc>
              </a:tr>
              <a:tr h="62208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J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Rp    92.000.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JTK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Rp      8.000.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NJK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 </a:t>
                      </a:r>
                      <a:r>
                        <a:rPr b="0" lang="id-ID" sz="2400" spc="-1" strike="noStrike">
                          <a:solidFill>
                            <a:srgbClr val="ffffff"/>
                          </a:solidFill>
                          <a:latin typeface="Comic Sans MS"/>
                          <a:ea typeface="Arial"/>
                        </a:rPr>
                        <a:t>Rp    84.000.0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1" name="Line 120"/>
          <p:cNvSpPr/>
          <p:nvPr/>
        </p:nvSpPr>
        <p:spPr>
          <a:xfrm>
            <a:off x="1285920" y="2060640"/>
            <a:ext cx="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121"/>
          <p:cNvSpPr/>
          <p:nvPr/>
        </p:nvSpPr>
        <p:spPr>
          <a:xfrm>
            <a:off x="1442880" y="5514840"/>
            <a:ext cx="10922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Line 122"/>
          <p:cNvSpPr/>
          <p:nvPr/>
        </p:nvSpPr>
        <p:spPr>
          <a:xfrm flipV="1">
            <a:off x="7605720" y="5013000"/>
            <a:ext cx="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-1.11111E-006 0.44097 E">
                                      <p:cBhvr>
                                        <p:cTn id="276" dur="2000" fill="hold"/>
                                        <p:tgtEl>
                                          <p:spTgt spid="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48148E-006 L 0.55921 -1.48148E-006 E">
                                      <p:cBhvr>
                                        <p:cTn id="285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WordArt 4"/>
          <p:cNvSpPr txBox="1"/>
          <p:nvPr/>
        </p:nvSpPr>
        <p:spPr>
          <a:xfrm>
            <a:off x="1285920" y="1052640"/>
            <a:ext cx="63975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pa SPPT ?</a:t>
            </a:r>
            <a:endParaRPr b="0" i="1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2612880" y="1844640"/>
            <a:ext cx="678816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Comic Sans MS"/>
              </a:rPr>
              <a:t>Surat Pemberitahuan Pajak Terutang yang dikeluarkan oleh Direktorat Jenderal Pajak / Kantor Pajak Daerah yang diberikan kepada wajib pajak yang memiliki obyek setiap tahun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Oval 6"/>
          <p:cNvSpPr/>
          <p:nvPr/>
        </p:nvSpPr>
        <p:spPr>
          <a:xfrm>
            <a:off x="3784680" y="5230800"/>
            <a:ext cx="5379840" cy="129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Orang Bijak Taat Membaya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omic Sans MS"/>
              </a:rPr>
              <a:t>Paja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AutoShape 7"/>
          <p:cNvSpPr/>
          <p:nvPr/>
        </p:nvSpPr>
        <p:spPr>
          <a:xfrm>
            <a:off x="0" y="2781360"/>
            <a:ext cx="2457360" cy="3024000"/>
          </a:xfrm>
          <a:prstGeom prst="cloudCallout">
            <a:avLst>
              <a:gd name="adj1" fmla="val -42444"/>
              <a:gd name="adj2" fmla="val 59921"/>
            </a:avLst>
          </a:prstGeom>
          <a:gradFill rotWithShape="0">
            <a:gsLst>
              <a:gs pos="0">
                <a:srgbClr val="ff33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Dirje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Paja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Republik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900" spc="-1" strike="noStrike">
                <a:solidFill>
                  <a:srgbClr val="000066"/>
                </a:solidFill>
                <a:latin typeface="Arial"/>
              </a:rPr>
              <a:t>Indonesia atau Kantor Pajak  Daerah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4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4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5" descr="scan0002"/>
          <p:cNvPicPr/>
          <p:nvPr/>
        </p:nvPicPr>
        <p:blipFill>
          <a:blip r:embed="rId2"/>
          <a:stretch/>
        </p:blipFill>
        <p:spPr>
          <a:xfrm>
            <a:off x="247680" y="836640"/>
            <a:ext cx="9387000" cy="5832360"/>
          </a:xfrm>
          <a:prstGeom prst="rect">
            <a:avLst/>
          </a:prstGeom>
          <a:ln w="0">
            <a:noFill/>
          </a:ln>
        </p:spPr>
      </p:pic>
      <p:sp>
        <p:nvSpPr>
          <p:cNvPr id="813" name="WordArt 6"/>
          <p:cNvSpPr txBox="1"/>
          <p:nvPr/>
        </p:nvSpPr>
        <p:spPr>
          <a:xfrm>
            <a:off x="426960" y="189000"/>
            <a:ext cx="3900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oh SPPT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4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WordArt 4"/>
          <p:cNvSpPr txBox="1"/>
          <p:nvPr/>
        </p:nvSpPr>
        <p:spPr>
          <a:xfrm>
            <a:off x="585720" y="262080"/>
            <a:ext cx="60832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a Menghitung PBB ?</a:t>
            </a:r>
            <a:endParaRPr b="0" lang="en-US" sz="19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735120" y="1266840"/>
          <a:ext cx="8439120" cy="6080040"/>
        </p:xfrm>
        <a:graphic>
          <a:graphicData uri="http://schemas.openxmlformats.org/drawingml/2006/table">
            <a:tbl>
              <a:tblPr/>
              <a:tblGrid>
                <a:gridCol w="1981080"/>
                <a:gridCol w="920880"/>
                <a:gridCol w="826920"/>
                <a:gridCol w="2179800"/>
                <a:gridCol w="2530440"/>
              </a:tblGrid>
              <a:tr h="446400"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Obyek Pajak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Lua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5760" rIns="95760" tIns="47880" bIns="478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Kela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NJOP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Per M2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Jumlah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Bumi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14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A-29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 103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14.420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640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Banguna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5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A-07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 429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21.450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40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 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NJOP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35.870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NJTKP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  8.000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400">
                <a:tc gridSpan="4"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NJKP untuk perhitungan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27.870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NJKP.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2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Rp     5.574.000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668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PBB terutang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0,5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r>
                        <a:rPr b="0" lang="id-ID" sz="2300" spc="-1" strike="noStrike">
                          <a:solidFill>
                            <a:srgbClr val="ff3300"/>
                          </a:solidFill>
                          <a:latin typeface="AvantGarde Bk BT"/>
                          <a:ea typeface="Arial"/>
                        </a:rPr>
                        <a:t>Rp          27.870</a:t>
                      </a:r>
                      <a:r>
                        <a:rPr b="0" lang="id-ID" sz="2300" spc="-1" strike="noStrike">
                          <a:solidFill>
                            <a:srgbClr val="ffffff"/>
                          </a:solidFill>
                          <a:latin typeface="AvantGarde Bk BT"/>
                          <a:ea typeface="Arial"/>
                        </a:rPr>
                        <a:t> 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5760" rIns="95760" tIns="47880" bIns="47880" anchor="b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58680"/>
                          <a:tab algn="l" pos="1917720"/>
                          <a:tab algn="l" pos="2876400"/>
                          <a:tab algn="l" pos="3835440"/>
                          <a:tab algn="l" pos="4794120"/>
                          <a:tab algn="l" pos="5753160"/>
                          <a:tab algn="l" pos="6711840"/>
                          <a:tab algn="l" pos="7670880"/>
                          <a:tab algn="l" pos="8629560"/>
                          <a:tab algn="l" pos="9588600"/>
                          <a:tab algn="l" pos="1054728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5760" marR="9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8" name="WordArt 190"/>
          <p:cNvSpPr txBox="1"/>
          <p:nvPr/>
        </p:nvSpPr>
        <p:spPr>
          <a:xfrm>
            <a:off x="7058160" y="333360"/>
            <a:ext cx="25765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BB yang harus dibaya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9" name="AutoShape 204"/>
          <p:cNvSpPr/>
          <p:nvPr/>
        </p:nvSpPr>
        <p:spPr>
          <a:xfrm>
            <a:off x="4016520" y="5229360"/>
            <a:ext cx="1009440" cy="360360"/>
          </a:xfrm>
          <a:custGeom>
            <a:avLst/>
            <a:gdLst>
              <a:gd name="textAreaLeft" fmla="*/ 23040 w 1009440"/>
              <a:gd name="textAreaRight" fmla="*/ 986400 w 100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467" h="21600">
                <a:moveTo>
                  <a:pt x="0" y="0"/>
                </a:moveTo>
                <a:lnTo>
                  <a:pt x="60467" y="0"/>
                </a:lnTo>
                <a:lnTo>
                  <a:pt x="60467" y="21600"/>
                </a:lnTo>
                <a:lnTo>
                  <a:pt x="0" y="21600"/>
                </a:lnTo>
                <a:close/>
              </a:path>
              <a:path fill="lightenLess" w="60467" h="21600">
                <a:moveTo>
                  <a:pt x="0" y="0"/>
                </a:moveTo>
                <a:lnTo>
                  <a:pt x="60467" y="0"/>
                </a:lnTo>
                <a:lnTo>
                  <a:pt x="59067" y="1400"/>
                </a:lnTo>
                <a:lnTo>
                  <a:pt x="1400" y="1400"/>
                </a:lnTo>
                <a:close/>
              </a:path>
              <a:path fill="darken" w="60467" h="21600">
                <a:moveTo>
                  <a:pt x="60467" y="0"/>
                </a:moveTo>
                <a:lnTo>
                  <a:pt x="60467" y="21600"/>
                </a:lnTo>
                <a:lnTo>
                  <a:pt x="59067" y="20200"/>
                </a:lnTo>
                <a:lnTo>
                  <a:pt x="59067" y="1400"/>
                </a:lnTo>
                <a:close/>
              </a:path>
              <a:path fill="darkenLess" w="60467" h="21600">
                <a:moveTo>
                  <a:pt x="6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67" y="20200"/>
                </a:lnTo>
                <a:close/>
              </a:path>
              <a:path fill="lighten" w="6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PBB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AutoShape 206"/>
          <p:cNvSpPr/>
          <p:nvPr/>
        </p:nvSpPr>
        <p:spPr>
          <a:xfrm>
            <a:off x="4376880" y="4221000"/>
            <a:ext cx="2016000" cy="863640"/>
          </a:xfrm>
          <a:prstGeom prst="cloudCallout">
            <a:avLst>
              <a:gd name="adj1" fmla="val -50472"/>
              <a:gd name="adj2" fmla="val 4025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ik d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B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9474120" y="638172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8969400" y="638172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WordArt 4"/>
          <p:cNvSpPr txBox="1"/>
          <p:nvPr/>
        </p:nvSpPr>
        <p:spPr>
          <a:xfrm>
            <a:off x="351000" y="333360"/>
            <a:ext cx="56656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enghitung PBB !</a:t>
            </a:r>
            <a:endParaRPr b="0" lang="en-US" sz="1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3224160" y="1557360"/>
            <a:ext cx="6176880" cy="45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Diketahui Tuan Ali Marwan memiliki obyek pajak yang terletak di Jalan Syarifuddin Yos dengan luas tanah 1.100 m dengan harga Rp. 120.000,- /m, sedangkan luas bangunan 142 m dengan harga Rp.975.000,- /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Hitunglah Pajak yang harus dibayar oleh tuan Ali Marwan yang jatuh tempo pada bulan Desember 200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Picture 7" descr="TWEETY"/>
          <p:cNvPicPr/>
          <p:nvPr/>
        </p:nvPicPr>
        <p:blipFill>
          <a:blip r:embed="rId1"/>
          <a:stretch/>
        </p:blipFill>
        <p:spPr>
          <a:xfrm flipH="1">
            <a:off x="199800" y="2133720"/>
            <a:ext cx="2376360" cy="1942920"/>
          </a:xfrm>
          <a:prstGeom prst="rect">
            <a:avLst/>
          </a:prstGeom>
          <a:ln w="0">
            <a:noFill/>
          </a:ln>
        </p:spPr>
      </p:pic>
      <p:sp>
        <p:nvSpPr>
          <p:cNvPr id="826" name="AutoShape 8"/>
          <p:cNvSpPr/>
          <p:nvPr/>
        </p:nvSpPr>
        <p:spPr>
          <a:xfrm rot="6237600">
            <a:off x="1022400" y="4394520"/>
            <a:ext cx="1800360" cy="2583000"/>
          </a:xfrm>
          <a:prstGeom prst="cloudCallout">
            <a:avLst>
              <a:gd name="adj1" fmla="val -51486"/>
              <a:gd name="adj2" fmla="val 51601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ilahkan Kakak Kerja Pasti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WordArt 5"/>
          <p:cNvSpPr txBox="1"/>
          <p:nvPr/>
        </p:nvSpPr>
        <p:spPr>
          <a:xfrm>
            <a:off x="1754280" y="3284640"/>
            <a:ext cx="69451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Selamat Bekerja !</a:t>
            </a:r>
            <a:endParaRPr b="0" lang="en-US" sz="19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0" name="Rectangle 6"/>
          <p:cNvSpPr/>
          <p:nvPr/>
        </p:nvSpPr>
        <p:spPr>
          <a:xfrm>
            <a:off x="895320" y="404640"/>
            <a:ext cx="468360" cy="6191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Rectangle 7"/>
          <p:cNvSpPr/>
          <p:nvPr/>
        </p:nvSpPr>
        <p:spPr>
          <a:xfrm>
            <a:off x="351000" y="5734080"/>
            <a:ext cx="9050040" cy="431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d-ID" sz="2500" spc="-1" strike="noStrike">
                <a:solidFill>
                  <a:srgbClr val="ff3300"/>
                </a:solidFill>
                <a:latin typeface="Comic Sans MS"/>
              </a:rPr>
              <a:t>SMA NEGERI 5 BALIKPAP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4"/>
          <p:cNvSpPr/>
          <p:nvPr/>
        </p:nvSpPr>
        <p:spPr>
          <a:xfrm>
            <a:off x="1911240" y="3070080"/>
            <a:ext cx="655164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Picture 5" descr="211_252-01"/>
          <p:cNvPicPr/>
          <p:nvPr/>
        </p:nvPicPr>
        <p:blipFill>
          <a:blip r:embed="rId2"/>
          <a:stretch/>
        </p:blipFill>
        <p:spPr>
          <a:xfrm>
            <a:off x="4876920" y="981000"/>
            <a:ext cx="5029200" cy="5877000"/>
          </a:xfrm>
          <a:prstGeom prst="rect">
            <a:avLst/>
          </a:prstGeom>
          <a:ln w="0">
            <a:noFill/>
          </a:ln>
        </p:spPr>
      </p:pic>
      <p:sp>
        <p:nvSpPr>
          <p:cNvPr id="736" name="Text Box 6"/>
          <p:cNvSpPr/>
          <p:nvPr/>
        </p:nvSpPr>
        <p:spPr>
          <a:xfrm>
            <a:off x="426960" y="189000"/>
            <a:ext cx="9128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7" name="Picture 7" descr="Properti"/>
          <p:cNvPicPr/>
          <p:nvPr/>
        </p:nvPicPr>
        <p:blipFill>
          <a:blip r:embed="rId3"/>
          <a:stretch/>
        </p:blipFill>
        <p:spPr>
          <a:xfrm>
            <a:off x="0" y="981000"/>
            <a:ext cx="4876920" cy="58770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10"/>
          <p:cNvSpPr/>
          <p:nvPr/>
        </p:nvSpPr>
        <p:spPr>
          <a:xfrm>
            <a:off x="426960" y="189000"/>
            <a:ext cx="912816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Comic Sans MS"/>
              </a:rPr>
              <a:t>Mengenal Pajak Bumi dan Bangunan (PBB)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585720" y="333360"/>
            <a:ext cx="896940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d-ID" sz="3300" spc="-1" strike="noStrike">
                <a:solidFill>
                  <a:srgbClr val="ff3300"/>
                </a:solidFill>
                <a:latin typeface="Arial"/>
              </a:rPr>
              <a:t>Standar Kompetensi 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000066"/>
                </a:solidFill>
                <a:latin typeface="Arial"/>
              </a:rPr>
              <a:t>Memahami APBN dan APBD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7"/>
          <p:cNvSpPr/>
          <p:nvPr/>
        </p:nvSpPr>
        <p:spPr>
          <a:xfrm>
            <a:off x="2476440" y="2832120"/>
            <a:ext cx="7234200" cy="16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000066"/>
                </a:solidFill>
                <a:latin typeface="Arial"/>
              </a:rPr>
              <a:t>Kompetensi Dasa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006600"/>
                </a:solidFill>
                <a:latin typeface="Arial"/>
              </a:rPr>
              <a:t>Mendeskripsikan kebijakan Pemerintah di bidang fisk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38088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Rectangle 4"/>
          <p:cNvSpPr/>
          <p:nvPr/>
        </p:nvSpPr>
        <p:spPr>
          <a:xfrm>
            <a:off x="271440" y="2709720"/>
            <a:ext cx="943920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358920" indent="-358920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id-ID" sz="2900" spc="-1" strike="noStrike">
                <a:solidFill>
                  <a:srgbClr val="ffffff"/>
                </a:solidFill>
                <a:latin typeface="Arial"/>
              </a:rPr>
              <a:t>Mendeskripsikan landasan hukum pajak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buClr>
                <a:srgbClr val="ffffff"/>
              </a:buClr>
              <a:buFont typeface="Arial"/>
              <a:buAutoNum type="arabicPeriod" startAt="2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2900" spc="-1" strike="noStrike">
                <a:solidFill>
                  <a:srgbClr val="ffffff"/>
                </a:solidFill>
                <a:latin typeface="Arial"/>
              </a:rPr>
              <a:t>Menginterprestasikan obyek pajak bumi da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Banguna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buClr>
                <a:srgbClr val="ffffff"/>
              </a:buClr>
              <a:buFont typeface="Arial"/>
              <a:buAutoNum type="arabicPeriod" startAt="2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endeskrepsikan tarip pajak PBB yang berlaku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buClr>
                <a:srgbClr val="ffffff"/>
              </a:buClr>
              <a:buFont typeface="Arial"/>
              <a:buAutoNum type="arabicPeriod" startAt="2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endeskrepsikan NJOP, NJTKP dan NJKP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buClr>
                <a:srgbClr val="ffffff"/>
              </a:buClr>
              <a:buFont typeface="Arial"/>
              <a:buAutoNum type="arabicPeriod" startAt="2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Menghitung Pajak Bumi dan Bangunan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buClr>
                <a:srgbClr val="ffffff"/>
              </a:buClr>
              <a:buFont typeface="Arial"/>
              <a:buAutoNum type="arabicPeriod" startAt="2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3705120" y="1125360"/>
            <a:ext cx="530568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700" spc="-1" strike="noStrike">
                <a:solidFill>
                  <a:srgbClr val="ff0000"/>
                </a:solidFill>
                <a:latin typeface="Arial"/>
              </a:rPr>
              <a:t>Indikator 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3"/>
          <p:cNvSpPr/>
          <p:nvPr/>
        </p:nvSpPr>
        <p:spPr>
          <a:xfrm>
            <a:off x="741240" y="765000"/>
            <a:ext cx="58500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700" spc="-1" strike="noStrike">
                <a:solidFill>
                  <a:srgbClr val="ffcc00"/>
                </a:solidFill>
                <a:latin typeface="Arial Rounded MT Bold"/>
              </a:rPr>
              <a:t>Materi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4"/>
          <p:cNvSpPr/>
          <p:nvPr/>
        </p:nvSpPr>
        <p:spPr>
          <a:xfrm>
            <a:off x="895320" y="1627200"/>
            <a:ext cx="8269200" cy="45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Rounded MT Bold"/>
              </a:rPr>
              <a:t>Pengertian paja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Rounded MT Bold"/>
              </a:rPr>
              <a:t>Obyek PBB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Rounded MT Bold"/>
              </a:rPr>
              <a:t>Tarip  Pajak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Rounded MT Bold"/>
              </a:rPr>
              <a:t>NJOP, NJTKP dan NJKP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Rounded MT Bold"/>
              </a:rPr>
              <a:t>Menghitung Paja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817560" y="262080"/>
            <a:ext cx="850248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id-ID" sz="4100" spc="-1" strike="noStrike">
                <a:solidFill>
                  <a:srgbClr val="ff9900"/>
                </a:solidFill>
                <a:latin typeface="AvantGarde Bk BT"/>
              </a:rPr>
              <a:t>Landasan Hukum :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1052640" y="1989000"/>
            <a:ext cx="2732040" cy="9352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960e6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UUD. 194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4"/>
          <p:cNvSpPr/>
          <p:nvPr/>
        </p:nvSpPr>
        <p:spPr>
          <a:xfrm>
            <a:off x="5810400" y="1557360"/>
            <a:ext cx="3824280" cy="21574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Pasal 23 ayat 2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Segala pajak untuk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Keperluan negara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Berdasarkan Unda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Undang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5"/>
          <p:cNvSpPr/>
          <p:nvPr/>
        </p:nvSpPr>
        <p:spPr>
          <a:xfrm>
            <a:off x="1130400" y="3933720"/>
            <a:ext cx="2574720" cy="122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UU. No. 20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Tahun 2000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AutoShape 6"/>
          <p:cNvSpPr/>
          <p:nvPr/>
        </p:nvSpPr>
        <p:spPr>
          <a:xfrm>
            <a:off x="4251240" y="2060640"/>
            <a:ext cx="1092240" cy="720720"/>
          </a:xfrm>
          <a:prstGeom prst="rightArrow">
            <a:avLst>
              <a:gd name="adj1" fmla="val 50000"/>
              <a:gd name="adj2" fmla="val 3788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AutoShape 7"/>
          <p:cNvSpPr/>
          <p:nvPr/>
        </p:nvSpPr>
        <p:spPr>
          <a:xfrm>
            <a:off x="4172040" y="4076640"/>
            <a:ext cx="1171440" cy="792360"/>
          </a:xfrm>
          <a:prstGeom prst="rightArrow">
            <a:avLst>
              <a:gd name="adj1" fmla="val 50000"/>
              <a:gd name="adj2" fmla="val 3696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8"/>
          <p:cNvSpPr/>
          <p:nvPr/>
        </p:nvSpPr>
        <p:spPr>
          <a:xfrm>
            <a:off x="5810400" y="4005360"/>
            <a:ext cx="3824280" cy="1946160"/>
          </a:xfrm>
          <a:prstGeom prst="rect">
            <a:avLst/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Tentang PBB yang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Telah diberlakuk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Sejak tangg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2900" spc="-1" strike="noStrike">
                <a:solidFill>
                  <a:srgbClr val="ffffff"/>
                </a:solidFill>
                <a:latin typeface="AvantGarde Bk BT"/>
              </a:rPr>
              <a:t>1 Januari 2001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AutoShape 9"/>
          <p:cNvSpPr/>
          <p:nvPr/>
        </p:nvSpPr>
        <p:spPr>
          <a:xfrm>
            <a:off x="1911240" y="1052640"/>
            <a:ext cx="1092240" cy="79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Oval 2"/>
          <p:cNvSpPr/>
          <p:nvPr/>
        </p:nvSpPr>
        <p:spPr>
          <a:xfrm>
            <a:off x="351000" y="2276640"/>
            <a:ext cx="311940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Obyek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Pajak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3003480" y="692280"/>
            <a:ext cx="4835520" cy="14414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Bumi (tanah &amp; peraira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Termasuk kandungan d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Dalamnya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2768760" y="3787920"/>
            <a:ext cx="4836960" cy="244764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Bangunan (konstruksi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Teknik yang ditanam &amp;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Diletakkan secara tetap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Didalam tanah atau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AvantGarde Bk BT"/>
              </a:rPr>
              <a:t>Perairan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AutoShape 5"/>
          <p:cNvSpPr/>
          <p:nvPr/>
        </p:nvSpPr>
        <p:spPr>
          <a:xfrm rot="19030800">
            <a:off x="196920" y="4365360"/>
            <a:ext cx="2415960" cy="1933560"/>
          </a:xfrm>
          <a:custGeom>
            <a:avLst/>
            <a:gdLst>
              <a:gd name="textAreaLeft" fmla="*/ 323640 w 2415960"/>
              <a:gd name="textAreaRight" fmla="*/ 2092320 w 2415960"/>
              <a:gd name="textAreaTop" fmla="*/ 338400 h 1933560"/>
              <a:gd name="textAreaBottom" fmla="*/ 1401840 h 1933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AutoShape 6"/>
          <p:cNvSpPr/>
          <p:nvPr/>
        </p:nvSpPr>
        <p:spPr>
          <a:xfrm rot="13081800">
            <a:off x="1563480" y="925200"/>
            <a:ext cx="1091880" cy="936720"/>
          </a:xfrm>
          <a:custGeom>
            <a:avLst/>
            <a:gdLst>
              <a:gd name="textAreaLeft" fmla="*/ 146160 w 1091880"/>
              <a:gd name="textAreaRight" fmla="*/ 945720 w 109188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7"/>
          <p:cNvSpPr/>
          <p:nvPr/>
        </p:nvSpPr>
        <p:spPr>
          <a:xfrm>
            <a:off x="3470400" y="2637000"/>
            <a:ext cx="62402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300" spc="-1" strike="noStrike">
                <a:solidFill>
                  <a:srgbClr val="ffffff"/>
                </a:solidFill>
                <a:latin typeface="Comic Sans MS"/>
              </a:rPr>
              <a:t>Benda yang dikenakan pajak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3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6" descr="3_026-17"/>
          <p:cNvPicPr/>
          <p:nvPr/>
        </p:nvPicPr>
        <p:blipFill>
          <a:blip r:embed="rId2"/>
          <a:stretch/>
        </p:blipFill>
        <p:spPr>
          <a:xfrm>
            <a:off x="0" y="0"/>
            <a:ext cx="5029200" cy="28576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7" descr="153_Poolside in The Evening"/>
          <p:cNvPicPr/>
          <p:nvPr/>
        </p:nvPicPr>
        <p:blipFill>
          <a:blip r:embed="rId3"/>
          <a:stretch/>
        </p:blipFill>
        <p:spPr>
          <a:xfrm>
            <a:off x="4952880" y="4000680"/>
            <a:ext cx="4953240" cy="28573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212_253-02"/>
          <p:cNvPicPr/>
          <p:nvPr/>
        </p:nvPicPr>
        <p:blipFill>
          <a:blip r:embed="rId4"/>
          <a:stretch/>
        </p:blipFill>
        <p:spPr>
          <a:xfrm>
            <a:off x="5029200" y="0"/>
            <a:ext cx="4876920" cy="28576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" descr="211_252-01"/>
          <p:cNvPicPr/>
          <p:nvPr/>
        </p:nvPicPr>
        <p:blipFill>
          <a:blip r:embed="rId5"/>
          <a:stretch/>
        </p:blipFill>
        <p:spPr>
          <a:xfrm>
            <a:off x="0" y="4000680"/>
            <a:ext cx="4952880" cy="2857320"/>
          </a:xfrm>
          <a:prstGeom prst="rect">
            <a:avLst/>
          </a:prstGeom>
          <a:ln w="0">
            <a:noFill/>
          </a:ln>
        </p:spPr>
      </p:pic>
      <p:sp>
        <p:nvSpPr>
          <p:cNvPr id="778" name="WordArt 10"/>
          <p:cNvSpPr txBox="1"/>
          <p:nvPr/>
        </p:nvSpPr>
        <p:spPr>
          <a:xfrm>
            <a:off x="1098720" y="3138480"/>
            <a:ext cx="77086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1" strike="noStrike">
                <a:ln w="0">
                  <a:noFill/>
                </a:ln>
                <a:solidFill>
                  <a:srgbClr val="ff3300">
                    <a:alpha val="7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ntique Olive"/>
              </a:rPr>
              <a:t>Obyek Pajak Bumi &amp; Bangunan</a:t>
            </a:r>
            <a:endParaRPr b="0" lang="en-US" sz="1900" spc="1" strike="noStrike">
              <a:ln w="0">
                <a:noFill/>
              </a:ln>
              <a:solidFill>
                <a:srgbClr val="ff3300">
                  <a:alpha val="79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ntique Olive"/>
              <a:ea typeface="Antique Olive"/>
            </a:endParaRPr>
          </a:p>
        </p:txBody>
      </p:sp>
      <p:sp>
        <p:nvSpPr>
          <p:cNvPr id="779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4"/>
          <p:cNvSpPr/>
          <p:nvPr/>
        </p:nvSpPr>
        <p:spPr>
          <a:xfrm>
            <a:off x="895320" y="906480"/>
            <a:ext cx="873936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358920" indent="-358920"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700" spc="-1" strike="noStrike">
                <a:solidFill>
                  <a:srgbClr val="ff3300"/>
                </a:solidFill>
                <a:latin typeface="AvantGarde Bk BT"/>
              </a:rPr>
              <a:t>Tarip PBB (Pajak Bumi &amp; Bangunan 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313"/>
              </a:spcBef>
              <a:buClr>
                <a:srgbClr val="ff9900"/>
              </a:buClr>
              <a:buFont typeface="AvantGarde Bk BT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700" spc="-1" strike="noStrike">
                <a:solidFill>
                  <a:srgbClr val="ff9900"/>
                </a:solidFill>
                <a:latin typeface="AvantGarde Bk BT"/>
              </a:rPr>
              <a:t>Besarnya NJTKP (Nilai jual tidak kena pajak Rp. 8.000.000,- dari NJOP (Nilai jual obyek pajak)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313"/>
              </a:spcBef>
              <a:buClr>
                <a:srgbClr val="ff9900"/>
              </a:buClr>
              <a:buFont typeface="AvantGarde Bk BT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700" spc="-1" strike="noStrike">
                <a:solidFill>
                  <a:srgbClr val="ff9900"/>
                </a:solidFill>
                <a:latin typeface="AvantGarde Bk BT"/>
              </a:rPr>
              <a:t>Tarip tanah 0,5 % dari NJOP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313"/>
              </a:spcBef>
              <a:buClr>
                <a:srgbClr val="ff9900"/>
              </a:buClr>
              <a:buFont typeface="AvantGarde Bk BT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d-ID" sz="3700" spc="-1" strike="noStrike">
                <a:solidFill>
                  <a:srgbClr val="ff9900"/>
                </a:solidFill>
                <a:latin typeface="AvantGarde Bk BT"/>
              </a:rPr>
              <a:t>Tarip bangunan 0,5 % dari NJOP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2313"/>
              </a:spcBef>
              <a:buClr>
                <a:srgbClr val="ff9900"/>
              </a:buClr>
              <a:buFont typeface="AvantGarde Bk BT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>
            <a:hlinkClick r:id="" action="ppaction://hlinkshowjump?jump=nextslide"/>
          </p:cNvPr>
          <p:cNvSpPr/>
          <p:nvPr/>
        </p:nvSpPr>
        <p:spPr>
          <a:xfrm>
            <a:off x="9129600" y="6308640"/>
            <a:ext cx="432000" cy="28908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66" h="21600">
                <a:moveTo>
                  <a:pt x="0" y="0"/>
                </a:moveTo>
                <a:lnTo>
                  <a:pt x="32266" y="0"/>
                </a:lnTo>
                <a:lnTo>
                  <a:pt x="32266" y="21600"/>
                </a:lnTo>
                <a:lnTo>
                  <a:pt x="0" y="21600"/>
                </a:lnTo>
                <a:close/>
              </a:path>
              <a:path fill="lightenLess" w="32266" h="21600">
                <a:moveTo>
                  <a:pt x="0" y="0"/>
                </a:moveTo>
                <a:lnTo>
                  <a:pt x="32266" y="0"/>
                </a:lnTo>
                <a:lnTo>
                  <a:pt x="30866" y="1400"/>
                </a:lnTo>
                <a:lnTo>
                  <a:pt x="1400" y="1400"/>
                </a:lnTo>
                <a:close/>
              </a:path>
              <a:path fill="darken" w="32266" h="21600">
                <a:moveTo>
                  <a:pt x="32266" y="0"/>
                </a:moveTo>
                <a:lnTo>
                  <a:pt x="32266" y="21600"/>
                </a:lnTo>
                <a:lnTo>
                  <a:pt x="30866" y="20200"/>
                </a:lnTo>
                <a:lnTo>
                  <a:pt x="30866" y="1400"/>
                </a:lnTo>
                <a:close/>
              </a:path>
              <a:path fill="darkenLess" w="32266" h="21600">
                <a:moveTo>
                  <a:pt x="32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66" y="20200"/>
                </a:lnTo>
                <a:close/>
              </a:path>
              <a:path fill="lighten" w="32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66" h="21600">
                <a:moveTo>
                  <a:pt x="9126" y="3794"/>
                </a:moveTo>
                <a:lnTo>
                  <a:pt x="23139" y="10800"/>
                </a:lnTo>
                <a:lnTo>
                  <a:pt x="9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previousslide"/>
          </p:cNvPr>
          <p:cNvSpPr/>
          <p:nvPr/>
        </p:nvSpPr>
        <p:spPr>
          <a:xfrm>
            <a:off x="8624880" y="630864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57:32Z</dcterms:created>
  <dc:creator>Imam</dc:creator>
  <dc:description/>
  <dc:language>en-US</dc:language>
  <cp:lastModifiedBy>User</cp:lastModifiedBy>
  <dcterms:modified xsi:type="dcterms:W3CDTF">2008-09-18T04:19:36Z</dcterms:modified>
  <cp:revision>51</cp:revision>
  <dc:subject/>
  <dc:title>Slide 1</dc:title>
</cp:coreProperties>
</file>