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17F-C8D7-493E-878C-1AB39D20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273-F1E1-4F03-A795-47ACD867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FE9-38D7-441B-B14B-E4E4273C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B256-2B74-4F76-82D1-EC4E7F89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C2BE-9646-4098-A149-FE8565A6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9B2-8716-4D53-8978-3AB16CE2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C2F7-DA94-4DB0-B751-A58EF30D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9E6B-88A2-4E8F-8892-4556E9F1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F824-6856-40BA-9355-5C1F4978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ACB-A3AF-4B27-8C2B-740AF3D0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75F-2C0C-4236-96DC-6B1B4911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DF4-203E-4372-8B12-A3F89E9C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A8DA-7962-45AA-9DBB-6D2898D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C0DA-7D4B-4870-B710-78247901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82D2-3262-4A3B-9C70-26B724A4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DC21-6FAA-40BB-A0D4-3E103440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092-50C3-407E-A8AB-F3671578C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EDB-F8A0-4B2F-B3C2-94BC4E82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72E-0A32-4840-B2A9-11E37654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DD0-2129-4BA7-9086-4150ABB4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A4E-98A9-4C53-BB54-D94964E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C74-895D-4153-903B-B138918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A05-0ECD-4ECB-AC33-6129272A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9B44-0CC3-4D67-B4A1-6E4682C5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3366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F6B7-9B10-4919-B312-03031F91E9E0}" type="slidenum"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448A-C1C6-43DD-9182-15739915FC08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003366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003366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</a:rPr>
              <a:t>KEBIJAKAN FISKAL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Kelas XI Semester 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916600" y="3543480"/>
            <a:ext cx="3227400" cy="3314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362320" y="3048120"/>
            <a:ext cx="38005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leh: Dina Rassi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MA Diakui Tri Dharma MKGR Palopo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5943600"/>
            <a:ext cx="122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2. Pajak menurut instansi yang memungut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Pusat,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yaitu pajak yang dipungut langsung oleh pemerintah pusat (Direktorat Jenderal Pajak) misalnya PPN dan PPh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Daerah,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pajak yang wewenang pemungutan-nya oleh pemerintah daerah tingkat I dan II, misalnya pajak Kendaraan Bermotor (PKB) dan pajak tontonan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38080" y="1219320"/>
            <a:ext cx="7543800" cy="497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. Pajak menurut Objek Pajak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kejadi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bea     masuk dan bea  kelu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Perbuat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PPN dan B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Keada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PPh dan PB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k Pajak Pemakaian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ontoh: bea materai dan cuk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 :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4. Pajak menurut Subjek Pajak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perseorangan yaitu pajak yang dikenakan pada perseorangan.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badan usaha yaitu pajak yang dikenakan pada badan usah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5. Pajak menurut Asal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333399"/>
                </a:solidFill>
                <a:latin typeface="Arial Black"/>
              </a:rPr>
              <a:t> </a:t>
            </a:r>
            <a:endParaRPr b="0" lang="en-US" sz="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luar negeri,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yaitu pajak yang dipungut terhadap orang-orang asing yang memiliki penghasilan di Indonesia. Misalnya orang jepang yang mendirikan pabrik perakitan mobil di Indonesia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ajak dalam negeri,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yaitu pajak yang dipungut kepada setiap warga negara yang tinggal di Indonesia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ungutan resmi lainny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. Restribusi: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ngutan langsung yang ditarik oleh pemerintah daerah dengan pemberian fasilitas kepada yang melakukan pembayaran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stribusi dibagi 2 golongan: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. Restribusi Jasa Umum (objeknya jasa umum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. Restribusi Jasa Usaha (objeknya jasa usaha)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toh: restribusi kesehatan, restribusi parkir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2. Bea cukai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.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ea adalah pungutan yang dikenakan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tas jumlah harga barang yang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dimasukan ke dalam daerah pabean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tau dikeluarkan dari daerah pabean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ea terdiri dari bea masuk dan bea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keluar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.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ukai adalah pungutan yang dikenakan 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atas barang tertentu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ea cukai merupakan pungutan yang   dilakukan oleh pemerintah pusat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ungutan resmi lainny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3. Iuran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Iuran ialah pungutan yang dilakukan sehubungan dengan pemberian suatu jasa/fasilitas tertentu yang diberikan oleh pemerintah kepada kelompok/golongan tertentu dimana pembayar iuran dianggap turut menikmati jasa/fasilitas tersebut.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contoh: iuran keamanan, iuran sampah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04920"/>
            <a:ext cx="876276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M a t e r i </a:t>
            </a:r>
            <a:r>
              <a:rPr b="0" i="1" lang="en-US" sz="4000" spc="-1" strike="noStrike">
                <a:solidFill>
                  <a:srgbClr val="ffffff"/>
                </a:solidFill>
                <a:latin typeface="Impact"/>
              </a:rPr>
              <a:t>:  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ungutan resmi lainny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TUGAS MANDIRI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6960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ari informasi tentang pajak dan pungutan resmi apa saja yang dilakukan oleh orang tuamu di rumah, bawalah foto copy bukti pembayarannya</a:t>
            </a:r>
            <a:r>
              <a:rPr b="1" lang="en-US" sz="2000" spc="-1" strike="noStrike">
                <a:solidFill>
                  <a:srgbClr val="333399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16600" y="3543480"/>
            <a:ext cx="3227400" cy="3314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905120" y="25146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60093"/>
                </a:solidFill>
                <a:latin typeface="Impact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1814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enu Utam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1235160" y="1974960"/>
            <a:ext cx="1525680" cy="2803320"/>
          </a:xfrm>
          <a:custGeom>
            <a:avLst/>
            <a:gdLst>
              <a:gd name="textAreaLeft" fmla="*/ 78120 w 1525680"/>
              <a:gd name="textAreaRight" fmla="*/ 1447560 w 152568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84">
                <a:moveTo>
                  <a:pt x="3782" y="0"/>
                </a:moveTo>
                <a:arcTo wR="3782" hR="3782" stAng="16200000" swAng="-5400000"/>
                <a:lnTo>
                  <a:pt x="0" y="35902"/>
                </a:lnTo>
                <a:arcTo wR="3782" hR="3782" stAng="10800000" swAng="-5400000"/>
                <a:lnTo>
                  <a:pt x="17818" y="3968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198288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71520" y="4008600"/>
            <a:ext cx="145908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1520" y="2004840"/>
            <a:ext cx="1459080" cy="695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39840" y="4778280"/>
            <a:ext cx="152568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1520" y="4802040"/>
            <a:ext cx="1459080" cy="75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60400" y="1673280"/>
            <a:ext cx="452520" cy="630360"/>
            <a:chOff x="1760400" y="1673280"/>
            <a:chExt cx="452520" cy="630360"/>
          </a:xfrm>
        </p:grpSpPr>
        <p:sp>
          <p:nvSpPr>
            <p:cNvPr id="96" name=""/>
            <p:cNvSpPr/>
            <p:nvPr/>
          </p:nvSpPr>
          <p:spPr>
            <a:xfrm>
              <a:off x="1760400" y="1673280"/>
              <a:ext cx="452520" cy="63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65080" y="1677960"/>
              <a:ext cx="437760" cy="610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70480" y="1681560"/>
              <a:ext cx="427320" cy="595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75160" y="1687320"/>
              <a:ext cx="406440" cy="555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98920" y="1702440"/>
              <a:ext cx="361080" cy="45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1808640" y="176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403360"/>
            <a:ext cx="1676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Standar Kompeten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25800" y="1974960"/>
            <a:ext cx="1527120" cy="2803320"/>
          </a:xfrm>
          <a:custGeom>
            <a:avLst/>
            <a:gdLst>
              <a:gd name="textAreaLeft" fmla="*/ 78120 w 1527120"/>
              <a:gd name="textAreaRight" fmla="*/ 1449000 w 152712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47">
                <a:moveTo>
                  <a:pt x="3782" y="0"/>
                </a:moveTo>
                <a:arcTo wR="3782" hR="3782" stAng="16200000" swAng="-5400000"/>
                <a:lnTo>
                  <a:pt x="0" y="35865"/>
                </a:lnTo>
                <a:arcTo wR="3782" hR="3782" stAng="10800000" swAng="-5400000"/>
                <a:lnTo>
                  <a:pt x="17818" y="39647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560" y="198288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2160" y="4008600"/>
            <a:ext cx="146052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62160" y="2004840"/>
            <a:ext cx="1460520" cy="695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51400" y="1673280"/>
            <a:ext cx="453960" cy="6303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56080" y="1677960"/>
            <a:ext cx="438120" cy="6112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0760" y="1681200"/>
            <a:ext cx="428760" cy="5968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5440" y="1687680"/>
            <a:ext cx="408240" cy="555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91000" y="1703520"/>
            <a:ext cx="360360" cy="45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3599280" y="176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27240" y="4778280"/>
            <a:ext cx="152712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802040"/>
            <a:ext cx="1460160" cy="75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46680" y="1974960"/>
            <a:ext cx="1525680" cy="2803320"/>
          </a:xfrm>
          <a:custGeom>
            <a:avLst/>
            <a:gdLst>
              <a:gd name="textAreaLeft" fmla="*/ 78120 w 1525680"/>
              <a:gd name="textAreaRight" fmla="*/ 1447560 w 152568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84">
                <a:moveTo>
                  <a:pt x="3782" y="0"/>
                </a:moveTo>
                <a:arcTo wR="3782" hR="3782" stAng="16200000" swAng="-5400000"/>
                <a:lnTo>
                  <a:pt x="0" y="35902"/>
                </a:lnTo>
                <a:arcTo wR="3782" hR="3782" stAng="10800000" swAng="-5400000"/>
                <a:lnTo>
                  <a:pt x="17818" y="39684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0440" y="198288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81600" y="4008600"/>
            <a:ext cx="146052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81600" y="2004840"/>
            <a:ext cx="1460520" cy="695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72280" y="1673280"/>
            <a:ext cx="452160" cy="630360"/>
            <a:chOff x="5372280" y="1673280"/>
            <a:chExt cx="452160" cy="630360"/>
          </a:xfrm>
        </p:grpSpPr>
        <p:sp>
          <p:nvSpPr>
            <p:cNvPr id="120" name=""/>
            <p:cNvSpPr/>
            <p:nvPr/>
          </p:nvSpPr>
          <p:spPr>
            <a:xfrm>
              <a:off x="5372280" y="1673280"/>
              <a:ext cx="452160" cy="63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76960" y="1677960"/>
              <a:ext cx="437400" cy="610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82360" y="1681560"/>
              <a:ext cx="427320" cy="595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87040" y="1687320"/>
              <a:ext cx="406080" cy="555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10800" y="1702440"/>
              <a:ext cx="360720" cy="45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5418360" y="1763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42000" y="4778280"/>
            <a:ext cx="152532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3680" y="4802040"/>
            <a:ext cx="1458720" cy="758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1880" y="2006640"/>
            <a:ext cx="1525320" cy="2803320"/>
          </a:xfrm>
          <a:custGeom>
            <a:avLst/>
            <a:gdLst>
              <a:gd name="textAreaLeft" fmla="*/ 78120 w 1525320"/>
              <a:gd name="textAreaRight" fmla="*/ 1447200 w 1525320"/>
              <a:gd name="textAreaTop" fmla="*/ 78120 h 2803320"/>
              <a:gd name="textAreaBottom" fmla="*/ 2725200 h 2803320"/>
            </a:gdLst>
            <a:ahLst/>
            <a:rect l="textAreaLeft" t="textAreaTop" r="textAreaRight" b="textAreaBottom"/>
            <a:pathLst>
              <a:path w="21600" h="39693">
                <a:moveTo>
                  <a:pt x="3782" y="0"/>
                </a:moveTo>
                <a:arcTo wR="3782" hR="3782" stAng="16200000" swAng="-5400000"/>
                <a:lnTo>
                  <a:pt x="0" y="35911"/>
                </a:lnTo>
                <a:arcTo wR="3782" hR="3782" stAng="10800000" swAng="-5400000"/>
                <a:lnTo>
                  <a:pt x="17818" y="3969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05640" y="2014560"/>
            <a:ext cx="1479600" cy="2751120"/>
          </a:xfrm>
          <a:custGeom>
            <a:avLst/>
            <a:gdLst>
              <a:gd name="textAreaLeft" fmla="*/ 72000 w 1479600"/>
              <a:gd name="textAreaRight" fmla="*/ 1407600 w 1479600"/>
              <a:gd name="textAreaTop" fmla="*/ 72000 h 2751120"/>
              <a:gd name="textAreaBottom" fmla="*/ 2679120 h 2751120"/>
            </a:gdLst>
            <a:ahLst/>
            <a:rect l="textAreaLeft" t="textAreaTop" r="textAreaRight" b="textAreaBottom"/>
            <a:pathLst>
              <a:path w="21600" h="40158">
                <a:moveTo>
                  <a:pt x="3600" y="0"/>
                </a:moveTo>
                <a:arcTo wR="3600" hR="3600" stAng="16200000" swAng="-5400000"/>
                <a:lnTo>
                  <a:pt x="0" y="36558"/>
                </a:lnTo>
                <a:arcTo wR="3600" hR="3600" stAng="10800000" swAng="-5400000"/>
                <a:lnTo>
                  <a:pt x="18000" y="4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18240" y="4040280"/>
            <a:ext cx="145908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18240" y="2036880"/>
            <a:ext cx="1459080" cy="695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6560" y="4809960"/>
            <a:ext cx="1525680" cy="85428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18240" y="4834080"/>
            <a:ext cx="1459080" cy="75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107120" y="1704960"/>
            <a:ext cx="452520" cy="630360"/>
            <a:chOff x="7107120" y="1704960"/>
            <a:chExt cx="452520" cy="630360"/>
          </a:xfrm>
        </p:grpSpPr>
        <p:sp>
          <p:nvSpPr>
            <p:cNvPr id="135" name=""/>
            <p:cNvSpPr/>
            <p:nvPr/>
          </p:nvSpPr>
          <p:spPr>
            <a:xfrm>
              <a:off x="7107120" y="1704960"/>
              <a:ext cx="452520" cy="630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11800" y="1709640"/>
              <a:ext cx="437760" cy="610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17200" y="1713240"/>
              <a:ext cx="427320" cy="595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1880" y="1719000"/>
              <a:ext cx="406440" cy="555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5640" y="1734120"/>
              <a:ext cx="361080" cy="45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7155360" y="179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95480" y="2403360"/>
            <a:ext cx="167652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Kompeten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s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403360"/>
            <a:ext cx="145080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Indik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2403360"/>
            <a:ext cx="145080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at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0199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lik di Nomor untuk 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tandar Kompetensi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 flipH="1">
            <a:off x="-360" y="3352680"/>
            <a:ext cx="3227400" cy="3314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676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Memahami APBD dan APB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Kompetensi Dasar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flipH="1">
            <a:off x="-360" y="3352680"/>
            <a:ext cx="322740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523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3. Mendeskripsikan kebijakan Pemerintah di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idang fisk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5920"/>
            <a:ext cx="9144000" cy="685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IndiKator :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flipH="1">
            <a:off x="-360" y="3352680"/>
            <a:ext cx="3227400" cy="3314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4479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3427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deskripsikan pengertian pajak dan fungsi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1800" indent="-34272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gidentifikasi pajak dan pungutan resmi lainnya sebagai sumber pendapatan negara dan daerah melalui referen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mbali Ke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 Black"/>
              </a:rPr>
              <a:t>Kebijakan Pemerintah di Bidang Fiskal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Dalam mengatur perekonomian, pemerintah membuat suatu daftar anggaran yang disebut APBN. Yang memuat sumber penerimaan dan jenis-jenis penge-luaran negara untuk pembayaran.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kebijakan fiskal adalah kebijakan pemerintah dalam memengaruhi perekonomian melalui pengeluaran dan penerimaan dalam APBN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9160"/>
            <a:ext cx="8763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 Black"/>
              </a:rPr>
              <a:t>Pajak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Pajak atau tax dalam buku teori ekonomi makro biasanya didefinisikan sebagai uang atau daya beli yang diserahkan masyarakat kepada pemerintah dan pemerintah tidak tidak memberikan balas jasa secara langsung (Soediyono:96)</a:t>
            </a: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 Black"/>
              </a:rPr>
              <a:t>Fungsi – Fungsi Pajak </a:t>
            </a:r>
            <a:r>
              <a:rPr b="0" lang="en-US" sz="1800" spc="-1" strike="noStrike">
                <a:solidFill>
                  <a:srgbClr val="cc6600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Buggeter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Sumber Utama Kas Negara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ajak sangat diandalkan sebagai sumber utama penerimaan pemerintah yang berasal dari dalam negeri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Alokasi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Sumber Pembiayaan Pembangunan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ajak yang telah dihimpun negara dialokasikan untuk pembiayaan pembagunan disegala bidang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Distribusi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Alat Pemerataan Pendapatan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Pajak yang telah diterima pemerintah digunakan untuk pembagunan disegala bidang sehingga diharapkan pembangunan dapat merata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-396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300000"/>
              <a:buFont typeface="Arial Black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ungsi Regulasi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 (Alat Pengatur Kegiatan Ekonomi)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 Black"/>
              </a:rPr>
              <a:t>Melalui pajak Pemerintah dapat mengatur kegiatan ekonomi, Melalui kebijakan fiskal, pemerintah dapat menetapkan pajak yang tinggi, misalnya untuk mengatasi tingkat inflasi.</a:t>
            </a: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  <a:p>
            <a:pPr marL="396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4572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 a t e r i</a:t>
            </a:r>
            <a:r>
              <a:rPr b="0" i="1" lang="en-US" sz="2400" spc="-1" strike="noStrike">
                <a:solidFill>
                  <a:srgbClr val="ffffff"/>
                </a:solidFill>
                <a:latin typeface="Impact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13976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Jenis-Jenis Pajak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Black"/>
              </a:rPr>
              <a:t>1. Pajak menurut sifatnya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a.  pajak langsung 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Arial Black"/>
              </a:rPr>
              <a:t>b.  pajak tidak langsung.</a:t>
            </a: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838080" y="3048120"/>
          <a:ext cx="7772400" cy="2844720"/>
        </p:xfrm>
        <a:graphic>
          <a:graphicData uri="http://schemas.openxmlformats.org/drawingml/2006/table">
            <a:tbl>
              <a:tblPr/>
              <a:tblGrid>
                <a:gridCol w="685800"/>
                <a:gridCol w="3170520"/>
                <a:gridCol w="391608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jak Langs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jak Tidak Langs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2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jak yang dipungut berdasarkan surat ketetapan pajak (Koh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pungut setahun sek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idak dilimpahkan kepada orang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tohnya PPh, PBB, dan pajak sejeni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idak memiliki surat keterangan pajak (Koh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pungut setiap terjadi transak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isa dilimpahkan kepada orang 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tohnya, pajak penjualan, PPN, BBN, dan pajak sejeni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j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6477120" y="6248520"/>
            <a:ext cx="1143000" cy="380880"/>
          </a:xfrm>
          <a:prstGeom prst="flowChartTerminator">
            <a:avLst/>
          </a:prstGeom>
          <a:gradFill rotWithShape="0">
            <a:gsLst>
              <a:gs pos="0">
                <a:srgbClr val="cc6600"/>
              </a:gs>
              <a:gs pos="50000">
                <a:srgbClr val="ffff00"/>
              </a:gs>
              <a:gs pos="100000">
                <a:srgbClr val="cc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mb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500"/>
                            </p:stCondLst>
                            <p:childTnLst>
                              <p:par>
                                <p:cTn id="1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7:15:37Z</dcterms:created>
  <dc:creator>andyas</dc:creator>
  <dc:description/>
  <dc:language>en-US</dc:language>
  <cp:lastModifiedBy>User</cp:lastModifiedBy>
  <dcterms:modified xsi:type="dcterms:W3CDTF">2008-09-17T03:21:41Z</dcterms:modified>
  <cp:revision>78</cp:revision>
  <dc:subject/>
  <dc:title>KEBIJAKAN FISKAL</dc:title>
</cp:coreProperties>
</file>