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F9C-8670-41FC-A4DA-0D941D67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52E-0DF5-4258-BD5B-F5FCB4B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ED4-8191-4292-A170-DE8C3502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096-D7FE-4649-BA1B-950F7B16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19BD-B61A-4A87-820E-E795538B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8E6-15F1-44C6-A6A5-6EB588F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5AF-FA30-4BC4-9A99-06C2DFD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249-DA0F-4E0B-9F21-EFF1C6E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1F24-CBD4-424F-ADE0-E4B8464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93A6-E247-4C45-AC29-7958B80C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EF22-32AA-49C7-B12A-19DFCED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B02-0248-4DB3-B2F4-3D710C47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02FE-8385-411E-9373-49C81A0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8725-F74E-424F-AD7C-B4B42CF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5BF-BDA5-4201-B936-3D6DC6B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9B2B-6C00-43CE-802A-578F9CBB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E606-DACF-414A-A659-2D2ECDA2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7F7-9C49-4094-8AFB-85A5F082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B88-33ED-4CAF-AE07-FA4A76F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FA7-1CCF-44B1-84BF-D220DD4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1B9-250B-45CE-A0B2-057F82B8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6DC-0788-4B04-82C7-02E9E71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344-0A2F-401F-BF11-422A401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B0C-BB56-4225-84D8-A224EA0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C3B-04F2-4AA7-A2AB-251BBDEDE314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B8F8-AF2C-49B1-97DD-963C0206E146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</a:rPr>
              <a:t>KEBIJAKAN FISKAL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Kelas XI Semester 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16600" y="3543480"/>
            <a:ext cx="3227400" cy="331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362320" y="3048120"/>
            <a:ext cx="38005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leh: Dina Rassi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MA Diakui Tri Dharma MKGR Palopo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594360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2. Pajak menurut instansi yang memungut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Pusat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yaitu pajak yang dipungut langsung oleh pemerintah pusat (Direktorat Jenderal Pajak) misalnya PPN dan PPh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Daerah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pajak yang wewenang pemungutan-nya oleh pemerintah daerah tingkat I dan II, misalnya pajak Kendaraan Bermotor (PKB) dan pajak tontona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1219320"/>
            <a:ext cx="7543800" cy="497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. Pajak menurut Objek Pajak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kejadi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bea     masuk dan bea  ke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Perbuat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PPN dan B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Keada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PPh dan PB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Pemakai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bea materai dan cuk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4. Pajak menurut Subjek Pajak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perseorangan yaitu pajak yang dikenakan pada perseorangan.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badan usaha yaitu pajak yang dikenakan pada badan usah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5. Pajak menurut Asal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luar negeri,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yaitu pajak yang dipungut terhadap orang-orang asing yang memiliki penghasilan di Indonesia. Misalnya orang jepang yang mendirikan pabrik perakitan mobil di Indonesia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dalam negeri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yaitu pajak yang dipungut kepada setiap warga negara yang tinggal di Indonesia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Restribusi: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ngutan langsung yang ditarik oleh pemerintah daerah dengan pemberian fasilitas kepada yang melakukan pembayara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stribusi dibagi 2 golongan: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. Restribusi Jasa Umum (objeknya jasa umum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 Restribusi Jasa Usaha (objeknya jasa usaha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oh: restribusi kesehatan, restribusi parkir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2. Bea cukai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.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adalah pungutan yang dikenak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s jumlah harga barang yang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dimasukan ke dalam daerah pabe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u dikeluarkan dari daerah pabean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terdiri dari bea masuk dan bea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keluar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.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ukai adalah pungutan yang dikenak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s barang tertentu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cukai merupakan pungutan yang   dilakukan oleh pemerintah pusat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3. Iuran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uran ialah pungutan yang dilakukan sehubungan dengan pemberian suatu jasa/fasilitas tertentu yang diberikan oleh pemerintah kepada kelompok/golongan tertentu dimana pembayar iuran dianggap turut menikmati jasa/fasilitas tersebut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toh: iuran keamanan, iuran sampah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UGAS MANDIRI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ri informasi tentang pajak dan pungutan resmi apa saja yang dilakukan oleh orang tuamu di rumah, bawalah foto copy bukti pembayarannya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16600" y="3543480"/>
            <a:ext cx="3227400" cy="3314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25146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Impact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1814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enu Utam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235160" y="1974960"/>
            <a:ext cx="1525680" cy="2803320"/>
          </a:xfrm>
          <a:custGeom>
            <a:avLst/>
            <a:gdLst>
              <a:gd name="textAreaLeft" fmla="*/ 78120 w 1525680"/>
              <a:gd name="textAreaRight" fmla="*/ 1447560 w 152568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84">
                <a:moveTo>
                  <a:pt x="3782" y="0"/>
                </a:moveTo>
                <a:arcTo wR="3782" hR="3782" stAng="16200000" swAng="-5400000"/>
                <a:lnTo>
                  <a:pt x="0" y="35902"/>
                </a:lnTo>
                <a:arcTo wR="3782" hR="3782" stAng="10800000" swAng="-5400000"/>
                <a:lnTo>
                  <a:pt x="17818" y="3968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71520" y="400860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1520" y="2004840"/>
            <a:ext cx="145908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4778280"/>
            <a:ext cx="152568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1520" y="4802040"/>
            <a:ext cx="145908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60400" y="1673280"/>
            <a:ext cx="452520" cy="630360"/>
            <a:chOff x="1760400" y="1673280"/>
            <a:chExt cx="452520" cy="630360"/>
          </a:xfrm>
        </p:grpSpPr>
        <p:sp>
          <p:nvSpPr>
            <p:cNvPr id="96" name=""/>
            <p:cNvSpPr/>
            <p:nvPr/>
          </p:nvSpPr>
          <p:spPr>
            <a:xfrm>
              <a:off x="1760400" y="1673280"/>
              <a:ext cx="45252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1677960"/>
              <a:ext cx="43776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0480" y="168156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75160" y="1687320"/>
              <a:ext cx="40644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8920" y="1702440"/>
              <a:ext cx="36108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180864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403360"/>
            <a:ext cx="167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tandar Kompeten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25800" y="1974960"/>
            <a:ext cx="1527120" cy="2803320"/>
          </a:xfrm>
          <a:custGeom>
            <a:avLst/>
            <a:gdLst>
              <a:gd name="textAreaLeft" fmla="*/ 78120 w 1527120"/>
              <a:gd name="textAreaRight" fmla="*/ 1449000 w 152712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47">
                <a:moveTo>
                  <a:pt x="3782" y="0"/>
                </a:moveTo>
                <a:arcTo wR="3782" hR="3782" stAng="16200000" swAng="-5400000"/>
                <a:lnTo>
                  <a:pt x="0" y="35865"/>
                </a:lnTo>
                <a:arcTo wR="3782" hR="3782" stAng="10800000" swAng="-5400000"/>
                <a:lnTo>
                  <a:pt x="17818" y="39647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56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2160" y="4008600"/>
            <a:ext cx="146052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62160" y="2004840"/>
            <a:ext cx="146052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51400" y="1673280"/>
            <a:ext cx="453960" cy="6303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56080" y="1677960"/>
            <a:ext cx="438120" cy="6112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0760" y="1681200"/>
            <a:ext cx="428760" cy="596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5440" y="1687680"/>
            <a:ext cx="408240" cy="555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91000" y="1703520"/>
            <a:ext cx="360360" cy="45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359928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27240" y="4778280"/>
            <a:ext cx="152712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802040"/>
            <a:ext cx="146016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6680" y="1974960"/>
            <a:ext cx="1525680" cy="2803320"/>
          </a:xfrm>
          <a:custGeom>
            <a:avLst/>
            <a:gdLst>
              <a:gd name="textAreaLeft" fmla="*/ 78120 w 1525680"/>
              <a:gd name="textAreaRight" fmla="*/ 1447560 w 152568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84">
                <a:moveTo>
                  <a:pt x="3782" y="0"/>
                </a:moveTo>
                <a:arcTo wR="3782" hR="3782" stAng="16200000" swAng="-5400000"/>
                <a:lnTo>
                  <a:pt x="0" y="35902"/>
                </a:lnTo>
                <a:arcTo wR="3782" hR="3782" stAng="10800000" swAng="-5400000"/>
                <a:lnTo>
                  <a:pt x="17818" y="3968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81600" y="4008600"/>
            <a:ext cx="146052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81600" y="2004840"/>
            <a:ext cx="146052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72280" y="1673280"/>
            <a:ext cx="452160" cy="630360"/>
            <a:chOff x="5372280" y="1673280"/>
            <a:chExt cx="452160" cy="630360"/>
          </a:xfrm>
        </p:grpSpPr>
        <p:sp>
          <p:nvSpPr>
            <p:cNvPr id="120" name=""/>
            <p:cNvSpPr/>
            <p:nvPr/>
          </p:nvSpPr>
          <p:spPr>
            <a:xfrm>
              <a:off x="5372280" y="1673280"/>
              <a:ext cx="45216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76960" y="1677960"/>
              <a:ext cx="43740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82360" y="168156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7040" y="1687320"/>
              <a:ext cx="40608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800" y="1702440"/>
              <a:ext cx="36072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541836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42000" y="4778280"/>
            <a:ext cx="152532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3680" y="4802040"/>
            <a:ext cx="145872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1880" y="2006640"/>
            <a:ext cx="1525320" cy="2803320"/>
          </a:xfrm>
          <a:custGeom>
            <a:avLst/>
            <a:gdLst>
              <a:gd name="textAreaLeft" fmla="*/ 78120 w 1525320"/>
              <a:gd name="textAreaRight" fmla="*/ 1447200 w 152532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93">
                <a:moveTo>
                  <a:pt x="3782" y="0"/>
                </a:moveTo>
                <a:arcTo wR="3782" hR="3782" stAng="16200000" swAng="-5400000"/>
                <a:lnTo>
                  <a:pt x="0" y="35911"/>
                </a:lnTo>
                <a:arcTo wR="3782" hR="3782" stAng="10800000" swAng="-5400000"/>
                <a:lnTo>
                  <a:pt x="17818" y="3969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5640" y="201456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18240" y="404028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18240" y="203688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6560" y="4809960"/>
            <a:ext cx="152568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8240" y="4834080"/>
            <a:ext cx="1459080" cy="75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107120" y="1704960"/>
            <a:ext cx="452520" cy="630360"/>
            <a:chOff x="7107120" y="1704960"/>
            <a:chExt cx="452520" cy="630360"/>
          </a:xfrm>
        </p:grpSpPr>
        <p:sp>
          <p:nvSpPr>
            <p:cNvPr id="135" name=""/>
            <p:cNvSpPr/>
            <p:nvPr/>
          </p:nvSpPr>
          <p:spPr>
            <a:xfrm>
              <a:off x="7107120" y="1704960"/>
              <a:ext cx="45252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11800" y="1709640"/>
              <a:ext cx="43776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7200" y="171324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1880" y="1719000"/>
              <a:ext cx="40644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5640" y="1734120"/>
              <a:ext cx="36108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7155360" y="179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2403360"/>
            <a:ext cx="167652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Kompete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s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403360"/>
            <a:ext cx="145080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ndik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403360"/>
            <a:ext cx="145080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19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lik di Nomor untuk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tandar Kompetensi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emahami APBD dan AP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Kompetensi Dasar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52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3. Mendeskripsikan kebijakan Pemerintah d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idang fis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ndiKator :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4479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3427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deskripsikan pengertian pajak dan fungsi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3427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gidentifikasi pajak dan pungutan resmi lainnya sebagai sumber pendapatan negara dan daerah melalui refer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Kebijakan Pemerintah di Bidang Fiskal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alam mengatur perekonomian, pemerintah membuat suatu daftar anggaran yang disebut APBN. Yang memuat sumber penerimaan dan jenis-jenis penge-luaran negara untuk pembayaran.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kebijakan fiskal adalah kebijakan pemerintah dalam memengaruhi perekonomian melalui pengeluaran dan penerimaan dalam APB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ajak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ajak atau tax dalam buku teori ekonomi makro biasanya didefinisikan sebagai uang atau daya beli yang diserahkan masyarakat kepada pemerintah dan pemerintah tidak tidak memberikan balas jasa secara langsung (Soediyono:96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 Black"/>
              </a:rPr>
              <a:t>Fungsi – Fungsi Pajak </a:t>
            </a:r>
            <a:r>
              <a:rPr b="0" lang="en-US" sz="1800" spc="-1" strike="noStrike">
                <a:solidFill>
                  <a:srgbClr val="cc6600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Buggeter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Sumber Utama Kas Negara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sangat diandalkan sebagai sumber utama penerimaan pemerintah yang berasal dari dalam negeri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Aloka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Sumber Pembiayaan Pembangunan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yang telah dihimpun negara dialokasikan untuk pembiayaan pembagunan disegala bidang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Distribu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Alat Pemerataan Pendapatan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yang telah diterima pemerintah digunakan untuk pembagunan disegala bidang sehingga diharapkan pembangunan dapat merata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Regula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Alat Pengatur Kegiatan Ekonomi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elalui pajak Pemerintah dapat mengatur kegiatan ekonomi, Melalui kebijakan fiskal, pemerintah dapat menetapkan pajak yang tinggi, misalnya untuk mengatasi tingkat inflasi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13976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Jenis-Jenis Pajak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1. Pajak menurut sifat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.  pajak langsung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.  pajak tidak langsung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7772400" cy="2844720"/>
        </p:xfrm>
        <a:graphic>
          <a:graphicData uri="http://schemas.openxmlformats.org/drawingml/2006/table">
            <a:tbl>
              <a:tblPr/>
              <a:tblGrid>
                <a:gridCol w="685800"/>
                <a:gridCol w="3170520"/>
                <a:gridCol w="391608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Langs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Tidak Langs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yang dipungut berdasarkan surat ketetapan pajak (Koh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pungut setahun sek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dak dilimpahkan kepada orang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ohnya PPh, PBB, dan pajak sejen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dak memiliki surat keterangan pajak (Koh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pungut setiap terjadi transak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isa dilimpahkan kepada orang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ohnya, pajak penjualan, PPN, BBN, dan pajak sejen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15:37Z</dcterms:created>
  <dc:creator>andyas</dc:creator>
  <dc:description/>
  <dc:language>en-US</dc:language>
  <cp:lastModifiedBy>User</cp:lastModifiedBy>
  <dcterms:modified xsi:type="dcterms:W3CDTF">2008-09-17T03:21:41Z</dcterms:modified>
  <cp:revision>78</cp:revision>
  <dc:subject/>
  <dc:title>KEBIJAKAN FISKAL</dc:title>
</cp:coreProperties>
</file>