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B015-8062-4D30-B024-42DAE569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8A00-2D87-443C-BB0D-33275DD3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052A-A8A1-4788-8A62-E485791C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FB17-F107-476A-8B10-D649FF42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EEDE-DFD7-47EA-97B2-8DD01D0D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AE1E-841C-4B76-99FD-289AB332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54A4-5732-4540-96CA-479D2129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7BF3-974D-48BD-A41D-1E4061BE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28C6-5F81-4544-ADC5-E7AB72FC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142A-BB38-4A68-8D5A-8BC4307A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D20F-93A6-4DA7-AA71-C9E8C1C4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5A60-CA4C-40B5-9570-4C92A6D7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88BA-5574-4EEA-B268-25B4EA36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FB26-71A7-4315-8DFE-E4410F2B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BD45-477C-4335-AEEF-1FBF5250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1BBB-FAA8-4E2C-AD4D-D3A21310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FA3E-06E9-4ECA-9A90-EB704DBB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130EC-90F7-4180-A973-C6A14B3B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FE3E5-2DF2-4178-8A1C-C37FF3FD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B01BB-D152-4524-9671-62F29E9E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A6AEA-0089-4CB7-AE36-A28BAC59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56B88-48A7-4F75-BEC2-263AFA05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3890-FD89-4398-9085-B44BF94C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5F35A-202C-4615-A0E4-5EC376D8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42249-B526-4365-A65D-F1846B69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FAF74-8FEC-4358-B594-614E5D37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95AD0-BE55-4D5C-9ED2-9E406CE0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27F0B-268C-4FCA-8AC0-34C4BACC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F9CC1-FB80-428E-9DB9-C91C2CA2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E56E0-7B80-45EB-A557-120BCBF7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740810-53E1-46AF-B206-B7B4939A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2E2B72-5FFD-4857-8D55-4AEF17FA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1294AC-0279-4CE7-8C3F-619B628B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E1BB-7C5A-4D2D-9B92-2C8DAF34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3A8166-DAA1-45FB-8AD8-627A0B9D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3C8303-1916-440D-8218-B3134D00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B8D8F7-93C4-4EB8-A6EF-B312462D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B1AA73-7E13-435A-9014-5E38565B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9B895E-0F07-4369-B37B-DFC621E8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F9644E-A5AF-4C54-9CE8-C9763B0B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D42228-1C38-41CD-803C-D0417825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DA810A-6630-4243-88D7-EEC7AD98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920FBF-9D5B-4672-87A4-17607822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CD203-EF5D-4EF0-88E4-689CFE33B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D32E-1E6A-4060-9494-2C6033D7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0F672-B4CA-4E12-B398-FFDF6151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648F0-C7AB-4CED-8315-A5F1C598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DC0CF-853D-4A8F-AE64-885D6FE2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FF0D9-54BA-41F8-8D49-9305C249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E73C9-6460-41B5-A491-498B47B3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2A120-8A95-4DB1-BAC1-AA4376B8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D423C-4F27-49F9-9746-689FC441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C350E-37EF-4ADD-BD09-1A1D41EF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D45B6-B7E4-4511-91B1-78F32B64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CB223-0DC8-491F-B811-F9A8DBB2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4458-27FE-49F8-AB51-736DA0B3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3E296-41AD-4703-A78C-B284688C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2A7A6-E3A5-4E2E-B462-3782AFBD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235F6-EC3D-4D9D-98BE-EC14FC75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30530-C3EB-4CD2-90A0-86A49C8A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0E35F-4C7C-4804-976F-A589E78B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147DF-57E9-4FD8-91CE-226A986D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ECCAD-4448-4BE3-B489-FB09D97E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AC912-400F-4DCB-94E5-B44883A6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B871E-4CBD-4B40-A5FC-82AA05CF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D2393-E964-4CF2-96FF-07E92800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336A-DF3A-424B-8423-A82D76C8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60B12-BF59-4998-AFDC-D5000780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D6DDD-84A0-4F61-A730-37127D52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44095-5718-4441-BD0F-3141D42F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66D73-F1DD-4937-9371-591E3CB3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D5582-E85F-49BF-961D-9B0FACD8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EED7C-6FCB-4B7E-AD51-3407A38F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ECAB4-603E-47A0-A545-6CEBBDF3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BC37B-CE95-4CDA-A7C4-94A229E8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2CB43-4F09-407C-A298-F5C88546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34175-6422-48DC-8C41-54F25766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0B23-B5A8-4AFC-89D5-F6F89177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DAD4A-8E4C-4469-B5B8-A3A8AB37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AAA41-7E85-4894-9470-82A6B9F6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14E2F-F8A6-4C2A-9A5B-5A650E44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ECB58-F196-40AE-B514-544CD927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E7BB0-C034-47B1-9639-1D70C56C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4651-6519-4992-9231-95EA07B5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2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6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9434-3347-40AD-86A4-81A95377F53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5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6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FA4B-1E00-426B-ABBA-1CFA2D30B3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16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5E32-F42C-4CC0-808A-710FEDB496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7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7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7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8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9778-F145-4DE1-A151-52AF8DB2AF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33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55D7-1669-4CB5-B8AB-9DDC6A2A96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82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84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63BC-8269-4A48-9039-86C71EB32C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29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31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35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19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20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2EF5-915F-432F-87B0-716BE94917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1.xm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d.wikipedia.org/w/index.php?title=Pendapatan_Asli_Daerah&amp;action=edit&amp;redlink=1" TargetMode="External"/><Relationship Id="rId2" Type="http://schemas.openxmlformats.org/officeDocument/2006/relationships/hyperlink" Target="http://id.wikipedia.org/w/index.php?title=Pendapatan_Asli_Daerah&amp;action=edit&amp;redlink=1" TargetMode="External"/><Relationship Id="rId3" Type="http://schemas.openxmlformats.org/officeDocument/2006/relationships/hyperlink" Target="http://id.wikipedia.org/w/index.php?title=Pendapatan_Asli_Daerah&amp;action=edit&amp;redlink=1" TargetMode="External"/><Relationship Id="rId4" Type="http://schemas.openxmlformats.org/officeDocument/2006/relationships/hyperlink" Target="http://id.wikipedia.org/w/index.php?title=Pendapatan_Asli_Daerah&amp;action=edit&amp;redlink=1" TargetMode="External"/><Relationship Id="rId5" Type="http://schemas.openxmlformats.org/officeDocument/2006/relationships/hyperlink" Target="http://id.wikipedia.org/w/index.php?title=Pendapatan_Asli_Daerah&amp;action=edit&amp;redlink=1" TargetMode="External"/><Relationship Id="rId6" Type="http://schemas.openxmlformats.org/officeDocument/2006/relationships/hyperlink" Target="http://id.wikipedia.org/w/index.php?title=Pajak_daerah&amp;action=edit&amp;redlink=1" TargetMode="External"/><Relationship Id="rId7" Type="http://schemas.openxmlformats.org/officeDocument/2006/relationships/hyperlink" Target="http://id.wikipedia.org/w/index.php?title=Pajak_daerah&amp;action=edit&amp;redlink=1" TargetMode="External"/><Relationship Id="rId8" Type="http://schemas.openxmlformats.org/officeDocument/2006/relationships/hyperlink" Target="http://id.wikipedia.org/w/index.php?title=Pajak_daerah&amp;action=edit&amp;redlink=1" TargetMode="External"/><Relationship Id="rId9" Type="http://schemas.openxmlformats.org/officeDocument/2006/relationships/hyperlink" Target="http://id.wikipedia.org/w/index.php?title=Retribusi_daerah&amp;action=edit&amp;redlink=1" TargetMode="External"/><Relationship Id="rId10" Type="http://schemas.openxmlformats.org/officeDocument/2006/relationships/hyperlink" Target="http://id.wikipedia.org/w/index.php?title=Retribusi_daerah&amp;action=edit&amp;redlink=1" TargetMode="External"/><Relationship Id="rId11" Type="http://schemas.openxmlformats.org/officeDocument/2006/relationships/hyperlink" Target="http://id.wikipedia.org/w/index.php?title=Retribusi_daerah&amp;action=edit&amp;redlink=1" TargetMode="External"/><Relationship Id="rId12" Type="http://schemas.openxmlformats.org/officeDocument/2006/relationships/hyperlink" Target="http://id.wikipedia.org/w/index.php?title=Dana_perimbangan&amp;action=edit&amp;redlink=1" TargetMode="External"/><Relationship Id="rId13" Type="http://schemas.openxmlformats.org/officeDocument/2006/relationships/hyperlink" Target="http://id.wikipedia.org/w/index.php?title=Dana_perimbangan&amp;action=edit&amp;redlink=1" TargetMode="External"/><Relationship Id="rId14" Type="http://schemas.openxmlformats.org/officeDocument/2006/relationships/hyperlink" Target="http://id.wikipedia.org/w/index.php?title=Dana_perimbangan&amp;action=edit&amp;redlink=1" TargetMode="External"/><Relationship Id="rId15" Type="http://schemas.openxmlformats.org/officeDocument/2006/relationships/hyperlink" Target="http://id.wikipedia.org/w/index.php?title=Dana_Bagi_Hasil&amp;action=edit&amp;redlink=1" TargetMode="External"/><Relationship Id="rId16" Type="http://schemas.openxmlformats.org/officeDocument/2006/relationships/hyperlink" Target="http://id.wikipedia.org/w/index.php?title=Dana_Bagi_Hasil&amp;action=edit&amp;redlink=1" TargetMode="External"/><Relationship Id="rId17" Type="http://schemas.openxmlformats.org/officeDocument/2006/relationships/hyperlink" Target="http://id.wikipedia.org/w/index.php?title=Dana_Bagi_Hasil&amp;action=edit&amp;redlink=1" TargetMode="External"/><Relationship Id="rId18" Type="http://schemas.openxmlformats.org/officeDocument/2006/relationships/hyperlink" Target="http://id.wikipedia.org/w/index.php?title=Dana_Bagi_Hasil&amp;action=edit&amp;redlink=1" TargetMode="External"/><Relationship Id="rId19" Type="http://schemas.openxmlformats.org/officeDocument/2006/relationships/hyperlink" Target="http://id.wikipedia.org/wiki/Dana_Alokasi_Umum" TargetMode="External"/><Relationship Id="rId20" Type="http://schemas.openxmlformats.org/officeDocument/2006/relationships/hyperlink" Target="http://id.wikipedia.org/wiki/Dana_Alokasi_Umum" TargetMode="External"/><Relationship Id="rId21" Type="http://schemas.openxmlformats.org/officeDocument/2006/relationships/hyperlink" Target="http://id.wikipedia.org/wiki/Dana_Alokasi_Umum" TargetMode="External"/><Relationship Id="rId22" Type="http://schemas.openxmlformats.org/officeDocument/2006/relationships/hyperlink" Target="http://id.wikipedia.org/wiki/Dana_Alokasi_Umum" TargetMode="External"/><Relationship Id="rId23" Type="http://schemas.openxmlformats.org/officeDocument/2006/relationships/hyperlink" Target="http://id.wikipedia.org/wiki/Dana_Alokasi_Khusus" TargetMode="External"/><Relationship Id="rId24" Type="http://schemas.openxmlformats.org/officeDocument/2006/relationships/hyperlink" Target="http://id.wikipedia.org/wiki/Dana_Alokasi_Khusus" TargetMode="External"/><Relationship Id="rId25" Type="http://schemas.openxmlformats.org/officeDocument/2006/relationships/hyperlink" Target="http://id.wikipedia.org/wiki/Dana_Alokasi_Khusus" TargetMode="External"/><Relationship Id="rId26" Type="http://schemas.openxmlformats.org/officeDocument/2006/relationships/hyperlink" Target="http://id.wikipedia.org/wiki/Dana_Alokasi_Khusus" TargetMode="External"/><Relationship Id="rId27" Type="http://schemas.openxmlformats.org/officeDocument/2006/relationships/hyperlink" Target="http://id.wikipedia.org/w/index.php?title=Dana_darurat&amp;action=edit&amp;redlink=1" TargetMode="External"/><Relationship Id="rId28" Type="http://schemas.openxmlformats.org/officeDocument/2006/relationships/hyperlink" Target="http://id.wikipedia.org/w/index.php?title=Dana_darurat&amp;action=edit&amp;redlink=1" TargetMode="External"/><Relationship Id="rId29" Type="http://schemas.openxmlformats.org/officeDocument/2006/relationships/hyperlink" Target="http://id.wikipedia.org/w/index.php?title=Dana_darurat&amp;action=edit&amp;redlink=1" TargetMode="External"/><Relationship Id="rId30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d.wikipedia.org/wiki/Indonesia" TargetMode="External"/><Relationship Id="rId2" Type="http://schemas.openxmlformats.org/officeDocument/2006/relationships/hyperlink" Target="http://id.wikipedia.org/wiki/APBN" TargetMode="External"/><Relationship Id="rId3" Type="http://schemas.openxmlformats.org/officeDocument/2006/relationships/hyperlink" Target="http://id.wikipedia.org/wiki/APBD" TargetMode="External"/><Relationship Id="rId4" Type="http://schemas.openxmlformats.org/officeDocument/2006/relationships/slideLayout" Target="../slideLayouts/slideLayout6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d.wikipedia.org/wiki/Anggaran_Pendapatan_dan_Belanja_Negara" TargetMode="External"/><Relationship Id="rId2" Type="http://schemas.openxmlformats.org/officeDocument/2006/relationships/hyperlink" Target="http://id.wikipedia.org/wiki/Anggaran_Pendapatan_dan_Belanja_Negara" TargetMode="External"/><Relationship Id="rId3" Type="http://schemas.openxmlformats.org/officeDocument/2006/relationships/hyperlink" Target="http://id.wikipedia.org/wiki/Anggaran_Pendapatan_dan_Belanja_Negara" TargetMode="External"/><Relationship Id="rId4" Type="http://schemas.openxmlformats.org/officeDocument/2006/relationships/hyperlink" Target="http://id.wikipedia.org/wiki/Pemerintahan_Daerah" TargetMode="External"/><Relationship Id="rId5" Type="http://schemas.openxmlformats.org/officeDocument/2006/relationships/hyperlink" Target="http://id.wikipedia.org/w/index.php?title=Dana_Perimbangan&amp;action=edit&amp;redlink=1" TargetMode="External"/><Relationship Id="rId6" Type="http://schemas.openxmlformats.org/officeDocument/2006/relationships/hyperlink" Target="http://id.wikipedia.org/wiki/Dana_Alokasi_Umum" TargetMode="External"/><Relationship Id="rId7" Type="http://schemas.openxmlformats.org/officeDocument/2006/relationships/slideLayout" Target="../slideLayouts/slideLayout6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2.xml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8.xm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d.wikipedia.org/wiki/Rakyat" TargetMode="External"/><Relationship Id="rId2" Type="http://schemas.openxmlformats.org/officeDocument/2006/relationships/hyperlink" Target="http://id.wikipedia.org/wiki/Pemerintah" TargetMode="External"/><Relationship Id="rId3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0"/>
          <p:cNvSpPr/>
          <p:nvPr/>
        </p:nvSpPr>
        <p:spPr>
          <a:xfrm>
            <a:off x="3124080" y="2286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LAS XI  Semest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1"/>
          <p:cNvSpPr/>
          <p:nvPr/>
        </p:nvSpPr>
        <p:spPr>
          <a:xfrm>
            <a:off x="2971800" y="3733920"/>
            <a:ext cx="3429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S. TRI NARDO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A N 1 DE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915320" y="6286680"/>
            <a:ext cx="1228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ditor: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qbal Fauzi Rakhmat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ri Nur Mulyati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057400" y="609480"/>
            <a:ext cx="586728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PBN DAN APBD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2" name="">
            <a:hlinkClick r:id="" action="ppaction://hlinkshowjump?jump=nextslide"/>
          </p:cNvPr>
          <p:cNvSpPr/>
          <p:nvPr/>
        </p:nvSpPr>
        <p:spPr>
          <a:xfrm>
            <a:off x="8534520" y="58672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Organization Chart 5"/>
          <p:cNvGrpSpPr/>
          <p:nvPr/>
        </p:nvGrpSpPr>
        <p:grpSpPr>
          <a:xfrm>
            <a:off x="609480" y="1044720"/>
            <a:ext cx="7391160" cy="4588920"/>
            <a:chOff x="609480" y="1044720"/>
            <a:chExt cx="7391160" cy="4588920"/>
          </a:xfrm>
        </p:grpSpPr>
        <p:cxnSp>
          <p:nvCxnSpPr>
            <p:cNvPr id="417" name="_s1028"/>
            <p:cNvCxnSpPr>
              <a:stCxn id="418" idx="1"/>
              <a:endCxn id="419" idx="2"/>
            </p:cNvCxnSpPr>
            <p:nvPr/>
          </p:nvCxnSpPr>
          <p:spPr>
            <a:xfrm rot="10800000">
              <a:off x="2838600" y="2195280"/>
              <a:ext cx="702000" cy="2865240"/>
            </a:xfrm>
            <a:prstGeom prst="bentConnector2">
              <a:avLst/>
            </a:prstGeom>
            <a:ln w="57240">
              <a:solidFill>
                <a:srgbClr val="3333ff"/>
              </a:solidFill>
              <a:miter/>
            </a:ln>
          </p:spPr>
        </p:cxnSp>
        <p:cxnSp>
          <p:nvCxnSpPr>
            <p:cNvPr id="420" name="_s1029"/>
            <p:cNvCxnSpPr>
              <a:stCxn id="421" idx="1"/>
              <a:endCxn id="419" idx="2"/>
            </p:cNvCxnSpPr>
            <p:nvPr/>
          </p:nvCxnSpPr>
          <p:spPr>
            <a:xfrm rot="10800000">
              <a:off x="2838600" y="2194560"/>
              <a:ext cx="702000" cy="1146240"/>
            </a:xfrm>
            <a:prstGeom prst="bentConnector2">
              <a:avLst/>
            </a:prstGeom>
            <a:ln w="57240">
              <a:solidFill>
                <a:srgbClr val="3333ff"/>
              </a:solidFill>
              <a:miter/>
            </a:ln>
          </p:spPr>
        </p:cxnSp>
        <p:sp>
          <p:nvSpPr>
            <p:cNvPr id="419" name="_s1030"/>
            <p:cNvSpPr/>
            <p:nvPr/>
          </p:nvSpPr>
          <p:spPr>
            <a:xfrm>
              <a:off x="609480" y="1044720"/>
              <a:ext cx="4460040" cy="11505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SUMBER-SUMBER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ENDAPATAN NEGAR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_s1031">
              <a:hlinkClick r:id="rId1" action="ppaction://hlinksldjump"/>
            </p:cNvPr>
            <p:cNvSpPr/>
            <p:nvPr/>
          </p:nvSpPr>
          <p:spPr>
            <a:xfrm>
              <a:off x="3540960" y="2764080"/>
              <a:ext cx="4459680" cy="115200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u="sng">
                  <a:solidFill>
                    <a:srgbClr val="990033"/>
                  </a:solidFill>
                  <a:uFillTx/>
                  <a:latin typeface="Arial"/>
                  <a:hlinkClick r:id="rId2" action="ppaction://hlinksldjump"/>
                </a:rPr>
                <a:t>PENERIMAAN</a:t>
              </a:r>
              <a:r>
                <a:rPr b="0" lang="en-US" sz="22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ALAM NEGER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1032"/>
            <p:cNvSpPr/>
            <p:nvPr/>
          </p:nvSpPr>
          <p:spPr>
            <a:xfrm>
              <a:off x="3540960" y="4484880"/>
              <a:ext cx="4459680" cy="1148760"/>
            </a:xfrm>
            <a:prstGeom prst="roundRect">
              <a:avLst>
                <a:gd name="adj" fmla="val 16667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IBAH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2" name="Picture 22" descr=""/>
            <p:cNvPicPr/>
            <p:nvPr/>
          </p:nvPicPr>
          <p:blipFill>
            <a:blip r:embed="rId3"/>
            <a:stretch/>
          </p:blipFill>
          <p:spPr>
            <a:xfrm>
              <a:off x="914040" y="4389480"/>
              <a:ext cx="1523520" cy="69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21" descr=""/>
            <p:cNvPicPr/>
            <p:nvPr/>
          </p:nvPicPr>
          <p:blipFill>
            <a:blip r:embed="rId4"/>
            <a:stretch/>
          </p:blipFill>
          <p:spPr>
            <a:xfrm>
              <a:off x="882360" y="3533760"/>
              <a:ext cx="155520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23" descr=""/>
            <p:cNvPicPr/>
            <p:nvPr/>
          </p:nvPicPr>
          <p:blipFill>
            <a:blip r:embed="rId5"/>
            <a:stretch/>
          </p:blipFill>
          <p:spPr>
            <a:xfrm>
              <a:off x="882360" y="2755800"/>
              <a:ext cx="1555200" cy="67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5" name="Text Box 25"/>
          <p:cNvSpPr/>
          <p:nvPr/>
        </p:nvSpPr>
        <p:spPr>
          <a:xfrm>
            <a:off x="0" y="64771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DRS. TRI NARDONO SMA N 1 DEP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763E-006 L 0.875 -0.01318 E">
                                      <p:cBhvr>
                                        <p:cTn id="169" dur="5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4">
            <a:hlinkClick r:id="" action="ppaction://hlinkshowjump?jump=previousslide"/>
          </p:cNvPr>
          <p:cNvSpPr/>
          <p:nvPr/>
        </p:nvSpPr>
        <p:spPr>
          <a:xfrm>
            <a:off x="1447920" y="3505320"/>
            <a:ext cx="2133360" cy="8254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enerimaan Dalam Neg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"/>
          <p:cNvSpPr/>
          <p:nvPr/>
        </p:nvSpPr>
        <p:spPr>
          <a:xfrm>
            <a:off x="3581280" y="3809880"/>
            <a:ext cx="45720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6"/>
          <p:cNvSpPr/>
          <p:nvPr/>
        </p:nvSpPr>
        <p:spPr>
          <a:xfrm>
            <a:off x="4038480" y="2133720"/>
            <a:ext cx="0" cy="327636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7"/>
          <p:cNvSpPr/>
          <p:nvPr/>
        </p:nvSpPr>
        <p:spPr>
          <a:xfrm>
            <a:off x="4038480" y="2133720"/>
            <a:ext cx="83844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4038480" y="5410080"/>
            <a:ext cx="914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4952880" y="1828800"/>
            <a:ext cx="2133720" cy="825480"/>
          </a:xfrm>
          <a:prstGeom prst="rect">
            <a:avLst/>
          </a:prstGeom>
          <a:solidFill>
            <a:srgbClr val="f9a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enerimaan dari Paj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5029200" y="5073480"/>
            <a:ext cx="2133720" cy="825480"/>
          </a:xfrm>
          <a:prstGeom prst="rect">
            <a:avLst/>
          </a:prstGeom>
          <a:solidFill>
            <a:srgbClr val="f9a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enerimaan Bukan Paj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5"/>
          <p:cNvSpPr/>
          <p:nvPr/>
        </p:nvSpPr>
        <p:spPr>
          <a:xfrm>
            <a:off x="0" y="64771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DRS. TRI NARDONO SMA N 1 DCCEP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763E-006 L 0.875 -0.01318 E">
                                      <p:cBhvr>
                                        <p:cTn id="189" dur="5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Organization Chart 5"/>
          <p:cNvGrpSpPr/>
          <p:nvPr/>
        </p:nvGrpSpPr>
        <p:grpSpPr>
          <a:xfrm>
            <a:off x="1219320" y="1557360"/>
            <a:ext cx="6704640" cy="3839040"/>
            <a:chOff x="1219320" y="1557360"/>
            <a:chExt cx="6704640" cy="3839040"/>
          </a:xfrm>
        </p:grpSpPr>
        <p:cxnSp>
          <p:nvCxnSpPr>
            <p:cNvPr id="437" name="_s2052"/>
            <p:cNvCxnSpPr>
              <a:stCxn id="438" idx="0"/>
              <a:endCxn id="439" idx="2"/>
            </p:cNvCxnSpPr>
            <p:nvPr/>
          </p:nvCxnSpPr>
          <p:spPr>
            <a:xfrm flipV="1" rot="16200000">
              <a:off x="5087880" y="2573640"/>
              <a:ext cx="772200" cy="1805400"/>
            </a:xfrm>
            <a:prstGeom prst="bentConnector3">
              <a:avLst>
                <a:gd name="adj1" fmla="val 9701"/>
              </a:avLst>
            </a:prstGeom>
            <a:ln w="57240">
              <a:solidFill>
                <a:srgbClr val="3333ff"/>
              </a:solidFill>
              <a:miter/>
            </a:ln>
          </p:spPr>
        </p:cxnSp>
        <p:cxnSp>
          <p:nvCxnSpPr>
            <p:cNvPr id="440" name="_s2053"/>
            <p:cNvCxnSpPr>
              <a:stCxn id="441" idx="0"/>
              <a:endCxn id="439" idx="2"/>
            </p:cNvCxnSpPr>
            <p:nvPr/>
          </p:nvCxnSpPr>
          <p:spPr>
            <a:xfrm flipH="1" flipV="1" rot="5400000">
              <a:off x="3283200" y="2573280"/>
              <a:ext cx="772200" cy="1806120"/>
            </a:xfrm>
            <a:prstGeom prst="bentConnector3">
              <a:avLst>
                <a:gd name="adj1" fmla="val 9701"/>
              </a:avLst>
            </a:prstGeom>
            <a:ln w="57240">
              <a:solidFill>
                <a:srgbClr val="3333ff"/>
              </a:solidFill>
              <a:miter/>
            </a:ln>
          </p:spPr>
        </p:cxnSp>
        <p:sp>
          <p:nvSpPr>
            <p:cNvPr id="439" name="_s2054"/>
            <p:cNvSpPr/>
            <p:nvPr/>
          </p:nvSpPr>
          <p:spPr>
            <a:xfrm>
              <a:off x="3024720" y="1557360"/>
              <a:ext cx="3094560" cy="153360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Pembelanjaa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Negara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2055">
              <a:hlinkClick r:id="rId1" action="ppaction://hlinksldjump"/>
            </p:cNvPr>
            <p:cNvSpPr/>
            <p:nvPr/>
          </p:nvSpPr>
          <p:spPr>
            <a:xfrm>
              <a:off x="1219320" y="3862800"/>
              <a:ext cx="3094560" cy="153360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Belanja Pemerintah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Pusa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_s2056"/>
            <p:cNvSpPr/>
            <p:nvPr/>
          </p:nvSpPr>
          <p:spPr>
            <a:xfrm>
              <a:off x="4829400" y="3862800"/>
              <a:ext cx="3094560" cy="1533600"/>
            </a:xfrm>
            <a:prstGeom prst="roundRect">
              <a:avLst>
                <a:gd name="adj" fmla="val 16667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Dana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Perimbanga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 Box 19"/>
          <p:cNvSpPr/>
          <p:nvPr/>
        </p:nvSpPr>
        <p:spPr>
          <a:xfrm>
            <a:off x="0" y="64771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DRS. TRI NARDONO SMA N 1 DEP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7493"/>
                </a:moveTo>
                <a:lnTo>
                  <a:pt x="9451" y="7493"/>
                </a:lnTo>
                <a:lnTo>
                  <a:pt x="9451" y="12828"/>
                </a:lnTo>
                <a:cubicBezTo>
                  <a:pt x="9451" y="13751"/>
                  <a:pt x="10252" y="14482"/>
                  <a:pt x="11287" y="14482"/>
                </a:cubicBezTo>
                <a:lnTo>
                  <a:pt x="12950" y="14482"/>
                </a:lnTo>
                <a:cubicBezTo>
                  <a:pt x="13986" y="14482"/>
                  <a:pt x="14786" y="13751"/>
                  <a:pt x="14786" y="12828"/>
                </a:cubicBezTo>
                <a:lnTo>
                  <a:pt x="14786" y="7493"/>
                </a:lnTo>
                <a:lnTo>
                  <a:pt x="12950" y="7493"/>
                </a:lnTo>
                <a:lnTo>
                  <a:pt x="16457" y="3985"/>
                </a:lnTo>
                <a:lnTo>
                  <a:pt x="20130" y="7493"/>
                </a:lnTo>
                <a:lnTo>
                  <a:pt x="18294" y="7493"/>
                </a:lnTo>
                <a:lnTo>
                  <a:pt x="18294" y="12828"/>
                </a:lnTo>
                <a:cubicBezTo>
                  <a:pt x="18294" y="15596"/>
                  <a:pt x="15718" y="18155"/>
                  <a:pt x="12950" y="18155"/>
                </a:cubicBezTo>
                <a:lnTo>
                  <a:pt x="11287" y="18155"/>
                </a:lnTo>
                <a:cubicBezTo>
                  <a:pt x="8520" y="18155"/>
                  <a:pt x="5943" y="15596"/>
                  <a:pt x="5943" y="12828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763E-006 L 0.875 -0.01318 E">
                                      <p:cBhvr>
                                        <p:cTn id="198" dur="5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ujuan APBN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143000" y="32763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yusunan APBN ditujukan untuk mengatur penerimaan dan pengeluaran negara agar pemanfaatan keuangan negara dapat mencapai sasaran yaitu meningkatkan kesejahteraan rakyat. APBN juga bertujuan memudahkan pengambilan keputusan mengenai pengeluaran tahu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7493"/>
                </a:moveTo>
                <a:lnTo>
                  <a:pt x="9451" y="7493"/>
                </a:lnTo>
                <a:lnTo>
                  <a:pt x="9451" y="12828"/>
                </a:lnTo>
                <a:cubicBezTo>
                  <a:pt x="9451" y="13751"/>
                  <a:pt x="10252" y="14482"/>
                  <a:pt x="11287" y="14482"/>
                </a:cubicBezTo>
                <a:lnTo>
                  <a:pt x="12950" y="14482"/>
                </a:lnTo>
                <a:cubicBezTo>
                  <a:pt x="13986" y="14482"/>
                  <a:pt x="14786" y="13751"/>
                  <a:pt x="14786" y="12828"/>
                </a:cubicBezTo>
                <a:lnTo>
                  <a:pt x="14786" y="7493"/>
                </a:lnTo>
                <a:lnTo>
                  <a:pt x="12950" y="7493"/>
                </a:lnTo>
                <a:lnTo>
                  <a:pt x="16457" y="3985"/>
                </a:lnTo>
                <a:lnTo>
                  <a:pt x="20130" y="7493"/>
                </a:lnTo>
                <a:lnTo>
                  <a:pt x="18294" y="7493"/>
                </a:lnTo>
                <a:lnTo>
                  <a:pt x="18294" y="12828"/>
                </a:lnTo>
                <a:cubicBezTo>
                  <a:pt x="18294" y="15596"/>
                  <a:pt x="15718" y="18155"/>
                  <a:pt x="12950" y="18155"/>
                </a:cubicBezTo>
                <a:lnTo>
                  <a:pt x="11287" y="18155"/>
                </a:lnTo>
                <a:cubicBezTo>
                  <a:pt x="8520" y="18155"/>
                  <a:pt x="5943" y="15596"/>
                  <a:pt x="5943" y="12828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Asas anggaran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as anggaran surpl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emerintah memberlakukan anggaran dengan pendapatan lebih besar dari belanja neg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as anggaran defis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emerintah memberlakukan anggaran dengan pendapatan lebih kecil dari belanja neg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as anggaran berimb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emerintah memberlakukan anggaran dengan pendapatan sama dengan belanja neg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7493"/>
                </a:moveTo>
                <a:lnTo>
                  <a:pt x="9451" y="7493"/>
                </a:lnTo>
                <a:lnTo>
                  <a:pt x="9451" y="12828"/>
                </a:lnTo>
                <a:cubicBezTo>
                  <a:pt x="9451" y="13751"/>
                  <a:pt x="10252" y="14482"/>
                  <a:pt x="11287" y="14482"/>
                </a:cubicBezTo>
                <a:lnTo>
                  <a:pt x="12950" y="14482"/>
                </a:lnTo>
                <a:cubicBezTo>
                  <a:pt x="13986" y="14482"/>
                  <a:pt x="14786" y="13751"/>
                  <a:pt x="14786" y="12828"/>
                </a:cubicBezTo>
                <a:lnTo>
                  <a:pt x="14786" y="7493"/>
                </a:lnTo>
                <a:lnTo>
                  <a:pt x="12950" y="7493"/>
                </a:lnTo>
                <a:lnTo>
                  <a:pt x="16457" y="3985"/>
                </a:lnTo>
                <a:lnTo>
                  <a:pt x="20130" y="7493"/>
                </a:lnTo>
                <a:lnTo>
                  <a:pt x="18294" y="7493"/>
                </a:lnTo>
                <a:lnTo>
                  <a:pt x="18294" y="12828"/>
                </a:lnTo>
                <a:cubicBezTo>
                  <a:pt x="18294" y="15596"/>
                  <a:pt x="15718" y="18155"/>
                  <a:pt x="12950" y="18155"/>
                </a:cubicBezTo>
                <a:lnTo>
                  <a:pt x="11287" y="18155"/>
                </a:lnTo>
                <a:cubicBezTo>
                  <a:pt x="8520" y="18155"/>
                  <a:pt x="5943" y="15596"/>
                  <a:pt x="5943" y="12828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ahoma"/>
              </a:rPr>
              <a:t>FORMAT APB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058760" y="1600200"/>
          <a:ext cx="7556760" cy="4732200"/>
        </p:xfrm>
        <a:graphic>
          <a:graphicData uri="http://schemas.openxmlformats.org/drawingml/2006/table">
            <a:tbl>
              <a:tblPr/>
              <a:tblGrid>
                <a:gridCol w="4059360"/>
                <a:gridCol w="1770120"/>
                <a:gridCol w="172728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A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BN  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dalam rupiah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BN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lam rupiah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dapatan Negara dan Hib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Penerimaan Dalam Neg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. Hib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AutoNum type="alphaU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nja Nega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 Belanja Pemerintah Pu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. Belanja Daer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AutoNum type="alphaU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seimbangan Prim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AutoNum type="alphaU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plus / Defisit Anggaran ( A – B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Arial"/>
                        <a:buAutoNum type="alphaU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biaya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 Pembiayaan Dalam Nege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. Pembiayaan Luar Nege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3.769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3.03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.04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.036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.00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95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6.271,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27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5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3.778,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.77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9.62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7.769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6.22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.54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74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7.392,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39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58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.193,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2" name="Text Box 44"/>
          <p:cNvSpPr/>
          <p:nvPr/>
        </p:nvSpPr>
        <p:spPr>
          <a:xfrm>
            <a:off x="0" y="64771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DRS. TRI NARDONO SMA N 1 DEP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763E-006 L 0.875 -0.01318 E">
                                      <p:cBhvr>
                                        <p:cTn id="204" dur="5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5" name=""/>
          <p:cNvGraphicFramePr/>
          <p:nvPr/>
        </p:nvGraphicFramePr>
        <p:xfrm>
          <a:off x="2425680" y="2444760"/>
          <a:ext cx="5270400" cy="3591000"/>
        </p:xfrm>
        <a:graphic>
          <a:graphicData uri="http://schemas.openxmlformats.org/drawingml/2006/table">
            <a:tbl>
              <a:tblPr/>
              <a:tblGrid>
                <a:gridCol w="765360"/>
                <a:gridCol w="2974680"/>
                <a:gridCol w="1530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lam Jutaan Rupi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268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dapatan Neg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erimaan dalam nege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b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anja Neg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anja Pemerintah Pus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b2b2b2"/>
                        </a:buClr>
                        <a:buSzPct val="90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ggaran Belanja Untuk Daer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7,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9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,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sp>
        <p:nvSpPr>
          <p:cNvPr id="456" name="Text Box 74"/>
          <p:cNvSpPr/>
          <p:nvPr/>
        </p:nvSpPr>
        <p:spPr>
          <a:xfrm>
            <a:off x="1828800" y="380880"/>
            <a:ext cx="6019920" cy="825480"/>
          </a:xfrm>
          <a:prstGeom prst="rect">
            <a:avLst/>
          </a:prstGeom>
          <a:solidFill>
            <a:srgbClr val="f9a5bd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ta Pendapatan dan Pengeluaran Negara X Tahun 2004 (miliar rupia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76"/>
          <p:cNvSpPr/>
          <p:nvPr/>
        </p:nvSpPr>
        <p:spPr>
          <a:xfrm>
            <a:off x="0" y="64771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DRS. TRI NARDONO SMA N 1 DEP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1" dur="75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Pengaruh APBN terhadap perekonomian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bijakan defisit cenderung mendorong terjadinya kenaikan harga (infla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bijakan surplus cenderung mendorong terjadinya penurunan harga (defla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GARAN PENDAPATAN DAN BELANJA DAERAH (APBD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lah daftar sistematis yang memuat rencana penerimaan dan pengeluaran daerah dalam satu tah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Anggaran pendapatan daerah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Pendapatan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Asli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Daera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PAD), yang meliputi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6"/>
              </a:rPr>
              <a:t>pajak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7"/>
              </a:rPr>
              <a:t>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8"/>
              </a:rPr>
              <a:t>daera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9"/>
              </a:rPr>
              <a:t>retribusi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10"/>
              </a:rPr>
              <a:t>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11"/>
              </a:rPr>
              <a:t>daera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hasil pengelolaan kekayaan daerah, dan penerimaan lain-l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gian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12"/>
              </a:rPr>
              <a:t>dana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13"/>
              </a:rPr>
              <a:t>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14"/>
              </a:rPr>
              <a:t>perimbang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yang meliputi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15"/>
              </a:rPr>
              <a:t>Dana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16"/>
              </a:rPr>
              <a:t>Bagi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17"/>
              </a:rPr>
              <a:t>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18"/>
              </a:rPr>
              <a:t>Hasi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19"/>
              </a:rPr>
              <a:t>Dana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20"/>
              </a:rPr>
              <a:t>Alokasi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21"/>
              </a:rPr>
              <a:t>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22"/>
              </a:rPr>
              <a:t>Umu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DAU) dan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23"/>
              </a:rPr>
              <a:t>Dana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24"/>
              </a:rPr>
              <a:t>Alokasi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25"/>
              </a:rPr>
              <a:t>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26"/>
              </a:rPr>
              <a:t>Khus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in-lain pendapatan yang sah seperti dana hibah atau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27"/>
              </a:rPr>
              <a:t>dana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28"/>
              </a:rPr>
              <a:t> </a:t>
            </a:r>
            <a:r>
              <a:rPr b="0" lang="en-US" sz="2600" spc="-1" strike="noStrike" u="sng">
                <a:solidFill>
                  <a:srgbClr val="990033"/>
                </a:solidFill>
                <a:uFillTx/>
                <a:latin typeface="Arial"/>
                <a:hlinkClick r:id="rId29"/>
              </a:rPr>
              <a:t>darura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NU UTAMA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STANDAR KOMPETEN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KOMPETENSI DA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K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3" action="ppaction://hlinksldjump"/>
              </a:rPr>
              <a:t>MAT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ggaran pengeluaran daerah 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ggaran belan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ang digunakan untuk keperluan penyelenggaraan tugas pemerintahan di daera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mbiaya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aitu setiap penerimaan yang perlu dibayar kembali dan/atau pengeluaran yang akan diterima kembali, baik pada tahun anggaran yang bersangkutan maupun tahun-tahun anggaran berikutny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Dana Alokasi Umum (DAU) adalah sejumlah dana yang dialokasikan kepada setiap Daerah Otonom (provinsi/kabupaten/kota) di </a:t>
            </a:r>
            <a:r>
              <a:rPr b="0" lang="en-US" sz="25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Indonesia</a:t>
            </a: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 setiap tahunnya sebagai dana pembangunan. DAU merupakan salah satu komponen belanja pada </a:t>
            </a:r>
            <a:r>
              <a:rPr b="0" lang="en-US" sz="2500" spc="-1" strike="noStrike" u="sng">
                <a:solidFill>
                  <a:srgbClr val="990033"/>
                </a:solidFill>
                <a:uFillTx/>
                <a:latin typeface="Times New Roman"/>
                <a:hlinkClick r:id="rId2"/>
              </a:rPr>
              <a:t>APBN</a:t>
            </a: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, dan menjadi salah satu komponen pendapatan pada </a:t>
            </a:r>
            <a:r>
              <a:rPr b="0" lang="en-US" sz="2500" spc="-1" strike="noStrike" u="sng">
                <a:solidFill>
                  <a:srgbClr val="990033"/>
                </a:solidFill>
                <a:uFillTx/>
                <a:latin typeface="Times New Roman"/>
                <a:hlinkClick r:id="rId3"/>
              </a:rPr>
              <a:t>APBD</a:t>
            </a: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. Tujuan DAU adalah sebagai pemerataan kemampuan keuangan antardaerah untuk mendanai kebutuhan Daerah Otonom dalam rangka pelaksanaan desentralisasi.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7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500" spc="-1" strike="noStrike">
                <a:solidFill>
                  <a:srgbClr val="330033"/>
                </a:solidFill>
                <a:latin typeface="Times New Roman"/>
              </a:rPr>
              <a:t>Dana Alokasi Khusus (DAK), adalah alokasi dari </a:t>
            </a:r>
            <a:r>
              <a:rPr b="0" lang="fi-FI" sz="25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Anggaran</a:t>
            </a:r>
            <a:r>
              <a:rPr b="0" lang="fi-FI" sz="2500" spc="-1" strike="noStrike" u="sng">
                <a:solidFill>
                  <a:srgbClr val="990033"/>
                </a:solidFill>
                <a:uFillTx/>
                <a:latin typeface="Times New Roman"/>
                <a:hlinkClick r:id="rId2"/>
              </a:rPr>
              <a:t> </a:t>
            </a:r>
            <a:r>
              <a:rPr b="0" lang="fi-FI" sz="2900" spc="-1" strike="noStrike" u="sng">
                <a:solidFill>
                  <a:srgbClr val="990033"/>
                </a:solidFill>
                <a:uFillTx/>
                <a:latin typeface="Times New Roman"/>
                <a:hlinkClick r:id="rId3"/>
              </a:rPr>
              <a:t>Pendapatan dan Belanja Negara</a:t>
            </a:r>
            <a:r>
              <a:rPr b="0" lang="fi-FI" sz="2900" spc="-1" strike="noStrike">
                <a:solidFill>
                  <a:srgbClr val="330033"/>
                </a:solidFill>
                <a:latin typeface="Times New Roman"/>
              </a:rPr>
              <a:t> kepada provinsi/kabupaten/kota tertentu dengan tujuan untuk mendanai kegiatan khusus yang merupakan urusan </a:t>
            </a:r>
            <a:r>
              <a:rPr b="0" lang="fi-FI" sz="2900" spc="-1" strike="noStrike" u="sng">
                <a:solidFill>
                  <a:srgbClr val="990033"/>
                </a:solidFill>
                <a:uFillTx/>
                <a:latin typeface="Times New Roman"/>
                <a:hlinkClick r:id="rId4"/>
              </a:rPr>
              <a:t>Pemerintahan Daerah</a:t>
            </a:r>
            <a:r>
              <a:rPr b="0" lang="fi-FI" sz="2900" spc="-1" strike="noStrike">
                <a:solidFill>
                  <a:srgbClr val="330033"/>
                </a:solidFill>
                <a:latin typeface="Times New Roman"/>
              </a:rPr>
              <a:t> dan sesuai dengan prioritas nasional.</a:t>
            </a:r>
            <a:br>
              <a:rPr sz="2900"/>
            </a:br>
            <a:r>
              <a:rPr b="0" lang="fi-FI" sz="2900" spc="-1" strike="noStrike">
                <a:solidFill>
                  <a:srgbClr val="330033"/>
                </a:solidFill>
                <a:latin typeface="Times New Roman"/>
              </a:rPr>
              <a:t>DAK termasuk </a:t>
            </a:r>
            <a:r>
              <a:rPr b="0" lang="fi-FI" sz="2900" spc="-1" strike="noStrike" u="sng">
                <a:solidFill>
                  <a:srgbClr val="990033"/>
                </a:solidFill>
                <a:uFillTx/>
                <a:latin typeface="Times New Roman"/>
                <a:hlinkClick r:id="rId5"/>
              </a:rPr>
              <a:t>Dana Perimbangan</a:t>
            </a:r>
            <a:r>
              <a:rPr b="0" lang="fi-FI" sz="2900" spc="-1" strike="noStrike">
                <a:solidFill>
                  <a:srgbClr val="330033"/>
                </a:solidFill>
                <a:latin typeface="Times New Roman"/>
              </a:rPr>
              <a:t>, di samping </a:t>
            </a:r>
            <a:r>
              <a:rPr b="0" lang="fi-FI" sz="2900" spc="-1" strike="noStrike" u="sng">
                <a:solidFill>
                  <a:srgbClr val="990033"/>
                </a:solidFill>
                <a:uFillTx/>
                <a:latin typeface="Times New Roman"/>
                <a:hlinkClick r:id="rId6"/>
              </a:rPr>
              <a:t>Dana Alokasi Umum</a:t>
            </a:r>
            <a:r>
              <a:rPr b="0" lang="fi-FI" sz="2900" spc="-1" strike="noStrike">
                <a:solidFill>
                  <a:srgbClr val="330033"/>
                </a:solidFill>
                <a:latin typeface="Times New Roman"/>
              </a:rPr>
              <a:t> (DAU).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0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10" descr=""/>
          <p:cNvPicPr/>
          <p:nvPr/>
        </p:nvPicPr>
        <p:blipFill>
          <a:blip r:embed="rId1"/>
          <a:stretch/>
        </p:blipFill>
        <p:spPr>
          <a:xfrm>
            <a:off x="6172200" y="228600"/>
            <a:ext cx="2590920" cy="19051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1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2286000" cy="20574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2" descr=""/>
          <p:cNvPicPr/>
          <p:nvPr/>
        </p:nvPicPr>
        <p:blipFill>
          <a:blip r:embed="rId3"/>
          <a:stretch/>
        </p:blipFill>
        <p:spPr>
          <a:xfrm>
            <a:off x="3124080" y="152280"/>
            <a:ext cx="2210040" cy="19051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0" descr=""/>
          <p:cNvPicPr/>
          <p:nvPr/>
        </p:nvPicPr>
        <p:blipFill>
          <a:blip r:embed="rId4"/>
          <a:stretch/>
        </p:blipFill>
        <p:spPr>
          <a:xfrm>
            <a:off x="3809880" y="2362320"/>
            <a:ext cx="2667240" cy="236196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21"/>
          <p:cNvSpPr/>
          <p:nvPr/>
        </p:nvSpPr>
        <p:spPr>
          <a:xfrm>
            <a:off x="1447920" y="4952880"/>
            <a:ext cx="7696080" cy="13737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BANGUNAN DIATAS YANG MERUPAKAN FASILITAS UMUM DIBANGUN DENGAN UANG DARI PAJ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2"/>
          <p:cNvSpPr/>
          <p:nvPr/>
        </p:nvSpPr>
        <p:spPr>
          <a:xfrm>
            <a:off x="0" y="64771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DRS. TRI NARDONO SMA N 1 DEP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>
            <a:hlinkClick r:id="" action="ppaction://hlinkshowjump?jump=nextslide"/>
          </p:cNvPr>
          <p:cNvSpPr/>
          <p:nvPr/>
        </p:nvSpPr>
        <p:spPr>
          <a:xfrm>
            <a:off x="830592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763E-006 L 0.875 -0.01318 E">
                                      <p:cBhvr>
                                        <p:cTn id="233" dur="5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2057400" y="236232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WordArt 3"/>
          <p:cNvSpPr txBox="1"/>
          <p:nvPr/>
        </p:nvSpPr>
        <p:spPr>
          <a:xfrm>
            <a:off x="2133720" y="1828800"/>
            <a:ext cx="495288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ERIMA KASIH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1" name="Picture 4" descr="Bear_dances"/>
          <p:cNvPicPr/>
          <p:nvPr/>
        </p:nvPicPr>
        <p:blipFill>
          <a:blip r:embed="rId1"/>
          <a:stretch/>
        </p:blipFill>
        <p:spPr>
          <a:xfrm>
            <a:off x="3429000" y="3276720"/>
            <a:ext cx="2209680" cy="2143080"/>
          </a:xfrm>
          <a:prstGeom prst="rect">
            <a:avLst/>
          </a:prstGeom>
          <a:ln w="0">
            <a:noFill/>
          </a:ln>
        </p:spPr>
      </p:pic>
      <p:sp>
        <p:nvSpPr>
          <p:cNvPr id="492" name="Text Box 6"/>
          <p:cNvSpPr/>
          <p:nvPr/>
        </p:nvSpPr>
        <p:spPr>
          <a:xfrm>
            <a:off x="152280" y="632448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DRS. TRI NARDONO SMA N 1 DEP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>
            <a:hlinkClick r:id="rId2" action="ppaction://hlinksldjump"/>
          </p:cNvPr>
          <p:cNvSpPr/>
          <p:nvPr/>
        </p:nvSpPr>
        <p:spPr>
          <a:xfrm>
            <a:off x="8229600" y="60199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763E-006 L 0.875 -0.01318 E">
                                      <p:cBhvr>
                                        <p:cTn id="239" dur="5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6699ff"/>
                </a:solidFill>
                <a:latin typeface="Verdana"/>
              </a:rPr>
              <a:t>Memahami APBN dan AP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1371600" y="1873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ndar Kompeten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6"/>
          <p:cNvSpPr/>
          <p:nvPr/>
        </p:nvSpPr>
        <p:spPr>
          <a:xfrm>
            <a:off x="0" y="64771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DRS. TRI NARDONO SMA N 1 DEP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>
            <a:hlinkClick r:id="rId1" action="ppaction://hlinksldjump"/>
          </p:cNvPr>
          <p:cNvSpPr/>
          <p:nvPr/>
        </p:nvSpPr>
        <p:spPr>
          <a:xfrm>
            <a:off x="8229600" y="60199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763E-006 L 0.875 -0.01318 E">
                                      <p:cBhvr>
                                        <p:cTn id="64" dur="5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Kompetensi Dasar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6699ff"/>
                </a:solidFill>
                <a:latin typeface="Arial"/>
              </a:rPr>
              <a:t>Menjelaskan pengertian, fungsi, tujuan APBN dan AP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6699ff"/>
                </a:solidFill>
                <a:latin typeface="Arial"/>
              </a:rPr>
              <a:t>Mengidentifikasi sumber-sumber penerimaan pemerintah pusat dan pemerintah daer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0" y="64771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DRS. TRI NARDONO SMA N 1 DEP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rId1" action="ppaction://hlinksldjump"/>
          </p:cNvPr>
          <p:cNvSpPr/>
          <p:nvPr/>
        </p:nvSpPr>
        <p:spPr>
          <a:xfrm>
            <a:off x="8229600" y="60199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763E-006 L 0.875 -0.01318 E">
                                      <p:cBhvr>
                                        <p:cTn id="70" dur="5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DIKATO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Menguraikan arti, fungsi dan tujuan APBN dan APB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Mengidentifikasi sumber-sumber pendapatan negara dan daera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Menguraikan pengaruh APBN dan APBD terhadap perekonomi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0592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AutoShape 4"/>
          <p:cNvSpPr/>
          <p:nvPr/>
        </p:nvSpPr>
        <p:spPr>
          <a:xfrm>
            <a:off x="152280" y="152280"/>
            <a:ext cx="2438640" cy="1828800"/>
          </a:xfrm>
          <a:prstGeom prst="cloudCallout">
            <a:avLst>
              <a:gd name="adj1" fmla="val 51629"/>
              <a:gd name="adj2" fmla="val 13229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3"/>
          <p:cNvSpPr/>
          <p:nvPr/>
        </p:nvSpPr>
        <p:spPr>
          <a:xfrm>
            <a:off x="533520" y="457200"/>
            <a:ext cx="175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APB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APB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7"/>
          <p:cNvSpPr/>
          <p:nvPr/>
        </p:nvSpPr>
        <p:spPr>
          <a:xfrm>
            <a:off x="0" y="647712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Arial"/>
              </a:rPr>
              <a:t>DRS. TRI NARDONO SMA N 1 DEP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48" descr="j0292020"/>
          <p:cNvPicPr/>
          <p:nvPr/>
        </p:nvPicPr>
        <p:blipFill>
          <a:blip r:embed="rId3"/>
          <a:stretch/>
        </p:blipFill>
        <p:spPr>
          <a:xfrm>
            <a:off x="1676520" y="3657600"/>
            <a:ext cx="2819160" cy="29718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2819520" y="533520"/>
            <a:ext cx="2209680" cy="1218960"/>
          </a:xfrm>
          <a:prstGeom prst="cloudCallout">
            <a:avLst>
              <a:gd name="adj1" fmla="val -39870"/>
              <a:gd name="adj2" fmla="val 17864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juan APB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7800" y="914400"/>
            <a:ext cx="2819520" cy="1143000"/>
          </a:xfrm>
          <a:prstGeom prst="cloudCallout">
            <a:avLst>
              <a:gd name="adj1" fmla="val -101180"/>
              <a:gd name="adj2" fmla="val 17055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sas angga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248520" y="2133720"/>
            <a:ext cx="2666880" cy="1066680"/>
          </a:xfrm>
          <a:prstGeom prst="cloudCallout">
            <a:avLst>
              <a:gd name="adj1" fmla="val -146962"/>
              <a:gd name="adj2" fmla="val 13616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 APB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763E-006 L 0.875 -0.01318 E">
                                      <p:cBhvr>
                                        <p:cTn id="87" dur="5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GARAN PENDAPATAN DAN BELANJA NEGARA (APBN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219320" y="33526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lah daftar sistematis yang memuat rencana penerimaan dan pengeluaran negara dalam satu tah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Fungsi alokasi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, berarti bahwa anggaran negara harus diarahkan untuk mengurangi pengangguran dan pemborosan sumber daya serta meningkatkan efesiensi dan efektivitas perekonomi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Fungsi distribusi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, berarti bahwa kebijakan anggaran negara harus memperhatikan rasa keadilan dan kepatut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Fungsi stabilisasi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, memiliki makna bahwa anggaran pemerintah menjadi alat untuk memelihara dan mengupayakan keseimbangan fundamental perekonomi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Fungsi APB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0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5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95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95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9144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Fungsi otorisasi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, mengandung arti bahwa anggaran negara menjadi dasar untuk melaksanakan pendapatan dan belanja pada tahun yang bersangkutan, Dengan demikian, pembelanjaan atau pendapatan dapat dipertanggungjawabkan kepada </a:t>
            </a:r>
            <a:r>
              <a:rPr b="0" lang="sv-SE" sz="2400" spc="-1" strike="noStrike" u="sng">
                <a:solidFill>
                  <a:srgbClr val="990033"/>
                </a:solidFill>
                <a:uFillTx/>
                <a:latin typeface="Times New Roman"/>
                <a:hlinkClick r:id="rId1"/>
              </a:rPr>
              <a:t>rakyat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Fungsi perencanaan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, mengandung arti bahwa anggaran negara dapat menjadi pedoman bagi negara untuk merencanakan kegiatan pada tahun terseb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imes New Roman"/>
              </a:rPr>
              <a:t>Fungsi pengawasan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, berarti anggaran negara harus menjadi pedoman untuk menilai apakah kegiatan penyelenggaraan </a:t>
            </a:r>
            <a:r>
              <a:rPr b="0" lang="sv-SE" sz="2400" spc="-1" strike="noStrike" u="sng">
                <a:solidFill>
                  <a:srgbClr val="990033"/>
                </a:solidFill>
                <a:uFillTx/>
                <a:latin typeface="Times New Roman"/>
                <a:hlinkClick r:id="rId2"/>
              </a:rPr>
              <a:t>pemerintah</a:t>
            </a: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 negara sesuai dengan ketentuan yang telah ditetapk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>
            <a:hlinkClick r:id="" action="ppaction://hlinkshowjump?jump=previousslide"/>
          </p:cNvPr>
          <p:cNvSpPr/>
          <p:nvPr/>
        </p:nvSpPr>
        <p:spPr>
          <a:xfrm>
            <a:off x="784872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066680" y="762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Times New Roman"/>
              </a:rPr>
              <a:t>Lanjutan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13:14:27Z</dcterms:created>
  <dc:creator>Ekonomi</dc:creator>
  <dc:description/>
  <dc:language>en-US</dc:language>
  <cp:lastModifiedBy>User</cp:lastModifiedBy>
  <dcterms:modified xsi:type="dcterms:W3CDTF">2008-09-18T14:32:46Z</dcterms:modified>
  <cp:revision>157</cp:revision>
  <dc:subject/>
  <dc:title>KOMPETENSI DASAR</dc:title>
</cp:coreProperties>
</file>