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0AE-B687-4256-9B97-744F51B9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5C0-80CB-4F6F-936C-5D113111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0FD-E324-4480-9F15-76764237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4F2-69F8-4EFC-8BC5-D6333154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1E33-A759-4575-B713-F2E499A3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E112-7E71-42C2-A26D-7C9F8877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98BB-FB1F-40D7-9033-CABB8DF6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AE91-4112-498B-8954-0B9A408A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8E88-96F5-4FFF-900E-5FF333F2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27AA-F07E-4506-9DF0-814241FB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1BC8-C76A-46A6-9B62-E4BCC1B2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FF8-A688-4D64-8736-5AAA5EFB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E96D-CB78-4CA0-8B66-5862AE0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B05A-D5B0-4129-BB36-6BE5B5ED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B1DD-E1EE-4FB5-9CB0-A9C1C69C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8E22-42C4-41DB-BA9C-B3B0EBE6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CF0F-0389-4217-A844-23085D90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859D4-E94B-4F40-A743-D313B4B2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0F27-84B7-48BA-AFA2-7913FFB2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747F-8E86-4AF0-8832-097F7304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1F72E-7B0C-4737-B8C6-CB4C5F48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3885-2C75-4AB1-B565-1DB72F07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112-2BF2-4B40-A0FF-C8EF601B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3462-A1CF-4761-95F0-F0D7D2D6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1124-DA65-4B27-9A36-4E4FD7D9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15FE1-2AF3-4092-B5A4-AC32AA75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425B-56AB-405F-AAF8-3E99FBD8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8841D-E862-4569-ABA2-ED091E05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DC6B-72B3-49B6-843A-15C1C01D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1829-7963-4EE7-AC0B-C652A43C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F357A-CFD3-4E25-85B2-075FD581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0166B-0D3D-46C8-9E64-A1441CB7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A232B0-2518-4AAA-917E-64254B6D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DF5-F2DF-433E-AADF-C1FE434D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D8629C-E9ED-4A75-ABCC-8570A1EE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68958-C3B7-415E-9BE9-C04FEFE3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0DA3D-F343-4709-89CA-05F0D733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65D52-6FFF-4386-AB61-46AA6E79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6B1C45-F1E8-40D1-9A9A-F5893159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52D36-966D-4DCC-B521-3157CE0D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8F20DA-2D1F-460B-B9CE-6E7F7D17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552F8-E39D-4010-A3EA-DC2E086A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415A0-A065-48D8-B10C-0C87A9CE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7E942-21AF-4755-8B02-8DA3695D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A4A-6E1F-4D1B-9FDA-F729D9D0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3C83D-F15E-43E6-A4BE-C67C3F20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9B7A5-EF9F-48ED-B4D9-B8CC8713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882D0-E2DC-48B7-99CE-A6821DDA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92F95-C175-4C66-88CC-3994C3E4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7CDFE-D4E1-447C-8C28-65503A72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109DF-1B4D-4BDC-97C4-E6BD904A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84655-4DEF-4086-A309-A77B0E08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3889B-8902-4CA6-9B76-80031386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A9C9B-43AF-40E3-A30D-749691C0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A9693-030B-4560-BC3A-8430CDD0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3F6-216D-4BDA-AF6D-31C52105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C37D3-5CF3-44D9-84EF-BC38FA00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500E-9B9C-4484-9798-F202BEE3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94B1C-5E2F-4969-976F-17BB49B4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786E1-F696-4271-B8DA-71BE314A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52150-7057-4DA6-AE09-7B52CCC2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78ACC-B8A6-46C4-925F-230F38F3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D8821-4A63-40CC-B58A-97CFFF0F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9FC15-9CE3-425A-B608-F35A8B5D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07D7B-38D5-4E23-84EF-6F65FDC6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EFBE9-F74D-4677-9506-55BD920A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828-B3EC-4D1E-94FA-72335596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1BA62-6734-4FB9-AC1C-CFAE3878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89BAE-DF68-4823-93E6-83977372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BD014-EF8C-4AC1-B3FD-1EAF894C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65126-2448-4D58-A375-BA63F189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6BD94-35A4-4535-977A-514209DB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4B3A3-EE7E-4A92-BF3F-69CC9A2E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7BC55-04D8-4B76-AF65-CE1FB193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238F5-51D1-4222-9009-2E9C2730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EF80-C205-433D-89EC-5F2BAF2B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A6BD5-5503-4061-85A3-396276B7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1BF-5B63-4FB0-A47E-E215ED3B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0B704-C37F-49B8-948C-7A45736E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09392-B8F4-499D-84B9-46C9A16D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1D2B8-552D-4C97-A70C-733DFCC2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1F1F1-CFF8-4423-877A-2FB3E993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07314-F25F-408E-BB0C-6F201FB7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138-9F71-4867-94AC-6D36B0D7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2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6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5A69-3EE1-4014-961A-E0468D7347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4C2C-19D5-431E-A6A1-89AA3EFBC4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1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53FF-C5D7-41B0-852D-584072C2C7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7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7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7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B5A1-9F07-4218-8D41-361D5058D8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3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3267-5614-4E5D-9CB8-5C56A236D3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8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5CE5-B969-484F-BD2D-E99D8F4C25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2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7DD3-C5DD-44A4-A029-A854620F98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d.wikipedia.org/w/index.php?title=Pendapatan_Asli_Daerah&amp;action=edit&amp;redlink=1" TargetMode="External"/><Relationship Id="rId2" Type="http://schemas.openxmlformats.org/officeDocument/2006/relationships/hyperlink" Target="http://id.wikipedia.org/w/index.php?title=Pendapatan_Asli_Daerah&amp;action=edit&amp;redlink=1" TargetMode="External"/><Relationship Id="rId3" Type="http://schemas.openxmlformats.org/officeDocument/2006/relationships/hyperlink" Target="http://id.wikipedia.org/w/index.php?title=Pendapatan_Asli_Daerah&amp;action=edit&amp;redlink=1" TargetMode="External"/><Relationship Id="rId4" Type="http://schemas.openxmlformats.org/officeDocument/2006/relationships/hyperlink" Target="http://id.wikipedia.org/w/index.php?title=Pendapatan_Asli_Daerah&amp;action=edit&amp;redlink=1" TargetMode="External"/><Relationship Id="rId5" Type="http://schemas.openxmlformats.org/officeDocument/2006/relationships/hyperlink" Target="http://id.wikipedia.org/w/index.php?title=Pendapatan_Asli_Daerah&amp;action=edit&amp;redlink=1" TargetMode="External"/><Relationship Id="rId6" Type="http://schemas.openxmlformats.org/officeDocument/2006/relationships/hyperlink" Target="http://id.wikipedia.org/w/index.php?title=Pajak_daerah&amp;action=edit&amp;redlink=1" TargetMode="External"/><Relationship Id="rId7" Type="http://schemas.openxmlformats.org/officeDocument/2006/relationships/hyperlink" Target="http://id.wikipedia.org/w/index.php?title=Pajak_daerah&amp;action=edit&amp;redlink=1" TargetMode="External"/><Relationship Id="rId8" Type="http://schemas.openxmlformats.org/officeDocument/2006/relationships/hyperlink" Target="http://id.wikipedia.org/w/index.php?title=Pajak_daerah&amp;action=edit&amp;redlink=1" TargetMode="External"/><Relationship Id="rId9" Type="http://schemas.openxmlformats.org/officeDocument/2006/relationships/hyperlink" Target="http://id.wikipedia.org/w/index.php?title=Retribusi_daerah&amp;action=edit&amp;redlink=1" TargetMode="External"/><Relationship Id="rId10" Type="http://schemas.openxmlformats.org/officeDocument/2006/relationships/hyperlink" Target="http://id.wikipedia.org/w/index.php?title=Retribusi_daerah&amp;action=edit&amp;redlink=1" TargetMode="External"/><Relationship Id="rId11" Type="http://schemas.openxmlformats.org/officeDocument/2006/relationships/hyperlink" Target="http://id.wikipedia.org/w/index.php?title=Retribusi_daerah&amp;action=edit&amp;redlink=1" TargetMode="External"/><Relationship Id="rId12" Type="http://schemas.openxmlformats.org/officeDocument/2006/relationships/hyperlink" Target="http://id.wikipedia.org/w/index.php?title=Dana_perimbangan&amp;action=edit&amp;redlink=1" TargetMode="External"/><Relationship Id="rId13" Type="http://schemas.openxmlformats.org/officeDocument/2006/relationships/hyperlink" Target="http://id.wikipedia.org/w/index.php?title=Dana_perimbangan&amp;action=edit&amp;redlink=1" TargetMode="External"/><Relationship Id="rId14" Type="http://schemas.openxmlformats.org/officeDocument/2006/relationships/hyperlink" Target="http://id.wikipedia.org/w/index.php?title=Dana_perimbangan&amp;action=edit&amp;redlink=1" TargetMode="External"/><Relationship Id="rId15" Type="http://schemas.openxmlformats.org/officeDocument/2006/relationships/hyperlink" Target="http://id.wikipedia.org/w/index.php?title=Dana_Bagi_Hasil&amp;action=edit&amp;redlink=1" TargetMode="External"/><Relationship Id="rId16" Type="http://schemas.openxmlformats.org/officeDocument/2006/relationships/hyperlink" Target="http://id.wikipedia.org/w/index.php?title=Dana_Bagi_Hasil&amp;action=edit&amp;redlink=1" TargetMode="External"/><Relationship Id="rId17" Type="http://schemas.openxmlformats.org/officeDocument/2006/relationships/hyperlink" Target="http://id.wikipedia.org/w/index.php?title=Dana_Bagi_Hasil&amp;action=edit&amp;redlink=1" TargetMode="External"/><Relationship Id="rId18" Type="http://schemas.openxmlformats.org/officeDocument/2006/relationships/hyperlink" Target="http://id.wikipedia.org/w/index.php?title=Dana_Bagi_Hasil&amp;action=edit&amp;redlink=1" TargetMode="External"/><Relationship Id="rId19" Type="http://schemas.openxmlformats.org/officeDocument/2006/relationships/hyperlink" Target="http://id.wikipedia.org/wiki/Dana_Alokasi_Umum" TargetMode="External"/><Relationship Id="rId20" Type="http://schemas.openxmlformats.org/officeDocument/2006/relationships/hyperlink" Target="http://id.wikipedia.org/wiki/Dana_Alokasi_Umum" TargetMode="External"/><Relationship Id="rId21" Type="http://schemas.openxmlformats.org/officeDocument/2006/relationships/hyperlink" Target="http://id.wikipedia.org/wiki/Dana_Alokasi_Umum" TargetMode="External"/><Relationship Id="rId22" Type="http://schemas.openxmlformats.org/officeDocument/2006/relationships/hyperlink" Target="http://id.wikipedia.org/wiki/Dana_Alokasi_Umum" TargetMode="External"/><Relationship Id="rId23" Type="http://schemas.openxmlformats.org/officeDocument/2006/relationships/hyperlink" Target="http://id.wikipedia.org/wiki/Dana_Alokasi_Khusus" TargetMode="External"/><Relationship Id="rId24" Type="http://schemas.openxmlformats.org/officeDocument/2006/relationships/hyperlink" Target="http://id.wikipedia.org/wiki/Dana_Alokasi_Khusus" TargetMode="External"/><Relationship Id="rId25" Type="http://schemas.openxmlformats.org/officeDocument/2006/relationships/hyperlink" Target="http://id.wikipedia.org/wiki/Dana_Alokasi_Khusus" TargetMode="External"/><Relationship Id="rId26" Type="http://schemas.openxmlformats.org/officeDocument/2006/relationships/hyperlink" Target="http://id.wikipedia.org/wiki/Dana_Alokasi_Khusus" TargetMode="External"/><Relationship Id="rId27" Type="http://schemas.openxmlformats.org/officeDocument/2006/relationships/hyperlink" Target="http://id.wikipedia.org/w/index.php?title=Dana_darurat&amp;action=edit&amp;redlink=1" TargetMode="External"/><Relationship Id="rId28" Type="http://schemas.openxmlformats.org/officeDocument/2006/relationships/hyperlink" Target="http://id.wikipedia.org/w/index.php?title=Dana_darurat&amp;action=edit&amp;redlink=1" TargetMode="External"/><Relationship Id="rId29" Type="http://schemas.openxmlformats.org/officeDocument/2006/relationships/hyperlink" Target="http://id.wikipedia.org/w/index.php?title=Dana_darurat&amp;action=edit&amp;redlink=1" TargetMode="External"/><Relationship Id="rId30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d.wikipedia.org/wiki/Indonesia" TargetMode="External"/><Relationship Id="rId2" Type="http://schemas.openxmlformats.org/officeDocument/2006/relationships/hyperlink" Target="http://id.wikipedia.org/wiki/APBN" TargetMode="External"/><Relationship Id="rId3" Type="http://schemas.openxmlformats.org/officeDocument/2006/relationships/hyperlink" Target="http://id.wikipedia.org/wiki/APBD" TargetMode="External"/><Relationship Id="rId4" Type="http://schemas.openxmlformats.org/officeDocument/2006/relationships/slideLayout" Target="../slideLayouts/slideLayout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d.wikipedia.org/wiki/Anggaran_Pendapatan_dan_Belanja_Negara" TargetMode="External"/><Relationship Id="rId2" Type="http://schemas.openxmlformats.org/officeDocument/2006/relationships/hyperlink" Target="http://id.wikipedia.org/wiki/Anggaran_Pendapatan_dan_Belanja_Negara" TargetMode="External"/><Relationship Id="rId3" Type="http://schemas.openxmlformats.org/officeDocument/2006/relationships/hyperlink" Target="http://id.wikipedia.org/wiki/Anggaran_Pendapatan_dan_Belanja_Negara" TargetMode="External"/><Relationship Id="rId4" Type="http://schemas.openxmlformats.org/officeDocument/2006/relationships/hyperlink" Target="http://id.wikipedia.org/wiki/Pemerintahan_Daerah" TargetMode="External"/><Relationship Id="rId5" Type="http://schemas.openxmlformats.org/officeDocument/2006/relationships/hyperlink" Target="http://id.wikipedia.org/w/index.php?title=Dana_Perimbangan&amp;action=edit&amp;redlink=1" TargetMode="External"/><Relationship Id="rId6" Type="http://schemas.openxmlformats.org/officeDocument/2006/relationships/hyperlink" Target="http://id.wikipedia.org/wiki/Dana_Alokasi_Umum" TargetMode="External"/><Relationship Id="rId7" Type="http://schemas.openxmlformats.org/officeDocument/2006/relationships/slideLayout" Target="../slideLayouts/slideLayout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8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d.wikipedia.org/wiki/Rakyat" TargetMode="External"/><Relationship Id="rId2" Type="http://schemas.openxmlformats.org/officeDocument/2006/relationships/hyperlink" Target="http://id.wikipedia.org/wiki/Pemerintah" TargetMode="External"/><Relationship Id="rId3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0"/>
          <p:cNvSpPr/>
          <p:nvPr/>
        </p:nvSpPr>
        <p:spPr>
          <a:xfrm>
            <a:off x="3124080" y="2286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AS XI  Semes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2971800" y="373392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S. TRI NARD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 N 1 DE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915320" y="6286680"/>
            <a:ext cx="1228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057400" y="609480"/>
            <a:ext cx="58672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PBN DAN APBD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8534520" y="5867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Organization Chart 5"/>
          <p:cNvGrpSpPr/>
          <p:nvPr/>
        </p:nvGrpSpPr>
        <p:grpSpPr>
          <a:xfrm>
            <a:off x="609480" y="1044720"/>
            <a:ext cx="7391160" cy="4588920"/>
            <a:chOff x="609480" y="1044720"/>
            <a:chExt cx="7391160" cy="4588920"/>
          </a:xfrm>
        </p:grpSpPr>
        <p:cxnSp>
          <p:nvCxnSpPr>
            <p:cNvPr id="417" name="_s1028"/>
            <p:cNvCxnSpPr>
              <a:stCxn id="418" idx="1"/>
              <a:endCxn id="419" idx="2"/>
            </p:cNvCxnSpPr>
            <p:nvPr/>
          </p:nvCxnSpPr>
          <p:spPr>
            <a:xfrm rot="10800000">
              <a:off x="2838600" y="2195280"/>
              <a:ext cx="702000" cy="2865240"/>
            </a:xfrm>
            <a:prstGeom prst="bentConnector2">
              <a:avLst/>
            </a:prstGeom>
            <a:ln w="57240">
              <a:solidFill>
                <a:srgbClr val="3333ff"/>
              </a:solidFill>
              <a:miter/>
            </a:ln>
          </p:spPr>
        </p:cxnSp>
        <p:cxnSp>
          <p:nvCxnSpPr>
            <p:cNvPr id="420" name="_s1029"/>
            <p:cNvCxnSpPr>
              <a:stCxn id="421" idx="1"/>
              <a:endCxn id="419" idx="2"/>
            </p:cNvCxnSpPr>
            <p:nvPr/>
          </p:nvCxnSpPr>
          <p:spPr>
            <a:xfrm rot="10800000">
              <a:off x="2838600" y="2194560"/>
              <a:ext cx="702000" cy="1146240"/>
            </a:xfrm>
            <a:prstGeom prst="bentConnector2">
              <a:avLst/>
            </a:prstGeom>
            <a:ln w="57240">
              <a:solidFill>
                <a:srgbClr val="3333ff"/>
              </a:solidFill>
              <a:miter/>
            </a:ln>
          </p:spPr>
        </p:cxnSp>
        <p:sp>
          <p:nvSpPr>
            <p:cNvPr id="419" name="_s1030"/>
            <p:cNvSpPr/>
            <p:nvPr/>
          </p:nvSpPr>
          <p:spPr>
            <a:xfrm>
              <a:off x="609480" y="1044720"/>
              <a:ext cx="4460040" cy="1150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MBER-SUMBER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ENDAPATAN NEGAR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1031">
              <a:hlinkClick r:id="rId1" action="ppaction://hlinksldjump"/>
            </p:cNvPr>
            <p:cNvSpPr/>
            <p:nvPr/>
          </p:nvSpPr>
          <p:spPr>
            <a:xfrm>
              <a:off x="3540960" y="2764080"/>
              <a:ext cx="4459680" cy="1152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PENERIMAAN</a:t>
              </a: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ALAM NEGER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1032"/>
            <p:cNvSpPr/>
            <p:nvPr/>
          </p:nvSpPr>
          <p:spPr>
            <a:xfrm>
              <a:off x="3540960" y="4484880"/>
              <a:ext cx="4459680" cy="11487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IBA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Picture 22" descr=""/>
            <p:cNvPicPr/>
            <p:nvPr/>
          </p:nvPicPr>
          <p:blipFill>
            <a:blip r:embed="rId3"/>
            <a:stretch/>
          </p:blipFill>
          <p:spPr>
            <a:xfrm>
              <a:off x="914040" y="4389480"/>
              <a:ext cx="1523520" cy="6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21" descr=""/>
            <p:cNvPicPr/>
            <p:nvPr/>
          </p:nvPicPr>
          <p:blipFill>
            <a:blip r:embed="rId4"/>
            <a:stretch/>
          </p:blipFill>
          <p:spPr>
            <a:xfrm>
              <a:off x="882360" y="3533760"/>
              <a:ext cx="155520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23" descr=""/>
            <p:cNvPicPr/>
            <p:nvPr/>
          </p:nvPicPr>
          <p:blipFill>
            <a:blip r:embed="rId5"/>
            <a:stretch/>
          </p:blipFill>
          <p:spPr>
            <a:xfrm>
              <a:off x="882360" y="2755800"/>
              <a:ext cx="1555200" cy="67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Text Box 25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169" dur="5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>
            <a:hlinkClick r:id="" action="ppaction://hlinkshowjump?jump=previousslide"/>
          </p:cNvPr>
          <p:cNvSpPr/>
          <p:nvPr/>
        </p:nvSpPr>
        <p:spPr>
          <a:xfrm>
            <a:off x="1447920" y="3505320"/>
            <a:ext cx="213336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enerimaan Dalam Neg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3581280" y="3809880"/>
            <a:ext cx="4572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6"/>
          <p:cNvSpPr/>
          <p:nvPr/>
        </p:nvSpPr>
        <p:spPr>
          <a:xfrm>
            <a:off x="4038480" y="2133720"/>
            <a:ext cx="0" cy="327636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>
            <a:off x="4038480" y="2133720"/>
            <a:ext cx="83844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038480" y="5410080"/>
            <a:ext cx="914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4952880" y="1828800"/>
            <a:ext cx="2133720" cy="825480"/>
          </a:xfrm>
          <a:prstGeom prst="rect">
            <a:avLst/>
          </a:prstGeom>
          <a:solidFill>
            <a:srgbClr val="f9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enerimaan dari Paj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5029200" y="5073480"/>
            <a:ext cx="2133720" cy="825480"/>
          </a:xfrm>
          <a:prstGeom prst="rect">
            <a:avLst/>
          </a:prstGeom>
          <a:solidFill>
            <a:srgbClr val="f9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enerimaan Bukan Paj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CC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189" dur="5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Organization Chart 5"/>
          <p:cNvGrpSpPr/>
          <p:nvPr/>
        </p:nvGrpSpPr>
        <p:grpSpPr>
          <a:xfrm>
            <a:off x="1219320" y="1557360"/>
            <a:ext cx="6704640" cy="3839040"/>
            <a:chOff x="1219320" y="1557360"/>
            <a:chExt cx="6704640" cy="3839040"/>
          </a:xfrm>
        </p:grpSpPr>
        <p:cxnSp>
          <p:nvCxnSpPr>
            <p:cNvPr id="437" name="_s2052"/>
            <p:cNvCxnSpPr>
              <a:stCxn id="438" idx="0"/>
              <a:endCxn id="439" idx="2"/>
            </p:cNvCxnSpPr>
            <p:nvPr/>
          </p:nvCxnSpPr>
          <p:spPr>
            <a:xfrm flipV="1" rot="16200000">
              <a:off x="5087880" y="2573640"/>
              <a:ext cx="772200" cy="1805400"/>
            </a:xfrm>
            <a:prstGeom prst="bentConnector3">
              <a:avLst>
                <a:gd name="adj1" fmla="val 9701"/>
              </a:avLst>
            </a:prstGeom>
            <a:ln w="57240">
              <a:solidFill>
                <a:srgbClr val="3333ff"/>
              </a:solidFill>
              <a:miter/>
            </a:ln>
          </p:spPr>
        </p:cxnSp>
        <p:cxnSp>
          <p:nvCxnSpPr>
            <p:cNvPr id="440" name="_s2053"/>
            <p:cNvCxnSpPr>
              <a:stCxn id="441" idx="0"/>
              <a:endCxn id="439" idx="2"/>
            </p:cNvCxnSpPr>
            <p:nvPr/>
          </p:nvCxnSpPr>
          <p:spPr>
            <a:xfrm flipH="1" flipV="1" rot="5400000">
              <a:off x="3283200" y="2573280"/>
              <a:ext cx="772200" cy="1806120"/>
            </a:xfrm>
            <a:prstGeom prst="bentConnector3">
              <a:avLst>
                <a:gd name="adj1" fmla="val 9701"/>
              </a:avLst>
            </a:prstGeom>
            <a:ln w="57240">
              <a:solidFill>
                <a:srgbClr val="3333ff"/>
              </a:solidFill>
              <a:miter/>
            </a:ln>
          </p:spPr>
        </p:cxnSp>
        <p:sp>
          <p:nvSpPr>
            <p:cNvPr id="439" name="_s2054"/>
            <p:cNvSpPr/>
            <p:nvPr/>
          </p:nvSpPr>
          <p:spPr>
            <a:xfrm>
              <a:off x="3024720" y="1557360"/>
              <a:ext cx="3094560" cy="15336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embelanjaa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Negar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2055">
              <a:hlinkClick r:id="rId1" action="ppaction://hlinksldjump"/>
            </p:cNvPr>
            <p:cNvSpPr/>
            <p:nvPr/>
          </p:nvSpPr>
          <p:spPr>
            <a:xfrm>
              <a:off x="1219320" y="3862800"/>
              <a:ext cx="3094560" cy="15336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elanja Pemerinta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usa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2056"/>
            <p:cNvSpPr/>
            <p:nvPr/>
          </p:nvSpPr>
          <p:spPr>
            <a:xfrm>
              <a:off x="4829400" y="3862800"/>
              <a:ext cx="3094560" cy="15336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Dan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erimbanga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9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7493"/>
                </a:moveTo>
                <a:lnTo>
                  <a:pt x="9451" y="7493"/>
                </a:lnTo>
                <a:lnTo>
                  <a:pt x="9451" y="12828"/>
                </a:lnTo>
                <a:cubicBezTo>
                  <a:pt x="9451" y="13751"/>
                  <a:pt x="10252" y="14482"/>
                  <a:pt x="11287" y="14482"/>
                </a:cubicBezTo>
                <a:lnTo>
                  <a:pt x="12950" y="14482"/>
                </a:lnTo>
                <a:cubicBezTo>
                  <a:pt x="13986" y="14482"/>
                  <a:pt x="14786" y="13751"/>
                  <a:pt x="14786" y="12828"/>
                </a:cubicBezTo>
                <a:lnTo>
                  <a:pt x="14786" y="7493"/>
                </a:lnTo>
                <a:lnTo>
                  <a:pt x="12950" y="7493"/>
                </a:lnTo>
                <a:lnTo>
                  <a:pt x="16457" y="3985"/>
                </a:lnTo>
                <a:lnTo>
                  <a:pt x="20130" y="7493"/>
                </a:lnTo>
                <a:lnTo>
                  <a:pt x="18294" y="7493"/>
                </a:lnTo>
                <a:lnTo>
                  <a:pt x="18294" y="12828"/>
                </a:lnTo>
                <a:cubicBezTo>
                  <a:pt x="18294" y="15596"/>
                  <a:pt x="15718" y="18155"/>
                  <a:pt x="12950" y="18155"/>
                </a:cubicBezTo>
                <a:lnTo>
                  <a:pt x="11287" y="18155"/>
                </a:lnTo>
                <a:cubicBezTo>
                  <a:pt x="8520" y="18155"/>
                  <a:pt x="5943" y="15596"/>
                  <a:pt x="5943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198" dur="5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juan APB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143000" y="32763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yusunan APBN ditujukan untuk mengatur penerimaan dan pengeluaran negara agar pemanfaatan keuangan negara dapat mencapai sasaran yaitu meningkatkan kesejahteraan rakyat. APBN juga bertujuan memudahkan pengambilan keputusan mengenai pengeluaran tahu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7493"/>
                </a:moveTo>
                <a:lnTo>
                  <a:pt x="9451" y="7493"/>
                </a:lnTo>
                <a:lnTo>
                  <a:pt x="9451" y="12828"/>
                </a:lnTo>
                <a:cubicBezTo>
                  <a:pt x="9451" y="13751"/>
                  <a:pt x="10252" y="14482"/>
                  <a:pt x="11287" y="14482"/>
                </a:cubicBezTo>
                <a:lnTo>
                  <a:pt x="12950" y="14482"/>
                </a:lnTo>
                <a:cubicBezTo>
                  <a:pt x="13986" y="14482"/>
                  <a:pt x="14786" y="13751"/>
                  <a:pt x="14786" y="12828"/>
                </a:cubicBezTo>
                <a:lnTo>
                  <a:pt x="14786" y="7493"/>
                </a:lnTo>
                <a:lnTo>
                  <a:pt x="12950" y="7493"/>
                </a:lnTo>
                <a:lnTo>
                  <a:pt x="16457" y="3985"/>
                </a:lnTo>
                <a:lnTo>
                  <a:pt x="20130" y="7493"/>
                </a:lnTo>
                <a:lnTo>
                  <a:pt x="18294" y="7493"/>
                </a:lnTo>
                <a:lnTo>
                  <a:pt x="18294" y="12828"/>
                </a:lnTo>
                <a:cubicBezTo>
                  <a:pt x="18294" y="15596"/>
                  <a:pt x="15718" y="18155"/>
                  <a:pt x="12950" y="18155"/>
                </a:cubicBezTo>
                <a:lnTo>
                  <a:pt x="11287" y="18155"/>
                </a:lnTo>
                <a:cubicBezTo>
                  <a:pt x="8520" y="18155"/>
                  <a:pt x="5943" y="15596"/>
                  <a:pt x="5943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sas anggara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as anggaran surp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merintah memberlakukan anggaran dengan pendapatan lebih besar dari belanja ne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as anggaran defis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merintah memberlakukan anggaran dengan pendapatan lebih kecil dari belanja ne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as anggaran berimb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merintah memberlakukan anggaran dengan pendapatan sama dengan belanja ne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7493"/>
                </a:moveTo>
                <a:lnTo>
                  <a:pt x="9451" y="7493"/>
                </a:lnTo>
                <a:lnTo>
                  <a:pt x="9451" y="12828"/>
                </a:lnTo>
                <a:cubicBezTo>
                  <a:pt x="9451" y="13751"/>
                  <a:pt x="10252" y="14482"/>
                  <a:pt x="11287" y="14482"/>
                </a:cubicBezTo>
                <a:lnTo>
                  <a:pt x="12950" y="14482"/>
                </a:lnTo>
                <a:cubicBezTo>
                  <a:pt x="13986" y="14482"/>
                  <a:pt x="14786" y="13751"/>
                  <a:pt x="14786" y="12828"/>
                </a:cubicBezTo>
                <a:lnTo>
                  <a:pt x="14786" y="7493"/>
                </a:lnTo>
                <a:lnTo>
                  <a:pt x="12950" y="7493"/>
                </a:lnTo>
                <a:lnTo>
                  <a:pt x="16457" y="3985"/>
                </a:lnTo>
                <a:lnTo>
                  <a:pt x="20130" y="7493"/>
                </a:lnTo>
                <a:lnTo>
                  <a:pt x="18294" y="7493"/>
                </a:lnTo>
                <a:lnTo>
                  <a:pt x="18294" y="12828"/>
                </a:lnTo>
                <a:cubicBezTo>
                  <a:pt x="18294" y="15596"/>
                  <a:pt x="15718" y="18155"/>
                  <a:pt x="12950" y="18155"/>
                </a:cubicBezTo>
                <a:lnTo>
                  <a:pt x="11287" y="18155"/>
                </a:lnTo>
                <a:cubicBezTo>
                  <a:pt x="8520" y="18155"/>
                  <a:pt x="5943" y="15596"/>
                  <a:pt x="5943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FORMAT APB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058760" y="1600200"/>
          <a:ext cx="7556760" cy="4732200"/>
        </p:xfrm>
        <a:graphic>
          <a:graphicData uri="http://schemas.openxmlformats.org/drawingml/2006/table">
            <a:tbl>
              <a:tblPr/>
              <a:tblGrid>
                <a:gridCol w="4059360"/>
                <a:gridCol w="1770120"/>
                <a:gridCol w="17272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BN 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dalam rupiah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BN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lam rupiah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apatan Negara dan Hib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Penerimaan Dalam Neg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Hib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AutoNum type="alphaU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nja Nega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 Belanja Pemerintah Pu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Belanja Daer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AutoNum type="alphaU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seimbangan Pri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AutoNum type="alphaU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 / Defisit Anggaran ( A – B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AutoNum type="alphaU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biaya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 Pembiayaan Dalam Neg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Pembiayaan Luar Neg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.76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.03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.04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.03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00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95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.271,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7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5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778,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.77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62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.76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.22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.54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74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7.39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58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.193,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Text Box 44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204" dur="5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2425680" y="2444760"/>
          <a:ext cx="5270400" cy="3591000"/>
        </p:xfrm>
        <a:graphic>
          <a:graphicData uri="http://schemas.openxmlformats.org/drawingml/2006/table">
            <a:tbl>
              <a:tblPr/>
              <a:tblGrid>
                <a:gridCol w="765360"/>
                <a:gridCol w="2974680"/>
                <a:gridCol w="1530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lam Jutaan Rupi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26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apatan Neg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erimaan dalam neg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b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anja Neg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anja Pemerintah Pu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ggaran Belanja Untuk Daer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9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456" name="Text Box 74"/>
          <p:cNvSpPr/>
          <p:nvPr/>
        </p:nvSpPr>
        <p:spPr>
          <a:xfrm>
            <a:off x="1828800" y="380880"/>
            <a:ext cx="6019920" cy="825480"/>
          </a:xfrm>
          <a:prstGeom prst="rect">
            <a:avLst/>
          </a:prstGeom>
          <a:solidFill>
            <a:srgbClr val="f9a5b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 Pendapatan dan Pengeluaran Negara X Tahun 2004 (miliar rupia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6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75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Pengaruh APBN terhadap perekonomia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bijakan defisit cenderung mendorong terjadinya kenaikan harga (infla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bijakan surplus cenderung mendorong terjadinya penurunan harga (defla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GARAN PENDAPATAN DAN BELANJA DAERAH (APBD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lah daftar sistematis yang memuat rencana penerimaan dan pengeluaran daerah dalam satu tah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Anggaran pendapatan daerah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Pendapatan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Asli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Daera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PAD), yang meliputi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pajak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daera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retribusi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1"/>
              </a:rPr>
              <a:t>daera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asil pengelolaan kekayaan daerah, dan penerimaan lain-l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ian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2"/>
              </a:rPr>
              <a:t>dana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4"/>
              </a:rPr>
              <a:t>perimbang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yang meliputi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5"/>
              </a:rPr>
              <a:t>Dana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6"/>
              </a:rPr>
              <a:t>Bagi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7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8"/>
              </a:rPr>
              <a:t>Has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9"/>
              </a:rPr>
              <a:t>Dana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0"/>
              </a:rPr>
              <a:t>Alokasi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1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2"/>
              </a:rPr>
              <a:t>Umu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DAU) dan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3"/>
              </a:rPr>
              <a:t>Dana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4"/>
              </a:rPr>
              <a:t>Alokasi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5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6"/>
              </a:rPr>
              <a:t>Khu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in-lain pendapatan yang sah seperti dana hibah atau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7"/>
              </a:rPr>
              <a:t>dana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8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9"/>
              </a:rPr>
              <a:t>darur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NU UTAM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STANDAR KOMPETE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KOMPETENSI DA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K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MA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ggaran pengeluaran daerah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ggaran bela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ang digunakan untuk keperluan penyelenggaraan tugas pemerintahan di daer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mbiaya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aitu setiap penerimaan yang perlu dibayar kembali dan/atau pengeluaran yang akan diterima kembali, baik pada tahun anggaran yang bersangkutan maupun tahun-tahun anggaran berikutn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Dana Alokasi Umum (DAU) adalah sejumlah dana yang dialokasikan kepada setiap Daerah Otonom (provinsi/kabupaten/kota) di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Indonesia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 setiap tahunnya sebagai dana pembangunan. DAU merupakan salah satu komponen belanja pada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APBN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, dan menjadi salah satu komponen pendapatan pada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Times New Roman"/>
                <a:hlinkClick r:id="rId3"/>
              </a:rPr>
              <a:t>APBD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. Tujuan DAU adalah sebagai pemerataan kemampuan keuangan antardaerah untuk mendanai kebutuhan Daerah Otonom dalam rangka pelaksanaan desentralisasi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330033"/>
                </a:solidFill>
                <a:latin typeface="Times New Roman"/>
              </a:rPr>
              <a:t>Dana Alokasi Khusus (DAK), adalah alokasi dari </a:t>
            </a:r>
            <a:r>
              <a:rPr b="0" lang="fi-FI" sz="25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Anggaran</a:t>
            </a:r>
            <a:r>
              <a:rPr b="0" lang="fi-FI" sz="25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fi-FI" sz="2900" spc="-1" strike="noStrike" u="sng">
                <a:solidFill>
                  <a:srgbClr val="990033"/>
                </a:solidFill>
                <a:uFillTx/>
                <a:latin typeface="Times New Roman"/>
                <a:hlinkClick r:id="rId3"/>
              </a:rPr>
              <a:t>Pendapatan dan Belanja Negara</a:t>
            </a:r>
            <a:r>
              <a:rPr b="0" lang="fi-FI" sz="2900" spc="-1" strike="noStrike">
                <a:solidFill>
                  <a:srgbClr val="330033"/>
                </a:solidFill>
                <a:latin typeface="Times New Roman"/>
              </a:rPr>
              <a:t> kepada provinsi/kabupaten/kota tertentu dengan tujuan untuk mendanai kegiatan khusus yang merupakan urusan </a:t>
            </a:r>
            <a:r>
              <a:rPr b="0" lang="fi-FI" sz="2900" spc="-1" strike="noStrike" u="sng">
                <a:solidFill>
                  <a:srgbClr val="990033"/>
                </a:solidFill>
                <a:uFillTx/>
                <a:latin typeface="Times New Roman"/>
                <a:hlinkClick r:id="rId4"/>
              </a:rPr>
              <a:t>Pemerintahan Daerah</a:t>
            </a:r>
            <a:r>
              <a:rPr b="0" lang="fi-FI" sz="2900" spc="-1" strike="noStrike">
                <a:solidFill>
                  <a:srgbClr val="330033"/>
                </a:solidFill>
                <a:latin typeface="Times New Roman"/>
              </a:rPr>
              <a:t> dan sesuai dengan prioritas nasional.</a:t>
            </a:r>
            <a:br>
              <a:rPr sz="2900"/>
            </a:br>
            <a:r>
              <a:rPr b="0" lang="fi-FI" sz="2900" spc="-1" strike="noStrike">
                <a:solidFill>
                  <a:srgbClr val="330033"/>
                </a:solidFill>
                <a:latin typeface="Times New Roman"/>
              </a:rPr>
              <a:t>DAK termasuk </a:t>
            </a:r>
            <a:r>
              <a:rPr b="0" lang="fi-FI" sz="2900" spc="-1" strike="noStrike" u="sng">
                <a:solidFill>
                  <a:srgbClr val="990033"/>
                </a:solidFill>
                <a:uFillTx/>
                <a:latin typeface="Times New Roman"/>
                <a:hlinkClick r:id="rId5"/>
              </a:rPr>
              <a:t>Dana Perimbangan</a:t>
            </a:r>
            <a:r>
              <a:rPr b="0" lang="fi-FI" sz="2900" spc="-1" strike="noStrike">
                <a:solidFill>
                  <a:srgbClr val="330033"/>
                </a:solidFill>
                <a:latin typeface="Times New Roman"/>
              </a:rPr>
              <a:t>, di samping </a:t>
            </a:r>
            <a:r>
              <a:rPr b="0" lang="fi-FI" sz="2900" spc="-1" strike="noStrike" u="sng">
                <a:solidFill>
                  <a:srgbClr val="990033"/>
                </a:solidFill>
                <a:uFillTx/>
                <a:latin typeface="Times New Roman"/>
                <a:hlinkClick r:id="rId6"/>
              </a:rPr>
              <a:t>Dana Alokasi Umum</a:t>
            </a:r>
            <a:r>
              <a:rPr b="0" lang="fi-FI" sz="2900" spc="-1" strike="noStrike">
                <a:solidFill>
                  <a:srgbClr val="330033"/>
                </a:solidFill>
                <a:latin typeface="Times New Roman"/>
              </a:rPr>
              <a:t> (DAU)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590920" cy="190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1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2" descr=""/>
          <p:cNvPicPr/>
          <p:nvPr/>
        </p:nvPicPr>
        <p:blipFill>
          <a:blip r:embed="rId3"/>
          <a:stretch/>
        </p:blipFill>
        <p:spPr>
          <a:xfrm>
            <a:off x="3124080" y="152280"/>
            <a:ext cx="2210040" cy="190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0" descr=""/>
          <p:cNvPicPr/>
          <p:nvPr/>
        </p:nvPicPr>
        <p:blipFill>
          <a:blip r:embed="rId4"/>
          <a:stretch/>
        </p:blipFill>
        <p:spPr>
          <a:xfrm>
            <a:off x="3809880" y="2362320"/>
            <a:ext cx="2667240" cy="236196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21"/>
          <p:cNvSpPr/>
          <p:nvPr/>
        </p:nvSpPr>
        <p:spPr>
          <a:xfrm>
            <a:off x="1447920" y="4952880"/>
            <a:ext cx="7696080" cy="13737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BANGUNAN DIATAS YANG MERUPAKAN FASILITAS UMUM DIBANGUN DENGAN UANG DARI PAJ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2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233" dur="5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2057400" y="23623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WordArt 3"/>
          <p:cNvSpPr txBox="1"/>
          <p:nvPr/>
        </p:nvSpPr>
        <p:spPr>
          <a:xfrm>
            <a:off x="2133720" y="1828800"/>
            <a:ext cx="495288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RIMA KASIH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1" name="Picture 4" descr="Bear_dances"/>
          <p:cNvPicPr/>
          <p:nvPr/>
        </p:nvPicPr>
        <p:blipFill>
          <a:blip r:embed="rId1"/>
          <a:stretch/>
        </p:blipFill>
        <p:spPr>
          <a:xfrm>
            <a:off x="3429000" y="3276720"/>
            <a:ext cx="2209680" cy="214308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6"/>
          <p:cNvSpPr/>
          <p:nvPr/>
        </p:nvSpPr>
        <p:spPr>
          <a:xfrm>
            <a:off x="152280" y="632448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rId2" action="ppaction://hlinksldjump"/>
          </p:cNvPr>
          <p:cNvSpPr/>
          <p:nvPr/>
        </p:nvSpPr>
        <p:spPr>
          <a:xfrm>
            <a:off x="82296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239" dur="5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6699ff"/>
                </a:solidFill>
                <a:latin typeface="Verdana"/>
              </a:rPr>
              <a:t>Memahami APBN dan AP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371600" y="1873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 Kompeten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>
            <a:hlinkClick r:id="rId1" action="ppaction://hlinksldjump"/>
          </p:cNvPr>
          <p:cNvSpPr/>
          <p:nvPr/>
        </p:nvSpPr>
        <p:spPr>
          <a:xfrm>
            <a:off x="82296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64" dur="5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Kompetensi Dasa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6699ff"/>
                </a:solidFill>
                <a:latin typeface="Arial"/>
              </a:rPr>
              <a:t>Menjelaskan pengertian, fungsi, tujuan APBN dan AP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6699ff"/>
                </a:solidFill>
                <a:latin typeface="Arial"/>
              </a:rPr>
              <a:t>Mengidentifikasi sumber-sumber penerimaan pemerintah pusat dan pemerintah dae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1" action="ppaction://hlinksldjump"/>
          </p:cNvPr>
          <p:cNvSpPr/>
          <p:nvPr/>
        </p:nvSpPr>
        <p:spPr>
          <a:xfrm>
            <a:off x="82296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70" dur="5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IKAT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Menguraikan arti, fungsi dan tujuan APBN dan APB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Mengidentifikasi sumber-sumber pendapatan negara dan daer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Menguraikan pengaruh APBN dan APBD terhadap perekonom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0592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152280" y="152280"/>
            <a:ext cx="2438640" cy="1828800"/>
          </a:xfrm>
          <a:prstGeom prst="cloudCallout">
            <a:avLst>
              <a:gd name="adj1" fmla="val 51629"/>
              <a:gd name="adj2" fmla="val 1322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3"/>
          <p:cNvSpPr/>
          <p:nvPr/>
        </p:nvSpPr>
        <p:spPr>
          <a:xfrm>
            <a:off x="533520" y="457200"/>
            <a:ext cx="175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APB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APB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8" descr="j0292020"/>
          <p:cNvPicPr/>
          <p:nvPr/>
        </p:nvPicPr>
        <p:blipFill>
          <a:blip r:embed="rId3"/>
          <a:stretch/>
        </p:blipFill>
        <p:spPr>
          <a:xfrm>
            <a:off x="1676520" y="3657600"/>
            <a:ext cx="2819160" cy="2971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819520" y="533520"/>
            <a:ext cx="2209680" cy="1218960"/>
          </a:xfrm>
          <a:prstGeom prst="cloudCallout">
            <a:avLst>
              <a:gd name="adj1" fmla="val -39870"/>
              <a:gd name="adj2" fmla="val 1786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juan AP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7800" y="914400"/>
            <a:ext cx="2819520" cy="1143000"/>
          </a:xfrm>
          <a:prstGeom prst="cloudCallout">
            <a:avLst>
              <a:gd name="adj1" fmla="val -101180"/>
              <a:gd name="adj2" fmla="val 1705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sas angga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8520" y="2133720"/>
            <a:ext cx="2666880" cy="1066680"/>
          </a:xfrm>
          <a:prstGeom prst="cloudCallout">
            <a:avLst>
              <a:gd name="adj1" fmla="val -146962"/>
              <a:gd name="adj2" fmla="val 13616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AP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87" dur="5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GARAN PENDAPATAN DAN BELANJA NEGARA (APBN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lah daftar sistematis yang memuat rencana penerimaan dan pengeluaran negara dalam satu tah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Fungsi alokasi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berarti bahwa anggaran negara harus diarahkan untuk mengurangi pengangguran dan pemborosan sumber daya serta meningkatkan efesiensi dan efektivitas perekonom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Fungsi distribusi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berarti bahwa kebijakan anggaran negara harus memperhatikan rasa keadilan dan kepatu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Fungsi stabilisasi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memiliki makna bahwa anggaran pemerintah menjadi alat untuk memelihara dan mengupayakan keseimbangan fundamental perekonom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ungsi APB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95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95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Fungsi otorisasi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mengandung arti bahwa anggaran negara menjadi dasar untuk melaksanakan pendapatan dan belanja pada tahun yang bersangkutan, Dengan demikian, pembelanjaan atau pendapatan dapat dipertanggungjawabkan kepada </a:t>
            </a:r>
            <a:r>
              <a:rPr b="0" lang="sv-SE" sz="24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rakyat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Fungsi perencanaan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mengandung arti bahwa anggaran negara dapat menjadi pedoman bagi negara untuk merencanakan kegiatan pada tahun terseb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Fungsi pengawasan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berarti anggaran negara harus menjadi pedoman untuk menilai apakah kegiatan penyelenggaraan </a:t>
            </a:r>
            <a:r>
              <a:rPr b="0" lang="sv-SE" sz="24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pemerintah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negara sesuai dengan ketentuan yang telah ditetapk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66680" y="762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Lanjuta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3:14:27Z</dcterms:created>
  <dc:creator>Ekonomi</dc:creator>
  <dc:description/>
  <dc:language>en-US</dc:language>
  <cp:lastModifiedBy>User</cp:lastModifiedBy>
  <dcterms:modified xsi:type="dcterms:W3CDTF">2008-09-18T14:32:46Z</dcterms:modified>
  <cp:revision>157</cp:revision>
  <dc:subject/>
  <dc:title>KOMPETENSI DASAR</dc:title>
</cp:coreProperties>
</file>