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42D-28A8-46F5-92D6-5D4DEC32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ACB-9BFE-4E08-8EC3-CFFBF935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09C-8DEC-4197-B92E-F003419E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B33-4DE8-45BB-ADAE-8E14E099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80769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C4F8-F0E2-4060-B4A1-D47FAADB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495252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5151960"/>
            <a:ext cx="27478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CA8-4BEE-440B-BCE4-9821420E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DA7-2736-45D6-B06E-6EBB8F18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E96-2E5F-448A-84AC-4A1565F3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807696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5E3-976C-406B-9CF8-56017F8A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4A4-A9C3-445F-B18B-7DF7B7A9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515196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2D6-7EF6-48BE-AA22-E17E00D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4952520"/>
            <a:ext cx="416448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5151960"/>
            <a:ext cx="853416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660-3EFF-4B12-9A77-AE5FCD04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237960"/>
          <a:ext cx="9144000" cy="736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37960"/>
                    <a:ext cx="9144000" cy="7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9d7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8672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65724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704F-A62F-49F2-9A47-99D06D701C92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240" y="0"/>
          <a:ext cx="9140760" cy="4927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0"/>
                    <a:ext cx="91407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586728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69000"/>
            <a:ext cx="915516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JURNAL PENUTUP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5943600"/>
            <a:ext cx="1828800" cy="38088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596360" y="59500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57200" y="990720"/>
          <a:ext cx="8229600" cy="5364000"/>
        </p:xfrm>
        <a:graphic>
          <a:graphicData uri="http://schemas.openxmlformats.org/drawingml/2006/table">
            <a:tbl>
              <a:tblPr/>
              <a:tblGrid>
                <a:gridCol w="490680"/>
                <a:gridCol w="488880"/>
                <a:gridCol w="3479760"/>
                <a:gridCol w="765000"/>
                <a:gridCol w="1501920"/>
                <a:gridCol w="1503360"/>
              </a:tblGrid>
              <a:tr h="5238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2. Menutup Akun Pembelian dan akun-akun lain yang terkait dengan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9d72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Ikhtisar Rugi Laba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etur pembelian &amp; PH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Pembeli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angkut Pembeli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Gaji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asuransi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penyusut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Beban listrik dan telepo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1032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066680"/>
          <a:ext cx="8229600" cy="5297400"/>
        </p:xfrm>
        <a:graphic>
          <a:graphicData uri="http://schemas.openxmlformats.org/drawingml/2006/table">
            <a:tbl>
              <a:tblPr/>
              <a:tblGrid>
                <a:gridCol w="1536840"/>
                <a:gridCol w="718920"/>
                <a:gridCol w="2360520"/>
                <a:gridCol w="636840"/>
                <a:gridCol w="1430280"/>
                <a:gridCol w="1546200"/>
              </a:tblGrid>
              <a:tr h="4597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d22a18"/>
                          </a:solidFill>
                          <a:latin typeface="Baskerville Old Face"/>
                          <a:ea typeface="Arial"/>
                        </a:rPr>
                        <a:t>3. Menutup Akun Prive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Des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Mod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Prive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9966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ff"/>
                      </a:solidFill>
                    </a:lnL>
                    <a:lnR w="12240">
                      <a:solidFill>
                        <a:srgbClr val="ff00ff"/>
                      </a:solidFill>
                    </a:lnR>
                    <a:lnT w="12240">
                      <a:solidFill>
                        <a:srgbClr val="ff00ff"/>
                      </a:solidFill>
                    </a:lnT>
                    <a:lnB w="1224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703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4. Menutup Akun Ikhtisar Rugi / Laba</a:t>
                      </a:r>
                      <a:endParaRPr b="0" lang="en-US" sz="20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a. Jika Perusahan Mengalami Laba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Ikhtisar R/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Mod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800080"/>
                      </a:solidFill>
                    </a:lnL>
                    <a:lnR w="12240">
                      <a:solidFill>
                        <a:srgbClr val="800080"/>
                      </a:solidFill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b. Jika Perusahan Mengalami Rugi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80008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Mod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Ikhtisar R/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00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6600"/>
                      </a:solidFill>
                    </a:lnL>
                    <a:lnR w="12240">
                      <a:solidFill>
                        <a:srgbClr val="ff6600"/>
                      </a:solidFill>
                    </a:lnR>
                    <a:lnT w="12240">
                      <a:solidFill>
                        <a:srgbClr val="ff6600"/>
                      </a:solidFill>
                    </a:lnT>
                    <a:lnB w="1224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3"/>
          <p:cNvSpPr/>
          <p:nvPr/>
        </p:nvSpPr>
        <p:spPr>
          <a:xfrm>
            <a:off x="533520" y="380880"/>
            <a:ext cx="77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de Latin"/>
              </a:rPr>
              <a:t>ALUR NERACA SALDO SETELAH PENUTUPAN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01" name="Group 2"/>
          <p:cNvGrpSpPr/>
          <p:nvPr/>
        </p:nvGrpSpPr>
        <p:grpSpPr>
          <a:xfrm>
            <a:off x="304920" y="1447920"/>
            <a:ext cx="8076960" cy="4131720"/>
            <a:chOff x="304920" y="1447920"/>
            <a:chExt cx="8076960" cy="4131720"/>
          </a:xfrm>
        </p:grpSpPr>
        <p:sp>
          <p:nvSpPr>
            <p:cNvPr id="202" name="Text Box 3"/>
            <p:cNvSpPr/>
            <p:nvPr/>
          </p:nvSpPr>
          <p:spPr>
            <a:xfrm>
              <a:off x="304920" y="1447920"/>
              <a:ext cx="2658240" cy="172152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ngeluaran Kas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ngeluaran Kas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mbelian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Penjualan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ahoma"/>
                </a:rPr>
                <a:t>Jurnal Umum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304920" y="3399120"/>
              <a:ext cx="2658240" cy="8031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ahoma"/>
                </a:rPr>
                <a:t>JURNAL PENYESUAIAN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3474360" y="3399120"/>
              <a:ext cx="1022400" cy="344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22a18"/>
                  </a:solidFill>
                  <a:latin typeface="Tahoma"/>
                </a:rPr>
                <a:t>POSTING</a:t>
              </a: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304920" y="4776480"/>
              <a:ext cx="2658240" cy="80316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URNAL PENUTUP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AutoShape 7"/>
            <p:cNvSpPr/>
            <p:nvPr/>
          </p:nvSpPr>
          <p:spPr>
            <a:xfrm>
              <a:off x="2963160" y="2365920"/>
              <a:ext cx="715320" cy="2984400"/>
            </a:xfrm>
            <a:custGeom>
              <a:avLst/>
              <a:gdLst>
                <a:gd name="textAreaLeft" fmla="*/ 0 w 715320"/>
                <a:gd name="textAreaRight" fmla="*/ 258120 w 715320"/>
                <a:gd name="textAreaTop" fmla="*/ 77760 h 2984400"/>
                <a:gd name="textAreaBottom" fmla="*/ 2906640 h 29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Line 8"/>
            <p:cNvSpPr/>
            <p:nvPr/>
          </p:nvSpPr>
          <p:spPr>
            <a:xfrm flipH="1">
              <a:off x="3065400" y="3858120"/>
              <a:ext cx="511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3576600" y="3858120"/>
              <a:ext cx="10224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4599000" y="3513960"/>
              <a:ext cx="1022040" cy="68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BUKU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BESAR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5621400" y="3858120"/>
              <a:ext cx="4089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6030360" y="3513960"/>
              <a:ext cx="2351520" cy="688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N. S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ahoma"/>
                </a:rPr>
                <a:t>STL PENUTUPAN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psquestion" descr=""/>
          <p:cNvPicPr/>
          <p:nvPr/>
        </p:nvPicPr>
        <p:blipFill>
          <a:blip r:embed="rId1"/>
          <a:stretch/>
        </p:blipFill>
        <p:spPr>
          <a:xfrm>
            <a:off x="371520" y="1066680"/>
            <a:ext cx="8772480" cy="1524240"/>
          </a:xfrm>
          <a:prstGeom prst="rect">
            <a:avLst/>
          </a:prstGeom>
          <a:ln w="0">
            <a:noFill/>
          </a:ln>
        </p:spPr>
      </p:pic>
      <p:sp>
        <p:nvSpPr>
          <p:cNvPr id="213" name="ppsanswer"/>
          <p:cNvSpPr/>
          <p:nvPr/>
        </p:nvSpPr>
        <p:spPr>
          <a:xfrm>
            <a:off x="228600" y="266688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Beban Perlengkapan ( D ) Rp. 500.000, Ikhtisar R/L ( K ) Rp. 5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Ikhtisar R/L (D) Rp. 300.000, Beban Perlengkapan (K) Rp. 3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Ikhtisar R/L (D) Rp. 200.000, Beban Perlengkapan (K) Rp. 2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Beban Perlengkapan ( D ) Rp. 300.000, Ikhtisar R/L ( K ) Rp. 3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49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9d72"/>
                </a:solidFill>
                <a:latin typeface="Verdana"/>
              </a:rPr>
              <a:t>Ikhtisar R/L (D) Rp. 500.000, Beban Perlengkapan (K) Rp. 500.000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psquestion" descr=""/>
          <p:cNvPicPr/>
          <p:nvPr/>
        </p:nvPicPr>
        <p:blipFill>
          <a:blip r:embed="rId1"/>
          <a:stretch/>
        </p:blipFill>
        <p:spPr>
          <a:xfrm>
            <a:off x="293760" y="990720"/>
            <a:ext cx="8850240" cy="1407960"/>
          </a:xfrm>
          <a:prstGeom prst="rect">
            <a:avLst/>
          </a:prstGeom>
          <a:ln w="0">
            <a:noFill/>
          </a:ln>
        </p:spPr>
      </p:pic>
      <p:sp>
        <p:nvSpPr>
          <p:cNvPr id="215" name="ppsanswer"/>
          <p:cNvSpPr/>
          <p:nvPr/>
        </p:nvSpPr>
        <p:spPr>
          <a:xfrm>
            <a:off x="228600" y="2514600"/>
            <a:ext cx="868680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Ikhtisar R/L (D) Rp. 22.500.000, Modal (K)  Rp. 22.500.0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Ikhtisar R/L (D) Rp. 25.000.000, Modal (K) Rp. 25.000.0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Ikhtisar R/L (D) Rp. 20.000.000, Modal (K)  Rp. 20.000.0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Modal (D) Rp. 20.000.000, Ikhtisar R/L (K) Rp. 20.000.000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51"/>
              </a:spcBef>
              <a:buClr>
                <a:srgbClr val="9999ff"/>
              </a:buClr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99d72"/>
                </a:solidFill>
                <a:latin typeface="Verdana"/>
              </a:rPr>
              <a:t>Modal (D) Rp. 22.500.000, Ikhtisar R/L (K) Rp. 22.500.000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5181480"/>
            <a:ext cx="3733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 rot="10800000">
            <a:off x="2209320" y="2056680"/>
            <a:ext cx="4343400" cy="180036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4419720"/>
            <a:ext cx="655308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4834"/>
              </a:gs>
              <a:gs pos="50000">
                <a:srgbClr val="399d72"/>
              </a:gs>
              <a:gs pos="100000">
                <a:srgbClr val="1a4834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Klik untuk melihat materi lengkap jurnal penutup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819520" y="2743200"/>
            <a:ext cx="37242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ERIMA KASIH</a:t>
            </a:r>
            <a:endParaRPr b="1" lang="en-US" sz="40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7819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5791320"/>
            <a:ext cx="1371600" cy="609480"/>
          </a:xfrm>
          <a:prstGeom prst="rect">
            <a:avLst/>
          </a:prstGeom>
          <a:solidFill>
            <a:srgbClr val="399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555920" y="2949480"/>
            <a:ext cx="761760" cy="665280"/>
            <a:chOff x="1555920" y="2949480"/>
            <a:chExt cx="761760" cy="665280"/>
          </a:xfrm>
        </p:grpSpPr>
        <p:sp>
          <p:nvSpPr>
            <p:cNvPr id="92" name=""/>
            <p:cNvSpPr/>
            <p:nvPr/>
          </p:nvSpPr>
          <p:spPr>
            <a:xfrm>
              <a:off x="1562040" y="29606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5920" y="29494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0200" y="298872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55920" y="3863880"/>
            <a:ext cx="761400" cy="665280"/>
            <a:chOff x="1555920" y="3863880"/>
            <a:chExt cx="761400" cy="665280"/>
          </a:xfrm>
        </p:grpSpPr>
        <p:sp>
          <p:nvSpPr>
            <p:cNvPr id="96" name=""/>
            <p:cNvSpPr/>
            <p:nvPr/>
          </p:nvSpPr>
          <p:spPr>
            <a:xfrm>
              <a:off x="1562040" y="387504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55920" y="386388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3903120"/>
              <a:ext cx="663840" cy="575280"/>
            </a:xfrm>
            <a:prstGeom prst="hexagon">
              <a:avLst>
                <a:gd name="adj" fmla="val 28849"/>
                <a:gd name="vf" fmla="val 115470"/>
              </a:avLst>
            </a:prstGeom>
            <a:gradFill rotWithShape="0">
              <a:gsLst>
                <a:gs pos="0">
                  <a:srgbClr val="399d72"/>
                </a:gs>
                <a:gs pos="100000">
                  <a:srgbClr val="1a4834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35593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9718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a18"/>
                </a:solidFill>
                <a:latin typeface="Arial"/>
              </a:rPr>
              <a:t>Membuat jurnal penutupa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5464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5400" y="447372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69240" y="3824280"/>
            <a:ext cx="57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a18"/>
                </a:solidFill>
                <a:latin typeface="Arial"/>
              </a:rPr>
              <a:t>Melakukan posting jurnal penutupan ke buku besar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464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55920" y="4756320"/>
            <a:ext cx="761760" cy="664920"/>
            <a:chOff x="1555920" y="4756320"/>
            <a:chExt cx="761760" cy="664920"/>
          </a:xfrm>
        </p:grpSpPr>
        <p:sp>
          <p:nvSpPr>
            <p:cNvPr id="106" name=""/>
            <p:cNvSpPr/>
            <p:nvPr/>
          </p:nvSpPr>
          <p:spPr>
            <a:xfrm>
              <a:off x="1562040" y="476748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55920" y="47563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00200" y="4795560"/>
              <a:ext cx="663840" cy="574920"/>
            </a:xfrm>
            <a:prstGeom prst="hexagon">
              <a:avLst>
                <a:gd name="adj" fmla="val 28867"/>
                <a:gd name="vf" fmla="val 115470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13500000"/>
            </a:gra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165400" y="5365800"/>
            <a:ext cx="4800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8480" y="472428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22a18"/>
                </a:solidFill>
                <a:latin typeface="Arial"/>
              </a:rPr>
              <a:t>Membuat neraca saldo setelah penutupan buku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4640" y="4854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533520"/>
            <a:ext cx="8353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Broadway BT"/>
              </a:rPr>
              <a:t>STANDAR KOMPETENSI</a:t>
            </a:r>
            <a:endParaRPr b="0" lang="en-US" sz="4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Bernard MT Condensed"/>
              </a:rPr>
              <a:t>Mamahami penutupan siklus akuntansi perusahaan dagang.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04920" y="21337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Broadway BT"/>
              </a:rPr>
              <a:t>KOMPETENSI DASAR 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410080" y="2438280"/>
            <a:ext cx="3733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2a18"/>
                </a:solidFill>
                <a:latin typeface="Verdana"/>
              </a:rPr>
              <a:t>Membuat neraca saldo setelah penutupan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INDIKATOR PELAJA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4479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399d72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143000"/>
            <a:ext cx="2626560" cy="2971440"/>
            <a:chOff x="609480" y="1143000"/>
            <a:chExt cx="2626560" cy="2971440"/>
          </a:xfrm>
        </p:grpSpPr>
        <p:sp>
          <p:nvSpPr>
            <p:cNvPr id="119" name=""/>
            <p:cNvSpPr/>
            <p:nvPr/>
          </p:nvSpPr>
          <p:spPr>
            <a:xfrm>
              <a:off x="609480" y="1369440"/>
              <a:ext cx="2619000" cy="21042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9800" y="1375560"/>
              <a:ext cx="2540160" cy="206424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680" y="2895120"/>
              <a:ext cx="2505960" cy="522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680" y="1391760"/>
              <a:ext cx="2505960" cy="52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17040" y="3474000"/>
              <a:ext cx="2619000" cy="64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680" y="3491280"/>
              <a:ext cx="2505960" cy="569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1510560" y="1143000"/>
              <a:ext cx="778320" cy="473400"/>
              <a:chOff x="1510560" y="1143000"/>
              <a:chExt cx="778320" cy="473400"/>
            </a:xfrm>
          </p:grpSpPr>
          <p:sp>
            <p:nvSpPr>
              <p:cNvPr id="126" name=""/>
              <p:cNvSpPr/>
              <p:nvPr/>
            </p:nvSpPr>
            <p:spPr>
              <a:xfrm>
                <a:off x="1510560" y="1143000"/>
                <a:ext cx="778320" cy="473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18480" y="1146600"/>
                <a:ext cx="752760" cy="4586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27840" y="1149120"/>
                <a:ext cx="735120" cy="447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36120" y="1153440"/>
                <a:ext cx="699120" cy="4172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76800" y="1164960"/>
                <a:ext cx="621000" cy="33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1797120" y="1265400"/>
              <a:ext cx="18468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640" y="1702800"/>
              <a:ext cx="2490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NDIKATOR PELAJARAN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562720" y="2362320"/>
            <a:ext cx="2166840" cy="4034880"/>
            <a:chOff x="5562720" y="2362320"/>
            <a:chExt cx="2166840" cy="4034880"/>
          </a:xfrm>
        </p:grpSpPr>
        <p:sp>
          <p:nvSpPr>
            <p:cNvPr id="134" name=""/>
            <p:cNvSpPr/>
            <p:nvPr/>
          </p:nvSpPr>
          <p:spPr>
            <a:xfrm>
              <a:off x="5562720" y="266976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95840" y="267804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13480" y="474156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3480" y="270000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07200" y="236232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13320" y="2366640"/>
              <a:ext cx="62244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1600" y="236988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27720" y="2376360"/>
              <a:ext cx="57780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62640" y="2392200"/>
              <a:ext cx="51300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29320" y="2527200"/>
              <a:ext cx="184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3124080"/>
              <a:ext cx="2057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2a18"/>
                  </a:solidFill>
                  <a:latin typeface="Arial"/>
                </a:rPr>
                <a:t>Membuat neraca saldo setelah penutupan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5600" y="5527440"/>
              <a:ext cx="216396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10240" y="555120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581280" y="3505320"/>
            <a:ext cx="1447920" cy="76176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99d72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TERI PEMBELAJAR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66680" y="2362320"/>
            <a:ext cx="7016760" cy="3352320"/>
            <a:chOff x="1066680" y="2362320"/>
            <a:chExt cx="7016760" cy="3352320"/>
          </a:xfrm>
        </p:grpSpPr>
        <p:sp>
          <p:nvSpPr>
            <p:cNvPr id="150" name=""/>
            <p:cNvSpPr/>
            <p:nvPr/>
          </p:nvSpPr>
          <p:spPr>
            <a:xfrm>
              <a:off x="3052800" y="3193200"/>
              <a:ext cx="465120" cy="600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99d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7400" y="3193200"/>
              <a:ext cx="463320" cy="6001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73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999f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73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999f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27640" y="25164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525289"/>
                </a:gs>
                <a:gs pos="50000">
                  <a:srgbClr val="9999ff"/>
                </a:gs>
                <a:gs pos="100000">
                  <a:srgbClr val="52528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6080" y="2527200"/>
              <a:ext cx="1727280" cy="19555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0"/>
                  </a:srgbClr>
                </a:gs>
                <a:gs pos="100000">
                  <a:srgbClr val="606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19800" y="2613240"/>
              <a:ext cx="1555560" cy="1760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6680" y="23623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23623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7000" y="25092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98440" y="25128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2680" y="2607480"/>
              <a:ext cx="1554120" cy="1760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07880" y="2632680"/>
              <a:ext cx="1503360" cy="1704600"/>
              <a:chOff x="1307880" y="2632680"/>
              <a:chExt cx="1503360" cy="17046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7880" y="2632680"/>
                <a:ext cx="1503360" cy="1704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26600" y="2642040"/>
                <a:ext cx="1467360" cy="1662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42440" y="2658600"/>
                <a:ext cx="1395000" cy="1553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24160" y="2701800"/>
                <a:ext cx="1240200" cy="1260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5827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99d72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82720" y="2369520"/>
              <a:ext cx="1986120" cy="2249280"/>
            </a:xfrm>
            <a:prstGeom prst="ellipse">
              <a:avLst/>
            </a:prstGeom>
            <a:gradFill rotWithShape="0">
              <a:gsLst>
                <a:gs pos="0">
                  <a:srgbClr val="1a4834"/>
                </a:gs>
                <a:gs pos="100000">
                  <a:srgbClr val="399d72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516400"/>
              <a:ext cx="1725480" cy="1955520"/>
            </a:xfrm>
            <a:prstGeom prst="ellipse">
              <a:avLst/>
            </a:prstGeom>
            <a:gradFill rotWithShape="0">
              <a:gsLst>
                <a:gs pos="0">
                  <a:srgbClr val="1e543d"/>
                </a:gs>
                <a:gs pos="50000">
                  <a:srgbClr val="399d72"/>
                </a:gs>
                <a:gs pos="100000">
                  <a:srgbClr val="1e543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14480" y="2519640"/>
              <a:ext cx="1725840" cy="1955880"/>
            </a:xfrm>
            <a:prstGeom prst="ellipse">
              <a:avLst/>
            </a:prstGeom>
            <a:gradFill rotWithShape="0">
              <a:gsLst>
                <a:gs pos="0">
                  <a:srgbClr val="399d72">
                    <a:alpha val="0"/>
                  </a:srgbClr>
                </a:gs>
                <a:gs pos="100000">
                  <a:srgbClr val="2463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98720" y="2613240"/>
              <a:ext cx="1554120" cy="1760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824280" y="2632680"/>
              <a:ext cx="1503360" cy="1704600"/>
              <a:chOff x="3824280" y="2632680"/>
              <a:chExt cx="1503360" cy="1704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824280" y="2632680"/>
                <a:ext cx="1503360" cy="1704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43000" y="2642040"/>
                <a:ext cx="1467360" cy="1662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58840" y="2658600"/>
                <a:ext cx="1395000" cy="1553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940560" y="2701800"/>
                <a:ext cx="1240200" cy="1260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348240" y="2632680"/>
              <a:ext cx="1505160" cy="1704600"/>
              <a:chOff x="6348240" y="2632680"/>
              <a:chExt cx="1505160" cy="170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6348240" y="2632680"/>
                <a:ext cx="1505160" cy="17046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67320" y="2642040"/>
                <a:ext cx="1469160" cy="1662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82800" y="2658600"/>
                <a:ext cx="1396800" cy="1553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64880" y="2701800"/>
                <a:ext cx="1241640" cy="1260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1110960" y="5177520"/>
              <a:ext cx="1892520" cy="537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Jurnal Penutup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25560" y="5177520"/>
              <a:ext cx="1890720" cy="537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Menutup Buku Besar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56360" y="5177520"/>
              <a:ext cx="1890720" cy="5371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Neraca Saldo 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22a18"/>
                  </a:solidFill>
                  <a:latin typeface="Arial"/>
                </a:rPr>
                <a:t>Setelah Penutupan</a:t>
              </a:r>
              <a:endParaRPr b="0" lang="en-US" sz="1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87840" y="326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0360" y="326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31080" y="326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Pengertian jurnal penut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Jurnal Penutup: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Adalah jurnal yang dibuat untuk menutup akun-akun nominal seperti penjualan dan akun-akun lain yang terkait dengan penjualan, pembelian dan akun-akun lain yang terkait dengan pembelian, pendapatan dan beban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Fungsi jurnal Penut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Dengan demikian fungsi jurnal penutup adalah:</a:t>
            </a:r>
            <a:br>
              <a:rPr sz="2800"/>
            </a:b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. Menghitung jumlah laba/rugi dari akun pendapatan dan beban.</a:t>
            </a:r>
            <a:br>
              <a:rPr sz="2800"/>
            </a:b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b. Memindahkan (menolkan) saldo akun sementara ke akun modal untuk pencatatan periode berikutnya.</a:t>
            </a:r>
            <a:br>
              <a:rPr sz="2800"/>
            </a:b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c. Menghitung modal akhir periode</a:t>
            </a:r>
            <a:r>
              <a:rPr b="1" lang="en-US" sz="2800" spc="-1" strike="noStrike">
                <a:solidFill>
                  <a:srgbClr val="399d72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18960"/>
            <a:ext cx="8381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Verdana"/>
              </a:rPr>
              <a:t>Akun mana saja yang perlu ditutup setiap akhir perio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pendapatan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beban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ikhtisar laba/rugi atau saldo laba/saldo rugi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9999ff"/>
              </a:buClr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399d72"/>
                </a:solidFill>
                <a:latin typeface="Verdana"/>
              </a:rPr>
              <a:t>Akun prive.</a:t>
            </a:r>
            <a:endParaRPr b="1" lang="en-US" sz="2800" spc="-1" strike="noStrike">
              <a:solidFill>
                <a:srgbClr val="399d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57200" y="1600200"/>
          <a:ext cx="8229600" cy="4866840"/>
        </p:xfrm>
        <a:graphic>
          <a:graphicData uri="http://schemas.openxmlformats.org/drawingml/2006/table">
            <a:tbl>
              <a:tblPr/>
              <a:tblGrid>
                <a:gridCol w="1109520"/>
                <a:gridCol w="493920"/>
                <a:gridCol w="2958840"/>
                <a:gridCol w="621000"/>
                <a:gridCol w="1463400"/>
                <a:gridCol w="1582920"/>
              </a:tblGrid>
              <a:tr h="741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Baskerville Old Face"/>
                          <a:ea typeface="Arial"/>
                        </a:rPr>
                        <a:t>1. Menutup Akun 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Tangga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Nama Aku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Ref.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Debe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Kredit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solidFill>
                      <a:srgbClr val="d22a18"/>
                    </a:solidFill>
                  </a:tcPr>
                </a:tc>
              </a:tr>
              <a:tr h="568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Des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Pendapatan 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etur penjualan &amp; PH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Potongan 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Beban angkut penjualan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d528d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Ikhtisar R/L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Baskerville Old Face"/>
                          <a:ea typeface="Arial"/>
                        </a:rPr>
                        <a:t>Rp. xxxxx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ff0000"/>
                      </a:solidFill>
                    </a:lnL>
                    <a:lnR w="12240">
                      <a:solidFill>
                        <a:srgbClr val="ff0000"/>
                      </a:solidFill>
                    </a:lnR>
                    <a:lnT w="12240">
                      <a:solidFill>
                        <a:srgbClr val="ff0000"/>
                      </a:solidFill>
                    </a:lnT>
                    <a:lnB w="1224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2425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18:36:29Z</dcterms:created>
  <dc:creator>Student</dc:creator>
  <dc:description/>
  <dc:language>en-US</dc:language>
  <cp:lastModifiedBy>User</cp:lastModifiedBy>
  <dcterms:modified xsi:type="dcterms:W3CDTF">2008-09-17T10:27:56Z</dcterms:modified>
  <cp:revision>5</cp:revision>
  <dc:subject/>
  <dc:title>JURNAL PENUTUP</dc:title>
</cp:coreProperties>
</file>