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E56-A7C9-4069-AFF0-2D7C2A1D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534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5151960"/>
            <a:ext cx="8534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911-2771-458B-BC89-EBC501BD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433-BC23-40C4-8748-2EAF3D6D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495252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495252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515196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515196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515196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CE6-F9BF-44BF-9365-A81BFEAA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590920"/>
            <a:ext cx="807696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115-F816-42B5-93D4-D4EE3CE1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784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8534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534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5151960"/>
            <a:ext cx="8534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784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0680" y="495252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080" y="495252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515196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0680" y="515196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080" y="515196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DB8-7E38-4B8D-8ED0-B84304CC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2B2-CF14-4A86-A5A6-D4C1DF2A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E53-38A5-464D-B86E-09C9707B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2590920"/>
            <a:ext cx="807696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86B-33C9-4459-81F3-323D8D24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83A-D32C-4E9A-BA8B-E3D069BF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7C7-F24E-41F6-B2B8-07D39BD8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8534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550-DE3D-4DDE-8BCE-89D22231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237960"/>
          <a:ext cx="9144000" cy="73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960"/>
                    <a:ext cx="914400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399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9d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86728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657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05B0-3829-4566-957D-8D2970F0BC2F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399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" y="0"/>
          <a:ext cx="9140760" cy="492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0"/>
                    <a:ext cx="91407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586728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869000"/>
            <a:ext cx="915516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JURNAL PENUTUP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943600"/>
            <a:ext cx="1828800" cy="380880"/>
          </a:xfrm>
          <a:prstGeom prst="rect">
            <a:avLst/>
          </a:prstGeom>
          <a:solidFill>
            <a:srgbClr val="399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596360" y="5950080"/>
            <a:ext cx="1228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990720"/>
          <a:ext cx="8229600" cy="5364000"/>
        </p:xfrm>
        <a:graphic>
          <a:graphicData uri="http://schemas.openxmlformats.org/drawingml/2006/table">
            <a:tbl>
              <a:tblPr/>
              <a:tblGrid>
                <a:gridCol w="490680"/>
                <a:gridCol w="488880"/>
                <a:gridCol w="3479760"/>
                <a:gridCol w="765000"/>
                <a:gridCol w="1501920"/>
                <a:gridCol w="1503360"/>
              </a:tblGrid>
              <a:tr h="5238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2. Menutup Akun Pembelian dan akun-akun lain yang terkait dengan 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9d72"/>
                          </a:solidFill>
                          <a:latin typeface="Baskerville Old Face"/>
                          <a:ea typeface="Arial"/>
                        </a:rPr>
                        <a:t>Tangg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d22a1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9d72"/>
                          </a:solidFill>
                          <a:latin typeface="Baskerville Old Face"/>
                          <a:ea typeface="Arial"/>
                        </a:rPr>
                        <a:t>Nama Aku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9d72"/>
                          </a:solidFill>
                          <a:latin typeface="Baskerville Old Face"/>
                          <a:ea typeface="Arial"/>
                        </a:rPr>
                        <a:t>Ref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9d72"/>
                          </a:solidFill>
                          <a:latin typeface="Baskerville Old Face"/>
                          <a:ea typeface="Arial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9d72"/>
                          </a:solidFill>
                          <a:latin typeface="Baskerville Old Face"/>
                          <a:ea typeface="Arial"/>
                        </a:rPr>
                        <a:t>Kredi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d22a1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Ikhtisar Rugi Laba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etur pembelian &amp; PH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Pembeli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Beban angkut Pembeli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Beban Gaji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Beban asuransi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Beban penyusut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Beban listrik dan telepo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066680"/>
          <a:ext cx="8229600" cy="5297400"/>
        </p:xfrm>
        <a:graphic>
          <a:graphicData uri="http://schemas.openxmlformats.org/drawingml/2006/table">
            <a:tbl>
              <a:tblPr/>
              <a:tblGrid>
                <a:gridCol w="1536840"/>
                <a:gridCol w="718920"/>
                <a:gridCol w="2360520"/>
                <a:gridCol w="636840"/>
                <a:gridCol w="1430280"/>
                <a:gridCol w="1546200"/>
              </a:tblGrid>
              <a:tr h="4597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22a18"/>
                          </a:solidFill>
                          <a:latin typeface="Baskerville Old Face"/>
                          <a:ea typeface="Arial"/>
                        </a:rPr>
                        <a:t>3. Menutup Akun Priv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Tanggal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Nama Aku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Ref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Kredi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2a1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Des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Mod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Priv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4. Menutup Akun Ikhtisar Rugi / Laba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a. Jika Perusahan Mengalami Laba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Tangg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Nama Aku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Ref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Kredi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solidFill>
                      <a:srgbClr val="d22a1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Ikhtisar R/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Mod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b. Jika Perusahan Mengalami Rugi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Tangg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Nama Aku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Ref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Kredi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d22a1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Mod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Ikhtisar R/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3"/>
          <p:cNvSpPr/>
          <p:nvPr/>
        </p:nvSpPr>
        <p:spPr>
          <a:xfrm>
            <a:off x="533520" y="38088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de Latin"/>
              </a:rPr>
              <a:t>ALUR NERACA SALDO SETELAH PENUTUPA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01" name="Group 2"/>
          <p:cNvGrpSpPr/>
          <p:nvPr/>
        </p:nvGrpSpPr>
        <p:grpSpPr>
          <a:xfrm>
            <a:off x="304920" y="1447920"/>
            <a:ext cx="8076960" cy="4131720"/>
            <a:chOff x="304920" y="1447920"/>
            <a:chExt cx="8076960" cy="4131720"/>
          </a:xfrm>
        </p:grpSpPr>
        <p:sp>
          <p:nvSpPr>
            <p:cNvPr id="202" name="Text Box 3"/>
            <p:cNvSpPr/>
            <p:nvPr/>
          </p:nvSpPr>
          <p:spPr>
            <a:xfrm>
              <a:off x="304920" y="1447920"/>
              <a:ext cx="2658240" cy="17215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Jurnal Pengeluaran Kas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Jurnal Pengeluaran Kas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Jurnal Pembelian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Jurnal Penjualan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Jurnal Umum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304920" y="3399120"/>
              <a:ext cx="2658240" cy="80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JURNAL PENYESUAIAN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3474360" y="3399120"/>
              <a:ext cx="1022400" cy="344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22a18"/>
                  </a:solidFill>
                  <a:latin typeface="Tahoma"/>
                </a:rPr>
                <a:t>POSTING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Text Box 6"/>
            <p:cNvSpPr/>
            <p:nvPr/>
          </p:nvSpPr>
          <p:spPr>
            <a:xfrm>
              <a:off x="304920" y="4776480"/>
              <a:ext cx="2658240" cy="80316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JURNAL PENUTUP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>
              <a:off x="2963160" y="2365920"/>
              <a:ext cx="715320" cy="2984400"/>
            </a:xfrm>
            <a:custGeom>
              <a:avLst/>
              <a:gdLst>
                <a:gd name="textAreaLeft" fmla="*/ 0 w 715320"/>
                <a:gd name="textAreaRight" fmla="*/ 258120 w 715320"/>
                <a:gd name="textAreaTop" fmla="*/ 77760 h 2984400"/>
                <a:gd name="textAreaBottom" fmla="*/ 2906640 h 29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Line 8"/>
            <p:cNvSpPr/>
            <p:nvPr/>
          </p:nvSpPr>
          <p:spPr>
            <a:xfrm flipH="1">
              <a:off x="3065400" y="3858120"/>
              <a:ext cx="511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3576600" y="3858120"/>
              <a:ext cx="1022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4599000" y="3513960"/>
              <a:ext cx="1022040" cy="68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ahoma"/>
                </a:rPr>
                <a:t>BUKU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ahoma"/>
                </a:rPr>
                <a:t>BESAR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5621400" y="3858120"/>
              <a:ext cx="4089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6030360" y="3513960"/>
              <a:ext cx="2351520" cy="68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ahoma"/>
                </a:rPr>
                <a:t>N. S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ahoma"/>
                </a:rPr>
                <a:t>STL PENUTUPAN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psquestion" descr=""/>
          <p:cNvPicPr/>
          <p:nvPr/>
        </p:nvPicPr>
        <p:blipFill>
          <a:blip r:embed="rId1"/>
          <a:stretch/>
        </p:blipFill>
        <p:spPr>
          <a:xfrm>
            <a:off x="371520" y="1066680"/>
            <a:ext cx="8772480" cy="1524240"/>
          </a:xfrm>
          <a:prstGeom prst="rect">
            <a:avLst/>
          </a:prstGeom>
          <a:ln w="0">
            <a:noFill/>
          </a:ln>
        </p:spPr>
      </p:pic>
      <p:sp>
        <p:nvSpPr>
          <p:cNvPr id="213" name="ppsanswer"/>
          <p:cNvSpPr/>
          <p:nvPr/>
        </p:nvSpPr>
        <p:spPr>
          <a:xfrm>
            <a:off x="228600" y="266688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9d72"/>
                </a:solidFill>
                <a:latin typeface="Verdana"/>
              </a:rPr>
              <a:t>Beban Perlengkapan ( D ) Rp. 500.000, Ikhtisar R/L ( K ) Rp. 500.000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9d72"/>
                </a:solidFill>
                <a:latin typeface="Verdana"/>
              </a:rPr>
              <a:t>Ikhtisar R/L (D) Rp. 300.000, Beban Perlengkapan (K) Rp. 300.000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9d72"/>
                </a:solidFill>
                <a:latin typeface="Verdana"/>
              </a:rPr>
              <a:t>Ikhtisar R/L (D) Rp. 200.000, Beban Perlengkapan (K) Rp. 200.000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9d72"/>
                </a:solidFill>
                <a:latin typeface="Verdana"/>
              </a:rPr>
              <a:t>Beban Perlengkapan ( D ) Rp. 300.000, Ikhtisar R/L ( K ) Rp. 300.000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9d72"/>
                </a:solidFill>
                <a:latin typeface="Verdana"/>
              </a:rPr>
              <a:t>Ikhtisar R/L (D) Rp. 500.000, Beban Perlengkapan (K) Rp. 500.000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psquestion" descr=""/>
          <p:cNvPicPr/>
          <p:nvPr/>
        </p:nvPicPr>
        <p:blipFill>
          <a:blip r:embed="rId1"/>
          <a:stretch/>
        </p:blipFill>
        <p:spPr>
          <a:xfrm>
            <a:off x="293760" y="990720"/>
            <a:ext cx="8850240" cy="1407960"/>
          </a:xfrm>
          <a:prstGeom prst="rect">
            <a:avLst/>
          </a:prstGeom>
          <a:ln w="0">
            <a:noFill/>
          </a:ln>
        </p:spPr>
      </p:pic>
      <p:sp>
        <p:nvSpPr>
          <p:cNvPr id="215" name="ppsanswer"/>
          <p:cNvSpPr/>
          <p:nvPr/>
        </p:nvSpPr>
        <p:spPr>
          <a:xfrm>
            <a:off x="228600" y="2514600"/>
            <a:ext cx="868680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99d72"/>
                </a:solidFill>
                <a:latin typeface="Verdana"/>
              </a:rPr>
              <a:t>Ikhtisar R/L (D) Rp. 22.500.000, Modal (K)  Rp. 22.500.0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99d72"/>
                </a:solidFill>
                <a:latin typeface="Verdana"/>
              </a:rPr>
              <a:t>Ikhtisar R/L (D) Rp. 25.000.000, Modal (K) Rp. 25.000.0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99d72"/>
                </a:solidFill>
                <a:latin typeface="Verdana"/>
              </a:rPr>
              <a:t>Ikhtisar R/L (D) Rp. 20.000.000, Modal (K)  Rp. 20.000.0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99d72"/>
                </a:solidFill>
                <a:latin typeface="Verdana"/>
              </a:rPr>
              <a:t>Modal (D) Rp. 20.000.000, Ikhtisar R/L (K) Rp. 20.000.000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99d72"/>
                </a:solidFill>
                <a:latin typeface="Verdana"/>
              </a:rPr>
              <a:t>Modal (D) Rp. 22.500.000, Ikhtisar R/L (K) Rp. 22.500.000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518148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2209320" y="2056680"/>
            <a:ext cx="4343400" cy="180036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4419720"/>
            <a:ext cx="655308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4834"/>
              </a:gs>
              <a:gs pos="50000">
                <a:srgbClr val="399d72"/>
              </a:gs>
              <a:gs pos="100000">
                <a:srgbClr val="1a483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lik untuk melihat materi lengkap jurnal penutup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819520" y="2743200"/>
            <a:ext cx="37242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ERIMA KASIH</a:t>
            </a:r>
            <a:endParaRPr b="1" lang="en-US" sz="40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17819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5791320"/>
            <a:ext cx="1371600" cy="609480"/>
          </a:xfrm>
          <a:prstGeom prst="rect">
            <a:avLst/>
          </a:prstGeom>
          <a:solidFill>
            <a:srgbClr val="399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555920" y="2949480"/>
            <a:ext cx="761760" cy="665280"/>
            <a:chOff x="1555920" y="2949480"/>
            <a:chExt cx="761760" cy="665280"/>
          </a:xfrm>
        </p:grpSpPr>
        <p:sp>
          <p:nvSpPr>
            <p:cNvPr id="92" name=""/>
            <p:cNvSpPr/>
            <p:nvPr/>
          </p:nvSpPr>
          <p:spPr>
            <a:xfrm>
              <a:off x="1562040" y="29606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5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00200" y="2988720"/>
              <a:ext cx="663840" cy="575280"/>
            </a:xfrm>
            <a:prstGeom prst="hexagon">
              <a:avLst>
                <a:gd name="adj" fmla="val 28849"/>
                <a:gd name="vf" fmla="val 115470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35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55920" y="3863880"/>
            <a:ext cx="761400" cy="665280"/>
            <a:chOff x="1555920" y="3863880"/>
            <a:chExt cx="761400" cy="665280"/>
          </a:xfrm>
        </p:grpSpPr>
        <p:sp>
          <p:nvSpPr>
            <p:cNvPr id="96" name=""/>
            <p:cNvSpPr/>
            <p:nvPr/>
          </p:nvSpPr>
          <p:spPr>
            <a:xfrm>
              <a:off x="1562040" y="387504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55920" y="3863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00200" y="3903120"/>
              <a:ext cx="663840" cy="575280"/>
            </a:xfrm>
            <a:prstGeom prst="hexagon">
              <a:avLst>
                <a:gd name="adj" fmla="val 28849"/>
                <a:gd name="vf" fmla="val 115470"/>
              </a:avLst>
            </a:prstGeom>
            <a:gradFill rotWithShape="0">
              <a:gsLst>
                <a:gs pos="0">
                  <a:srgbClr val="399d72"/>
                </a:gs>
                <a:gs pos="100000">
                  <a:srgbClr val="1a4834"/>
                </a:gs>
              </a:gsLst>
              <a:lin ang="135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35593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297180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22a18"/>
                </a:solidFill>
                <a:latin typeface="Arial"/>
              </a:rPr>
              <a:t>Membuat jurnal penutupa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464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5400" y="4473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69240" y="3824280"/>
            <a:ext cx="57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22a18"/>
                </a:solidFill>
                <a:latin typeface="Arial"/>
              </a:rPr>
              <a:t>Melakukan posting jurnal penutupan ke buku besa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464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55920" y="4756320"/>
            <a:ext cx="761760" cy="664920"/>
            <a:chOff x="1555920" y="4756320"/>
            <a:chExt cx="761760" cy="664920"/>
          </a:xfrm>
        </p:grpSpPr>
        <p:sp>
          <p:nvSpPr>
            <p:cNvPr id="106" name=""/>
            <p:cNvSpPr/>
            <p:nvPr/>
          </p:nvSpPr>
          <p:spPr>
            <a:xfrm>
              <a:off x="1562040" y="47674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55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0200" y="4795560"/>
              <a:ext cx="663840" cy="574920"/>
            </a:xfrm>
            <a:prstGeom prst="hexagon">
              <a:avLst>
                <a:gd name="adj" fmla="val 28867"/>
                <a:gd name="vf" fmla="val 115470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35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165400" y="53658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8480" y="472428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22a18"/>
                </a:solidFill>
                <a:latin typeface="Arial"/>
              </a:rPr>
              <a:t>Membuat neraca saldo setelah penutupan buku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4640" y="48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533520"/>
            <a:ext cx="83534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roadway BT"/>
              </a:rPr>
              <a:t>STANDAR KOMPETENSI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ernard MT Condensed"/>
              </a:rPr>
              <a:t>Mamahami penutupan siklus akuntansi perusahaan dagang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04920" y="2133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roadway BT"/>
              </a:rPr>
              <a:t>KOMPETENSI DASAR 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410080" y="2438280"/>
            <a:ext cx="3733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2a18"/>
                </a:solidFill>
                <a:latin typeface="Verdana"/>
              </a:rPr>
              <a:t>Membuat neraca saldo setelah penutupan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NDIKATOR PELAJAR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4479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399d7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143000"/>
            <a:ext cx="2626560" cy="2971440"/>
            <a:chOff x="609480" y="1143000"/>
            <a:chExt cx="2626560" cy="2971440"/>
          </a:xfrm>
        </p:grpSpPr>
        <p:sp>
          <p:nvSpPr>
            <p:cNvPr id="119" name=""/>
            <p:cNvSpPr/>
            <p:nvPr/>
          </p:nvSpPr>
          <p:spPr>
            <a:xfrm>
              <a:off x="609480" y="1369440"/>
              <a:ext cx="2619000" cy="21042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9800" y="1375560"/>
              <a:ext cx="2540160" cy="206424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680" y="2895120"/>
              <a:ext cx="2505960" cy="522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0680" y="1391760"/>
              <a:ext cx="2505960" cy="52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7040" y="3474000"/>
              <a:ext cx="2619000" cy="64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0680" y="3491280"/>
              <a:ext cx="2505960" cy="569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510560" y="1143000"/>
              <a:ext cx="778320" cy="473400"/>
              <a:chOff x="1510560" y="1143000"/>
              <a:chExt cx="778320" cy="473400"/>
            </a:xfrm>
          </p:grpSpPr>
          <p:sp>
            <p:nvSpPr>
              <p:cNvPr id="126" name=""/>
              <p:cNvSpPr/>
              <p:nvPr/>
            </p:nvSpPr>
            <p:spPr>
              <a:xfrm>
                <a:off x="1510560" y="1143000"/>
                <a:ext cx="778320" cy="473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18480" y="1146600"/>
                <a:ext cx="752760" cy="4586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27840" y="1149120"/>
                <a:ext cx="735120" cy="447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36120" y="1153440"/>
                <a:ext cx="699120" cy="4172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76800" y="1164960"/>
                <a:ext cx="621000" cy="33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797120" y="1265400"/>
              <a:ext cx="184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640" y="1702800"/>
              <a:ext cx="249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NDIKATOR PELAJARAN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562720" y="2362320"/>
            <a:ext cx="2166840" cy="4034880"/>
            <a:chOff x="5562720" y="2362320"/>
            <a:chExt cx="2166840" cy="4034880"/>
          </a:xfrm>
        </p:grpSpPr>
        <p:sp>
          <p:nvSpPr>
            <p:cNvPr id="134" name=""/>
            <p:cNvSpPr/>
            <p:nvPr/>
          </p:nvSpPr>
          <p:spPr>
            <a:xfrm>
              <a:off x="5562720" y="266976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95840" y="267804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13480" y="474156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3480" y="2700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07200" y="236232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13320" y="236664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1600" y="236988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27720" y="237636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2640" y="239220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29320" y="252720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38680" y="3124080"/>
              <a:ext cx="2057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2a18"/>
                  </a:solidFill>
                  <a:latin typeface="Arial"/>
                </a:rPr>
                <a:t>Membuat neraca saldo setelah penutupan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65600" y="55274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10240" y="55512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581280" y="3505320"/>
            <a:ext cx="1447920" cy="76176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99d72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ERI PEMBELAJAR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2362320"/>
            <a:ext cx="7016760" cy="3352320"/>
            <a:chOff x="1066680" y="2362320"/>
            <a:chExt cx="7016760" cy="3352320"/>
          </a:xfrm>
        </p:grpSpPr>
        <p:sp>
          <p:nvSpPr>
            <p:cNvPr id="150" name=""/>
            <p:cNvSpPr/>
            <p:nvPr/>
          </p:nvSpPr>
          <p:spPr>
            <a:xfrm>
              <a:off x="3052800" y="3193200"/>
              <a:ext cx="465120" cy="6001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99d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7400" y="3193200"/>
              <a:ext cx="463320" cy="6001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7320" y="2369520"/>
              <a:ext cx="1986120" cy="2249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7320" y="2369520"/>
              <a:ext cx="1986120" cy="2249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27640" y="2516400"/>
              <a:ext cx="1725480" cy="195552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56080" y="2527200"/>
              <a:ext cx="1727280" cy="195552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19800" y="2613240"/>
              <a:ext cx="1555560" cy="1760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66680" y="2362320"/>
              <a:ext cx="1986120" cy="2249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6680" y="2362320"/>
              <a:ext cx="1986120" cy="2249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97000" y="2509200"/>
              <a:ext cx="1725480" cy="195552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98440" y="2512800"/>
              <a:ext cx="1725480" cy="19555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e5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82680" y="2607480"/>
              <a:ext cx="1554120" cy="1760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07880" y="2632680"/>
              <a:ext cx="1503360" cy="1704600"/>
              <a:chOff x="1307880" y="2632680"/>
              <a:chExt cx="1503360" cy="17046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7880" y="2632680"/>
                <a:ext cx="1503360" cy="1704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26600" y="2642040"/>
                <a:ext cx="1467360" cy="1662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42440" y="2658600"/>
                <a:ext cx="1395000" cy="1553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24160" y="2701800"/>
                <a:ext cx="1240200" cy="1260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582720" y="2369520"/>
              <a:ext cx="1986120" cy="2249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99d7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2720" y="2369520"/>
              <a:ext cx="1986120" cy="2249280"/>
            </a:xfrm>
            <a:prstGeom prst="ellipse">
              <a:avLst/>
            </a:prstGeom>
            <a:gradFill rotWithShape="0">
              <a:gsLst>
                <a:gs pos="0">
                  <a:srgbClr val="1a4834"/>
                </a:gs>
                <a:gs pos="100000">
                  <a:srgbClr val="399d7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3040" y="2516400"/>
              <a:ext cx="1725480" cy="1955520"/>
            </a:xfrm>
            <a:prstGeom prst="ellipse">
              <a:avLst/>
            </a:prstGeom>
            <a:gradFill rotWithShape="0">
              <a:gsLst>
                <a:gs pos="0">
                  <a:srgbClr val="1e543d"/>
                </a:gs>
                <a:gs pos="50000">
                  <a:srgbClr val="399d72"/>
                </a:gs>
                <a:gs pos="100000">
                  <a:srgbClr val="1e543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14480" y="2519640"/>
              <a:ext cx="1725840" cy="1955880"/>
            </a:xfrm>
            <a:prstGeom prst="ellipse">
              <a:avLst/>
            </a:prstGeom>
            <a:gradFill rotWithShape="0">
              <a:gsLst>
                <a:gs pos="0">
                  <a:srgbClr val="399d72">
                    <a:alpha val="0"/>
                  </a:srgbClr>
                </a:gs>
                <a:gs pos="100000">
                  <a:srgbClr val="2463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98720" y="2613240"/>
              <a:ext cx="1554120" cy="1760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824280" y="2632680"/>
              <a:ext cx="1503360" cy="1704600"/>
              <a:chOff x="3824280" y="2632680"/>
              <a:chExt cx="1503360" cy="1704600"/>
            </a:xfrm>
          </p:grpSpPr>
          <p:sp>
            <p:nvSpPr>
              <p:cNvPr id="173" name=""/>
              <p:cNvSpPr/>
              <p:nvPr/>
            </p:nvSpPr>
            <p:spPr>
              <a:xfrm>
                <a:off x="3824280" y="2632680"/>
                <a:ext cx="1503360" cy="1704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43000" y="2642040"/>
                <a:ext cx="1467360" cy="1662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58840" y="2658600"/>
                <a:ext cx="1395000" cy="1553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40560" y="2701800"/>
                <a:ext cx="1240200" cy="1260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348240" y="2632680"/>
              <a:ext cx="1505160" cy="1704600"/>
              <a:chOff x="6348240" y="2632680"/>
              <a:chExt cx="1505160" cy="1704600"/>
            </a:xfrm>
          </p:grpSpPr>
          <p:sp>
            <p:nvSpPr>
              <p:cNvPr id="178" name=""/>
              <p:cNvSpPr/>
              <p:nvPr/>
            </p:nvSpPr>
            <p:spPr>
              <a:xfrm>
                <a:off x="6348240" y="2632680"/>
                <a:ext cx="1505160" cy="1704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67320" y="2642040"/>
                <a:ext cx="1469160" cy="1662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82800" y="2658600"/>
                <a:ext cx="1396800" cy="1553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64880" y="2701800"/>
                <a:ext cx="1241640" cy="1260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110960" y="5177520"/>
              <a:ext cx="1892520" cy="5371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2a18"/>
                  </a:solidFill>
                  <a:latin typeface="Arial"/>
                </a:rPr>
                <a:t>Jurnal Penutup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25560" y="5177520"/>
              <a:ext cx="1890720" cy="5371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2a18"/>
                  </a:solidFill>
                  <a:latin typeface="Arial"/>
                </a:rPr>
                <a:t>Menutup Buku Besar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56360" y="5177520"/>
              <a:ext cx="1890720" cy="5371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2a18"/>
                  </a:solidFill>
                  <a:latin typeface="Arial"/>
                </a:rPr>
                <a:t>Neraca Saldo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2a18"/>
                  </a:solidFill>
                  <a:latin typeface="Arial"/>
                </a:rPr>
                <a:t>Setelah Penutupan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87840" y="326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0360" y="326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1080" y="326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Pengertian jurnal penut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Jurnal Penutup: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Adalah jurnal yang dibuat untuk menutup akun-akun nominal seperti penjualan dan akun-akun lain yang terkait dengan penjualan, pembelian dan akun-akun lain yang terkait dengan pembelian, pendapatan dan beban.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Fungsi jurnal Penut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Dengan demikian fungsi jurnal penutup adalah:</a:t>
            </a:r>
            <a:br>
              <a:rPr sz="2800"/>
            </a:b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a. Menghitung jumlah laba/rugi dari akun pendapatan dan beban.</a:t>
            </a:r>
            <a:br>
              <a:rPr sz="2800"/>
            </a:b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b. Memindahkan (menolkan) saldo akun sementara ke akun modal untuk pencatatan periode berikutnya.</a:t>
            </a:r>
            <a:br>
              <a:rPr sz="2800"/>
            </a:b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c. Menghitung modal akhir periode</a:t>
            </a: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Verdana"/>
              </a:rPr>
              <a:t>Akun mana saja yang perlu ditutup setiap akhir per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Akun pendapatan.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Akun beban.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Akun ikhtisar laba/rugi atau saldo laba/saldo rugi.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Akun prive.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57200" y="1600200"/>
          <a:ext cx="8229600" cy="4866840"/>
        </p:xfrm>
        <a:graphic>
          <a:graphicData uri="http://schemas.openxmlformats.org/drawingml/2006/table">
            <a:tbl>
              <a:tblPr/>
              <a:tblGrid>
                <a:gridCol w="1109520"/>
                <a:gridCol w="493920"/>
                <a:gridCol w="2958840"/>
                <a:gridCol w="621000"/>
                <a:gridCol w="1463400"/>
                <a:gridCol w="1582920"/>
              </a:tblGrid>
              <a:tr h="7416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1. Menutup Akun Penjual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Tangg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Nama Aku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Ref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Kredi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d22a18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Des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Penjual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Pendapatan 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etur penjualan &amp; PH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Potongan penjual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Beban angkut penjual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Ikhtisar R/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2425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8:36:29Z</dcterms:created>
  <dc:creator>Student</dc:creator>
  <dc:description/>
  <dc:language>en-US</dc:language>
  <cp:lastModifiedBy>User</cp:lastModifiedBy>
  <dcterms:modified xsi:type="dcterms:W3CDTF">2008-09-17T10:27:56Z</dcterms:modified>
  <cp:revision>5</cp:revision>
  <dc:subject/>
  <dc:title>JURNAL PENUTUP</dc:title>
</cp:coreProperties>
</file>