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arrow.wav" ContentType="audio/x-wav"/>
  <Override PartName="/ppt/media/applause.wav" ContentType="audio/x-wav"/>
  <Override PartName="/ppt/media/drumroll.wav" ContentType="audio/x-wav"/>
  <Override PartName="/ppt/media/image1.png" ContentType="image/png"/>
  <Override PartName="/ppt/media/carbrake.wav" ContentType="audio/x-wav"/>
  <Override PartName="/ppt/media/camera.wav" ContentType="audio/x-wav"/>
  <Override PartName="/ppt/media/push.wav" ContentType="audio/x-wav"/>
  <Override PartName="/ppt/media/chimes.wav" ContentType="audio/x-wav"/>
  <Override PartName="/ppt/media/whoosh.wav" ContentType="audio/x-wav"/>
  <Override PartName="/ppt/media/image2.wmf" ContentType="image/x-wmf"/>
  <Override PartName="/ppt/media/glass.wav" ContentType="audio/x-wav"/>
  <Override PartName="/ppt/media/driveb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A16-84B1-4EFA-AC08-71F0840A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503-12E6-450E-910A-5AE2583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453-290E-4740-8EB7-9E5382EF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9C5-A6BF-4E5C-B464-5BE71F2B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AFDA-CB4F-4B67-A9F3-663887EF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897-84F0-4487-A409-191E2F25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E696-3897-43C5-811F-D6795658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632-E113-4077-B266-50D73BB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4B5-054E-4C8D-BBD5-717A9AB6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9C8F-DA3A-46D5-9819-EE150B8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60E-4193-4178-A45F-A3F26D3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D21-B29B-4E58-A7D2-ACA5FA2D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83F-75C8-4AF9-A709-DCFE9E9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00BE-E4A0-4CE1-A984-3445958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EAA5-67C0-4862-93CB-C86CB8A2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A81B-59F4-48A0-8E73-DF67AA71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A808-AB5A-42D3-994D-0AB59364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AB2F-C382-4DC1-90EF-212508C5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1D91-57D1-41B2-879C-8780487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481E-4CE5-40A7-AD97-B8AEC2A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32C0-20A9-48C3-869C-F9A6167B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F482-BFAE-4053-9A72-827F0CB3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24E-0236-44B3-A25A-D00C8B6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0CE5-A8EE-4390-8FC0-09DEEE60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D1B4-FA11-482B-A36E-CD7C562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49B2-7E4B-4A30-B3AE-D60753C3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B04A-1542-4F8C-8C85-E9234B2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2C4F-2809-4250-9E36-279C7981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2B4E-B843-410D-A750-AF1ABE12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602F-72CD-4FAC-85D1-64428ACE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1692-EC16-4149-8E78-B0932262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F3FF2-1EE7-4BC9-9252-E703BC3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3DAF-1B9A-4A96-AB57-A707355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DFE-99F5-4DC1-83E2-D246CB8A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D0AD-B69B-468A-937B-A5A7EE13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2D9A-F063-4FD8-97DC-F8F87F4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6EF9-456A-4D53-9E54-4D78FFEC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131E-2417-4AC0-AD9F-80DF13B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EC73-C7C6-4E31-B51C-6E166F4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AC1CC-F58E-480A-BB84-E955476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E5DC-1642-450A-8FD1-7EDB37E2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30CE-90DA-4152-951A-8CBCE87D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7809-48E8-4FA5-B032-C94BF71F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5C9-1C22-46A7-95EA-EA35398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7C0-678F-4961-B4CF-E3C7B59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561-CD4A-4DE5-B920-E456E52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BD6-5E30-47B4-9B20-CB205CC9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ED1-296F-4EC5-A44A-5D8532E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168C-7A57-4477-A29E-77EF3A63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D01-3903-4321-9ED9-3865D087F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4C3E-E4F9-43D8-AF8E-1E39776CB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1"/>
          </p:nvPr>
        </p:nvSpPr>
        <p:spPr>
          <a:xfrm>
            <a:off x="3276360" y="57150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009-67FB-45A5-AC35-3E3DED47B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pu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4.xml"/><Relationship Id="rId20" Type="http://schemas.openxmlformats.org/officeDocument/2006/relationships/slide" Target="slide4.xml"/><Relationship Id="rId2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Comic Sans MS"/>
              </a:rPr>
              <a:t>HARGA POKOK PENJUALA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2209680" y="3352680"/>
            <a:ext cx="5791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43496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 WACHID, S.P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143496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 NEGERI 1 MATARAM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143496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SA TENGGARA BAR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6" name="Group 15"/>
          <p:cNvGrpSpPr/>
          <p:nvPr/>
        </p:nvGrpSpPr>
        <p:grpSpPr>
          <a:xfrm>
            <a:off x="228600" y="3276720"/>
            <a:ext cx="1447920" cy="1828800"/>
            <a:chOff x="228600" y="3276720"/>
            <a:chExt cx="1447920" cy="1828800"/>
          </a:xfrm>
        </p:grpSpPr>
        <p:sp>
          <p:nvSpPr>
            <p:cNvPr id="377" name="Oval 16"/>
            <p:cNvSpPr/>
            <p:nvPr/>
          </p:nvSpPr>
          <p:spPr>
            <a:xfrm>
              <a:off x="228600" y="3276720"/>
              <a:ext cx="1447920" cy="18288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 flipH="1">
              <a:off x="488160" y="4244400"/>
              <a:ext cx="226080" cy="4719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1064520" y="4131000"/>
              <a:ext cx="343440" cy="6602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988920" y="3994200"/>
              <a:ext cx="469800" cy="8650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20"/>
            <p:cNvSpPr/>
            <p:nvPr/>
          </p:nvSpPr>
          <p:spPr>
            <a:xfrm flipH="1">
              <a:off x="396360" y="3994200"/>
              <a:ext cx="469800" cy="8650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21"/>
            <p:cNvSpPr/>
            <p:nvPr/>
          </p:nvSpPr>
          <p:spPr>
            <a:xfrm flipH="1">
              <a:off x="442440" y="4131000"/>
              <a:ext cx="343440" cy="6602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22"/>
            <p:cNvSpPr/>
            <p:nvPr/>
          </p:nvSpPr>
          <p:spPr>
            <a:xfrm>
              <a:off x="1140120" y="4244400"/>
              <a:ext cx="226080" cy="4719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23"/>
            <p:cNvSpPr/>
            <p:nvPr/>
          </p:nvSpPr>
          <p:spPr>
            <a:xfrm>
              <a:off x="897840" y="3834360"/>
              <a:ext cx="60120" cy="1116000"/>
            </a:xfrm>
            <a:prstGeom prst="pie">
              <a:avLst/>
            </a:prstGeom>
            <a:solidFill>
              <a:srgbClr val="a757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24"/>
            <p:cNvSpPr/>
            <p:nvPr/>
          </p:nvSpPr>
          <p:spPr>
            <a:xfrm>
              <a:off x="745560" y="3493080"/>
              <a:ext cx="379440" cy="478440"/>
            </a:xfrm>
            <a:prstGeom prst="pie">
              <a:avLst/>
            </a:prstGeom>
            <a:solidFill>
              <a:srgbClr val="f4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6" name="AutoShape 25">
            <a:hlinkClick r:id="" action="ppaction://hlinkshowjump?jump=nextslide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dbbd71"/>
                </a:solidFill>
                <a:latin typeface="Comic Sans MS"/>
              </a:rPr>
              <a:t>BAGAN </a:t>
            </a:r>
            <a:r>
              <a:rPr b="0" lang="en-US" sz="3600" spc="-1" strike="noStrike">
                <a:solidFill>
                  <a:srgbClr val="dbbd71"/>
                </a:solidFill>
                <a:latin typeface="Comic Sans MS"/>
              </a:rPr>
              <a:t>HARGA POKOK PENJUALA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57200" y="16765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0" y="1143000"/>
            <a:ext cx="9144000" cy="68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dagangan awal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Rp.  …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…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ban angkut pembelian                     Rp. ……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------------- +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……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mbelian        = Rp. …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ongan pembelian 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mbelian bersih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 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ang tersedia untuk dijual                                   Rp.  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dagangan akhir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………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ga pokok penjualan                                          Rp. ………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Comic Sans MS"/>
              </a:rPr>
              <a:t>Contoh soal tentang cara menghitung HP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"Mitra Sejati"memiliki data akun sb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dagang (awal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4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12.0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ban angkut 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   500.000,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ongan 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   150.000,00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mbelia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   8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akhir barang dag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5.4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dasarkan data di atas, hitunglah besarnya harga poko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juala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20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8"/>
          <p:cNvSpPr/>
          <p:nvPr/>
        </p:nvSpPr>
        <p:spPr>
          <a:xfrm>
            <a:off x="0" y="304920"/>
            <a:ext cx="9144000" cy="11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unci jawaban dengan menggunakan rumus HP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mbelian bersih = Pembelian + Beban angkut pemb.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retur pemb. + potongan pemb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mbelian bersih = Rp.12.000.000,00 + Rp.500.00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(Rp. 800.000,00+Rp. 150.000,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Rp. 11.550.00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PP = Persediaan awal + Pembelian bersih – Persedi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khir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PP = Rp. 4.500.000,00 + Rp. 11.550.000,00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p. 5.400.000,00 = Rp. 10.650.00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5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unci jawaban dengan menggunakan bagan HP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ediaan barang dagangan awal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Rp. 4.5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lian                                   Rp.12.0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ban angkut pembelian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     500.000,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p.12.5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 pembelian   =Rp.8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ongan pemb.   =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150.000,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    950.000,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lian bersih  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11.550.000,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rang tersedia untuk dijual                                  Rp.16.050.000,00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ediaan barang dagangan akhir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  5.400.000,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rga pokok penjualan                                         Rp.10.65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==========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00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3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39840" indent="-339840">
              <a:buClr>
                <a:srgbClr val="dbbd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PD “Prima” pada akhir th. 2005 mempunyai data sbb. : Pembelian sebesar Rp 15.500.000,00, retur pembelian Rp.1.500.000,00, potongan pembelian Rp. 1.000,000,00, bila beban angkut sebesar Rp. 500.000,00, maka besarnya pembelian bersih adalah . …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AutoShape 5">
            <a:hlinkClick r:id="rId1" action="ppaction://hlinksldjump"/>
          </p:cNvPr>
          <p:cNvSpPr/>
          <p:nvPr/>
        </p:nvSpPr>
        <p:spPr>
          <a:xfrm>
            <a:off x="9144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AutoShape 7">
            <a:hlinkClick r:id="rId2" action="ppaction://hlinksldjump"/>
          </p:cNvPr>
          <p:cNvSpPr/>
          <p:nvPr/>
        </p:nvSpPr>
        <p:spPr>
          <a:xfrm>
            <a:off x="91440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AutoShape 8">
            <a:hlinkClick r:id="rId3" action="ppaction://hlinksldjump"/>
          </p:cNvPr>
          <p:cNvSpPr/>
          <p:nvPr/>
        </p:nvSpPr>
        <p:spPr>
          <a:xfrm>
            <a:off x="9144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AutoShape 10">
            <a:hlinkClick r:id="rId4" action="ppaction://hlinksldjump"/>
          </p:cNvPr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1600200" y="2971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5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AutoShape 12">
            <a:hlinkClick r:id="rId5" action="ppaction://hlinksldjump"/>
          </p:cNvPr>
          <p:cNvSpPr/>
          <p:nvPr/>
        </p:nvSpPr>
        <p:spPr>
          <a:xfrm>
            <a:off x="91440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1600200" y="3733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6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1600200" y="45720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7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1600200" y="5257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8.0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AutoShape 4">
            <a:hlinkClick r:id="rId1" action="ppaction://hlinksldjump"/>
          </p:cNvPr>
          <p:cNvSpPr/>
          <p:nvPr/>
        </p:nvSpPr>
        <p:spPr>
          <a:xfrm>
            <a:off x="762120" y="5029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Soal Berikut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8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7">
            <a:hlinkClick r:id="rId1" action="ppaction://hlinksldjump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1800360" y="21337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ban angkut pembel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10">
            <a:hlinkClick r:id="rId1" action="ppaction://hlinksldjump"/>
          </p:cNvPr>
          <p:cNvSpPr/>
          <p:nvPr/>
        </p:nvSpPr>
        <p:spPr>
          <a:xfrm>
            <a:off x="111456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11">
            <a:hlinkClick r:id="rId2" action="ppaction://hlinksldjump"/>
          </p:cNvPr>
          <p:cNvSpPr/>
          <p:nvPr/>
        </p:nvSpPr>
        <p:spPr>
          <a:xfrm>
            <a:off x="111456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AutoShape 12">
            <a:hlinkClick r:id="rId3" action="ppaction://hlinksldjump"/>
          </p:cNvPr>
          <p:cNvSpPr/>
          <p:nvPr/>
        </p:nvSpPr>
        <p:spPr>
          <a:xfrm>
            <a:off x="111456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AutoShape 13">
            <a:hlinkClick r:id="rId4" action="ppaction://hlinksldjump"/>
          </p:cNvPr>
          <p:cNvSpPr/>
          <p:nvPr/>
        </p:nvSpPr>
        <p:spPr>
          <a:xfrm>
            <a:off x="111456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AutoShape 15">
            <a:hlinkClick r:id="rId5" action="ppaction://hlinksldjump"/>
          </p:cNvPr>
          <p:cNvSpPr/>
          <p:nvPr/>
        </p:nvSpPr>
        <p:spPr>
          <a:xfrm>
            <a:off x="111456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19"/>
          <p:cNvSpPr/>
          <p:nvPr/>
        </p:nvSpPr>
        <p:spPr>
          <a:xfrm>
            <a:off x="1800360" y="29718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mbel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20"/>
          <p:cNvSpPr/>
          <p:nvPr/>
        </p:nvSpPr>
        <p:spPr>
          <a:xfrm>
            <a:off x="1800360" y="378144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njua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1800360" y="454356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1800360" y="53053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kh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461880" indent="-461880">
              <a:buClr>
                <a:srgbClr val="dbbd7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Yang bukan merupakan komponen harga pokok penjualan adalah …….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9" name="AutoShape 14">
            <a:hlinkClick r:id="rId1" action="ppaction://hlinksldjump"/>
          </p:cNvPr>
          <p:cNvSpPr/>
          <p:nvPr/>
        </p:nvSpPr>
        <p:spPr>
          <a:xfrm>
            <a:off x="762120" y="5029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Soal Berikut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17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AutoShape 13">
            <a:hlinkClick r:id="rId1" action="ppaction://hlinksldjump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76320" y="0"/>
            <a:ext cx="9143640" cy="6858000"/>
            <a:chOff x="76320" y="0"/>
            <a:chExt cx="9143640" cy="6858000"/>
          </a:xfrm>
        </p:grpSpPr>
        <p:sp>
          <p:nvSpPr>
            <p:cNvPr id="388" name="Oval 3"/>
            <p:cNvSpPr/>
            <p:nvPr/>
          </p:nvSpPr>
          <p:spPr>
            <a:xfrm>
              <a:off x="76320" y="0"/>
              <a:ext cx="3233880" cy="6858000"/>
            </a:xfrm>
            <a:prstGeom prst="ellips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4"/>
            <p:cNvSpPr/>
            <p:nvPr/>
          </p:nvSpPr>
          <p:spPr>
            <a:xfrm>
              <a:off x="1637640" y="0"/>
              <a:ext cx="7582320" cy="6858000"/>
            </a:xfrm>
            <a:prstGeom prst="rect">
              <a:avLst/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0" name="Group 6"/>
          <p:cNvGrpSpPr/>
          <p:nvPr/>
        </p:nvGrpSpPr>
        <p:grpSpPr>
          <a:xfrm>
            <a:off x="838080" y="1143000"/>
            <a:ext cx="533520" cy="533520"/>
            <a:chOff x="838080" y="1143000"/>
            <a:chExt cx="533520" cy="533520"/>
          </a:xfrm>
        </p:grpSpPr>
        <p:sp>
          <p:nvSpPr>
            <p:cNvPr id="391" name="Oval 7"/>
            <p:cNvSpPr/>
            <p:nvPr/>
          </p:nvSpPr>
          <p:spPr>
            <a:xfrm>
              <a:off x="838080" y="114300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Oval 8">
              <a:hlinkClick r:id="rId1" action="ppaction://hlinksldjump"/>
            </p:cNvPr>
            <p:cNvSpPr/>
            <p:nvPr/>
          </p:nvSpPr>
          <p:spPr>
            <a:xfrm>
              <a:off x="948240" y="123804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3" name="Text Box 9">
            <a:hlinkClick r:id="rId2" action="ppaction://hlinksldjump"/>
          </p:cNvPr>
          <p:cNvSpPr/>
          <p:nvPr/>
        </p:nvSpPr>
        <p:spPr>
          <a:xfrm>
            <a:off x="1600200" y="1143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 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, KD, dan Indik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838080" y="2895480"/>
            <a:ext cx="2895840" cy="533520"/>
            <a:chOff x="838080" y="2895480"/>
            <a:chExt cx="2895840" cy="533520"/>
          </a:xfrm>
        </p:grpSpPr>
        <p:grpSp>
          <p:nvGrpSpPr>
            <p:cNvPr id="395" name="Group 11"/>
            <p:cNvGrpSpPr/>
            <p:nvPr/>
          </p:nvGrpSpPr>
          <p:grpSpPr>
            <a:xfrm>
              <a:off x="838080" y="2895480"/>
              <a:ext cx="533520" cy="533520"/>
              <a:chOff x="838080" y="2895480"/>
              <a:chExt cx="533520" cy="533520"/>
            </a:xfrm>
          </p:grpSpPr>
          <p:sp>
            <p:nvSpPr>
              <p:cNvPr id="396" name="Oval 12"/>
              <p:cNvSpPr/>
              <p:nvPr/>
            </p:nvSpPr>
            <p:spPr>
              <a:xfrm>
                <a:off x="838080" y="289548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3">
                <a:hlinkClick r:id="rId3" action="ppaction://hlinksldjump"/>
              </p:cNvPr>
              <p:cNvSpPr/>
              <p:nvPr/>
            </p:nvSpPr>
            <p:spPr>
              <a:xfrm>
                <a:off x="948240" y="299052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8" name="Text Box 14">
              <a:hlinkClick r:id="rId4" action="ppaction://hlinksldjump"/>
            </p:cNvPr>
            <p:cNvSpPr/>
            <p:nvPr/>
          </p:nvSpPr>
          <p:spPr>
            <a:xfrm>
              <a:off x="1600200" y="28954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nfaat</a:t>
              </a:r>
              <a:r>
                <a:rPr b="1" lang="id-ID" sz="2400" spc="-1" strike="noStrike">
                  <a:solidFill>
                    <a:srgbClr val="ffffff"/>
                  </a:solidFill>
                  <a:latin typeface="Times New Roman"/>
                </a:rPr>
                <a:t> HPP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Group 16"/>
          <p:cNvGrpSpPr/>
          <p:nvPr/>
        </p:nvGrpSpPr>
        <p:grpSpPr>
          <a:xfrm>
            <a:off x="838080" y="3471840"/>
            <a:ext cx="533520" cy="533520"/>
            <a:chOff x="838080" y="3471840"/>
            <a:chExt cx="533520" cy="533520"/>
          </a:xfrm>
        </p:grpSpPr>
        <p:sp>
          <p:nvSpPr>
            <p:cNvPr id="400" name="Oval 17"/>
            <p:cNvSpPr/>
            <p:nvPr/>
          </p:nvSpPr>
          <p:spPr>
            <a:xfrm>
              <a:off x="838080" y="34718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8">
              <a:hlinkClick r:id="rId5" action="ppaction://hlinksldjump"/>
            </p:cNvPr>
            <p:cNvSpPr/>
            <p:nvPr/>
          </p:nvSpPr>
          <p:spPr>
            <a:xfrm>
              <a:off x="948240" y="356688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2" name="Text Box 19">
            <a:hlinkClick r:id="rId6" action="ppaction://hlinksldjump"/>
          </p:cNvPr>
          <p:cNvSpPr/>
          <p:nvPr/>
        </p:nvSpPr>
        <p:spPr>
          <a:xfrm>
            <a:off x="1600200" y="34718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omponen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 H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3" name="Group 21"/>
          <p:cNvGrpSpPr/>
          <p:nvPr/>
        </p:nvGrpSpPr>
        <p:grpSpPr>
          <a:xfrm>
            <a:off x="838080" y="4067280"/>
            <a:ext cx="533520" cy="533160"/>
            <a:chOff x="838080" y="4067280"/>
            <a:chExt cx="533520" cy="533160"/>
          </a:xfrm>
        </p:grpSpPr>
        <p:sp>
          <p:nvSpPr>
            <p:cNvPr id="404" name="Oval 22"/>
            <p:cNvSpPr/>
            <p:nvPr/>
          </p:nvSpPr>
          <p:spPr>
            <a:xfrm>
              <a:off x="838080" y="40672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23">
              <a:hlinkClick r:id="rId7" action="ppaction://hlinksldjump"/>
            </p:cNvPr>
            <p:cNvSpPr/>
            <p:nvPr/>
          </p:nvSpPr>
          <p:spPr>
            <a:xfrm>
              <a:off x="948240" y="4162320"/>
              <a:ext cx="312840" cy="3236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Text Box 24">
            <a:hlinkClick r:id="rId8" action="ppaction://hlinksldjump"/>
          </p:cNvPr>
          <p:cNvSpPr/>
          <p:nvPr/>
        </p:nvSpPr>
        <p:spPr>
          <a:xfrm>
            <a:off x="1600200" y="4067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mus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 Menghitung H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7" name="Group 25"/>
          <p:cNvGrpSpPr/>
          <p:nvPr/>
        </p:nvGrpSpPr>
        <p:grpSpPr>
          <a:xfrm>
            <a:off x="838080" y="5286240"/>
            <a:ext cx="2895840" cy="533520"/>
            <a:chOff x="838080" y="5286240"/>
            <a:chExt cx="2895840" cy="533520"/>
          </a:xfrm>
        </p:grpSpPr>
        <p:grpSp>
          <p:nvGrpSpPr>
            <p:cNvPr id="408" name="Group 26"/>
            <p:cNvGrpSpPr/>
            <p:nvPr/>
          </p:nvGrpSpPr>
          <p:grpSpPr>
            <a:xfrm>
              <a:off x="838080" y="5286240"/>
              <a:ext cx="533520" cy="533520"/>
              <a:chOff x="838080" y="5286240"/>
              <a:chExt cx="533520" cy="533520"/>
            </a:xfrm>
          </p:grpSpPr>
          <p:sp>
            <p:nvSpPr>
              <p:cNvPr id="409" name="Oval 27"/>
              <p:cNvSpPr/>
              <p:nvPr/>
            </p:nvSpPr>
            <p:spPr>
              <a:xfrm>
                <a:off x="838080" y="528624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Oval 28">
                <a:hlinkClick r:id="rId9" action="ppaction://hlinksldjump"/>
              </p:cNvPr>
              <p:cNvSpPr/>
              <p:nvPr/>
            </p:nvSpPr>
            <p:spPr>
              <a:xfrm>
                <a:off x="948240" y="538128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1" name="Text Box 29">
              <a:hlinkClick r:id="rId10" action="ppaction://hlinksldjump"/>
            </p:cNvPr>
            <p:cNvSpPr/>
            <p:nvPr/>
          </p:nvSpPr>
          <p:spPr>
            <a:xfrm>
              <a:off x="1600200" y="52862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ntoh</a:t>
              </a:r>
              <a:r>
                <a:rPr b="1" lang="id-ID" sz="2400" spc="-1" strike="noStrike">
                  <a:solidFill>
                    <a:srgbClr val="ffffff"/>
                  </a:solidFill>
                  <a:latin typeface="Times New Roman"/>
                </a:rPr>
                <a:t> Soa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12" name="Group 30"/>
          <p:cNvGrpSpPr/>
          <p:nvPr/>
        </p:nvGrpSpPr>
        <p:grpSpPr>
          <a:xfrm>
            <a:off x="838080" y="5867280"/>
            <a:ext cx="2895840" cy="533520"/>
            <a:chOff x="838080" y="5867280"/>
            <a:chExt cx="2895840" cy="533520"/>
          </a:xfrm>
        </p:grpSpPr>
        <p:grpSp>
          <p:nvGrpSpPr>
            <p:cNvPr id="413" name="Group 31"/>
            <p:cNvGrpSpPr/>
            <p:nvPr/>
          </p:nvGrpSpPr>
          <p:grpSpPr>
            <a:xfrm>
              <a:off x="838080" y="5867280"/>
              <a:ext cx="533520" cy="533520"/>
              <a:chOff x="838080" y="5867280"/>
              <a:chExt cx="533520" cy="533520"/>
            </a:xfrm>
          </p:grpSpPr>
          <p:sp>
            <p:nvSpPr>
              <p:cNvPr id="414" name="Oval 32"/>
              <p:cNvSpPr/>
              <p:nvPr/>
            </p:nvSpPr>
            <p:spPr>
              <a:xfrm>
                <a:off x="838080" y="586728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Oval 33">
                <a:hlinkClick r:id="rId11" action="ppaction://hlinksldjump"/>
              </p:cNvPr>
              <p:cNvSpPr/>
              <p:nvPr/>
            </p:nvSpPr>
            <p:spPr>
              <a:xfrm>
                <a:off x="948240" y="596232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6" name="Text Box 34">
              <a:hlinkClick r:id="rId12" action="ppaction://hlinksldjump"/>
            </p:cNvPr>
            <p:cNvSpPr/>
            <p:nvPr/>
          </p:nvSpPr>
          <p:spPr>
            <a:xfrm>
              <a:off x="1600200" y="5867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valuas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7" name="AutoShape 35"/>
          <p:cNvSpPr/>
          <p:nvPr/>
        </p:nvSpPr>
        <p:spPr>
          <a:xfrm>
            <a:off x="0" y="0"/>
            <a:ext cx="9144000" cy="1143000"/>
          </a:xfrm>
          <a:prstGeom prst="flowChartDocumen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WordArt 36"/>
          <p:cNvSpPr txBox="1"/>
          <p:nvPr/>
        </p:nvSpPr>
        <p:spPr>
          <a:xfrm>
            <a:off x="-61722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RGA POKOK PENJUALAN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19" name="Group 37"/>
          <p:cNvGrpSpPr/>
          <p:nvPr/>
        </p:nvGrpSpPr>
        <p:grpSpPr>
          <a:xfrm>
            <a:off x="838080" y="2295360"/>
            <a:ext cx="2895840" cy="533520"/>
            <a:chOff x="838080" y="2295360"/>
            <a:chExt cx="2895840" cy="533520"/>
          </a:xfrm>
        </p:grpSpPr>
        <p:grpSp>
          <p:nvGrpSpPr>
            <p:cNvPr id="420" name="Group 38"/>
            <p:cNvGrpSpPr/>
            <p:nvPr/>
          </p:nvGrpSpPr>
          <p:grpSpPr>
            <a:xfrm>
              <a:off x="838080" y="2295360"/>
              <a:ext cx="533520" cy="533520"/>
              <a:chOff x="838080" y="2295360"/>
              <a:chExt cx="533520" cy="533520"/>
            </a:xfrm>
          </p:grpSpPr>
          <p:sp>
            <p:nvSpPr>
              <p:cNvPr id="421" name="Oval 39"/>
              <p:cNvSpPr/>
              <p:nvPr/>
            </p:nvSpPr>
            <p:spPr>
              <a:xfrm>
                <a:off x="838080" y="229536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Oval 40">
                <a:hlinkClick r:id="rId15" action="ppaction://hlinksldjump"/>
              </p:cNvPr>
              <p:cNvSpPr/>
              <p:nvPr/>
            </p:nvSpPr>
            <p:spPr>
              <a:xfrm>
                <a:off x="948240" y="239040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23" name="Text Box 41">
              <a:hlinkClick r:id="rId16" action="ppaction://hlinksldjump"/>
            </p:cNvPr>
            <p:cNvSpPr/>
            <p:nvPr/>
          </p:nvSpPr>
          <p:spPr>
            <a:xfrm>
              <a:off x="1600200" y="229536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finisi</a:t>
              </a:r>
              <a:r>
                <a:rPr b="1" lang="id-ID" sz="2400" spc="-1" strike="noStrike">
                  <a:solidFill>
                    <a:srgbClr val="ffffff"/>
                  </a:solidFill>
                  <a:latin typeface="Times New Roman"/>
                </a:rPr>
                <a:t> HPP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4" name="Group 43"/>
          <p:cNvGrpSpPr/>
          <p:nvPr/>
        </p:nvGrpSpPr>
        <p:grpSpPr>
          <a:xfrm>
            <a:off x="838080" y="4662360"/>
            <a:ext cx="533520" cy="533520"/>
            <a:chOff x="838080" y="4662360"/>
            <a:chExt cx="533520" cy="533520"/>
          </a:xfrm>
        </p:grpSpPr>
        <p:sp>
          <p:nvSpPr>
            <p:cNvPr id="425" name="Oval 44"/>
            <p:cNvSpPr/>
            <p:nvPr/>
          </p:nvSpPr>
          <p:spPr>
            <a:xfrm>
              <a:off x="838080" y="4662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Oval 45">
              <a:hlinkClick r:id="rId17" action="ppaction://hlinksldjump"/>
            </p:cNvPr>
            <p:cNvSpPr/>
            <p:nvPr/>
          </p:nvSpPr>
          <p:spPr>
            <a:xfrm>
              <a:off x="948240" y="475740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7" name="Text Box 46">
            <a:hlinkClick r:id="rId18" action="ppaction://hlinksldjump"/>
          </p:cNvPr>
          <p:cNvSpPr/>
          <p:nvPr/>
        </p:nvSpPr>
        <p:spPr>
          <a:xfrm>
            <a:off x="1600200" y="4662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Bagan Penghitungan H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8" name="Group 50"/>
          <p:cNvGrpSpPr/>
          <p:nvPr/>
        </p:nvGrpSpPr>
        <p:grpSpPr>
          <a:xfrm>
            <a:off x="838080" y="1724040"/>
            <a:ext cx="533520" cy="533520"/>
            <a:chOff x="838080" y="1724040"/>
            <a:chExt cx="533520" cy="533520"/>
          </a:xfrm>
        </p:grpSpPr>
        <p:sp>
          <p:nvSpPr>
            <p:cNvPr id="429" name="Oval 51"/>
            <p:cNvSpPr/>
            <p:nvPr/>
          </p:nvSpPr>
          <p:spPr>
            <a:xfrm>
              <a:off x="838080" y="17240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52">
              <a:hlinkClick r:id="rId19" action="ppaction://hlinksldjump"/>
            </p:cNvPr>
            <p:cNvSpPr/>
            <p:nvPr/>
          </p:nvSpPr>
          <p:spPr>
            <a:xfrm>
              <a:off x="948240" y="181908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1" name="Text Box 53">
            <a:hlinkClick r:id="rId20" action="ppaction://hlinksldjump"/>
          </p:cNvPr>
          <p:cNvSpPr/>
          <p:nvPr/>
        </p:nvSpPr>
        <p:spPr>
          <a:xfrm>
            <a:off x="1600200" y="172404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si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 HPP dalam Siklus Akuntan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1196E-007 L 0.77916 0.00278 E">
                                      <p:cBhvr>
                                        <p:cTn id="22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0" y="-608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3. Barang Tersedia Untuk Dijual (BTUD) dapat dihitung dengan jalan … . 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9144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91440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9144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AutoShape 9">
            <a:hlinkClick r:id="rId1"/>
          </p:cNvPr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AutoShape 11">
            <a:hlinkClick r:id="rId2"/>
          </p:cNvPr>
          <p:cNvSpPr/>
          <p:nvPr/>
        </p:nvSpPr>
        <p:spPr>
          <a:xfrm>
            <a:off x="91440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1752480" y="21337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 +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1752480" y="29718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 -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1752480" y="37339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khir +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Rectangle 24"/>
          <p:cNvSpPr/>
          <p:nvPr/>
        </p:nvSpPr>
        <p:spPr>
          <a:xfrm>
            <a:off x="1752480" y="44956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khir -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Rectangle 25"/>
          <p:cNvSpPr/>
          <p:nvPr/>
        </p:nvSpPr>
        <p:spPr>
          <a:xfrm>
            <a:off x="1752480" y="5257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 + Potongan Pembel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AutoShape 14">
            <a:hlinkClick r:id="rId1"/>
          </p:cNvPr>
          <p:cNvSpPr/>
          <p:nvPr/>
        </p:nvSpPr>
        <p:spPr>
          <a:xfrm>
            <a:off x="762120" y="5029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Soal Berikut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17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13">
            <a:hlinkClick r:id="rId1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4. PD “Karya Jaya“ mempunyai data berikut: persediaan barang awal = Rp. 35.000.000, pembelian bersih = Rp. 75.500.000, penjualan = Rp.   5.000.000, persediaan barang akhir,= 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Rp. 25.000.000, Berdasarkan data di atas besarnya HPP adalah . … 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9144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91440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9144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AutoShape 6">
            <a:hlinkClick r:id="rId1"/>
          </p:cNvPr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AutoShape 7">
            <a:hlinkClick r:id="rId2"/>
          </p:cNvPr>
          <p:cNvSpPr/>
          <p:nvPr/>
        </p:nvSpPr>
        <p:spPr>
          <a:xfrm>
            <a:off x="91440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1752480" y="21337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60.500.00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1752480" y="29718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70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1752480" y="37339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80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11"/>
          <p:cNvSpPr/>
          <p:nvPr/>
        </p:nvSpPr>
        <p:spPr>
          <a:xfrm>
            <a:off x="1752480" y="4495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75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12"/>
          <p:cNvSpPr/>
          <p:nvPr/>
        </p:nvSpPr>
        <p:spPr>
          <a:xfrm>
            <a:off x="1752480" y="52578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85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AutoShape 14">
            <a:hlinkClick r:id="rId1"/>
          </p:cNvPr>
          <p:cNvSpPr/>
          <p:nvPr/>
        </p:nvSpPr>
        <p:spPr>
          <a:xfrm>
            <a:off x="7086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17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13">
            <a:hlinkClick r:id="rId1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8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Comic Sans MS"/>
              </a:rPr>
              <a:t>TERIMA KASIH ATAS PERHATIAN ANDA</a:t>
            </a:r>
            <a:br>
              <a:rPr sz="4000"/>
            </a:br>
            <a:r>
              <a:rPr b="0" lang="id-ID" sz="4000" spc="-1" strike="noStrike">
                <a:solidFill>
                  <a:srgbClr val="dbbd71"/>
                </a:solidFill>
                <a:latin typeface="Comic Sans MS"/>
              </a:rPr>
              <a:t>Semoga dapat menjadi pebisnis yang sukses.. </a:t>
            </a:r>
            <a:r>
              <a:rPr b="0" lang="id-ID" sz="4000" spc="-1" strike="noStrike">
                <a:solidFill>
                  <a:srgbClr val="dbbd71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600"/>
                </a:solidFill>
                <a:latin typeface="Arial"/>
              </a:rPr>
              <a:t>STANDAR KOMPETENSI</a:t>
            </a:r>
            <a:br>
              <a:rPr sz="3600"/>
            </a:br>
            <a:r>
              <a:rPr b="0" lang="en-US" sz="3600" spc="-1" strike="noStrike">
                <a:solidFill>
                  <a:srgbClr val="4d2600"/>
                </a:solidFill>
                <a:latin typeface="Arial"/>
              </a:rPr>
              <a:t>Memahami penyusunan siklus akuntansi perusahaan dagang</a:t>
            </a:r>
            <a:br>
              <a:rPr sz="3600"/>
            </a:br>
            <a:r>
              <a:rPr b="0" lang="en-US" sz="3600" spc="-1" strike="noStrike">
                <a:solidFill>
                  <a:srgbClr val="4d2600"/>
                </a:solidFill>
                <a:latin typeface="Arial"/>
              </a:rPr>
              <a:t>(Kelas XII/ Semester 1)</a:t>
            </a:r>
            <a:r>
              <a:rPr b="0" lang="en-US" sz="4400" spc="-1" strike="noStrike">
                <a:solidFill>
                  <a:srgbClr val="4d2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OMPETENS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</a:t>
            </a:r>
            <a:r>
              <a:rPr b="0" lang="id-ID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itung harga pokok penjua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00400" y="2514240"/>
            <a:ext cx="54100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IK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efinisikan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yimpulkan fungsi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dentifikasi unsur-unsur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dentifikasi rumus untuk menghitung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Action Button: Home 4">
            <a:hlinkClick r:id="rId1" action="ppaction://hlinksldjump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POSISI HPP DALAM SIKLUS AKUNTANSI PERUSAHAAN DAGANG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57200" y="16765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Dokum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u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2819520" y="1676520"/>
            <a:ext cx="144756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Jurna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57200" y="35053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Jur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mbali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57200" y="5410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NS setel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utup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3429000" y="3124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uku B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mbant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7238880" y="16765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Nera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al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7238880" y="5410080"/>
            <a:ext cx="144792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Lapor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eua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5029200" y="5410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Jur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ut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7238880" y="297180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Aya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yesuai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5029200" y="16765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uk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7238880" y="41911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ert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er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2743200" y="5410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B setel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utup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19"/>
          <p:cNvSpPr/>
          <p:nvPr/>
        </p:nvSpPr>
        <p:spPr>
          <a:xfrm>
            <a:off x="220968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0"/>
          <p:cNvSpPr/>
          <p:nvPr/>
        </p:nvSpPr>
        <p:spPr>
          <a:xfrm>
            <a:off x="6705720" y="5638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21"/>
          <p:cNvSpPr/>
          <p:nvPr/>
        </p:nvSpPr>
        <p:spPr>
          <a:xfrm>
            <a:off x="4495680" y="56386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2209680" y="56386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24"/>
          <p:cNvSpPr/>
          <p:nvPr/>
        </p:nvSpPr>
        <p:spPr>
          <a:xfrm>
            <a:off x="449568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7924680" y="23623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27"/>
          <p:cNvSpPr/>
          <p:nvPr/>
        </p:nvSpPr>
        <p:spPr>
          <a:xfrm>
            <a:off x="7924680" y="36576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28"/>
          <p:cNvSpPr/>
          <p:nvPr/>
        </p:nvSpPr>
        <p:spPr>
          <a:xfrm>
            <a:off x="7924680" y="4876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219320" y="4572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31"/>
          <p:cNvSpPr/>
          <p:nvPr/>
        </p:nvSpPr>
        <p:spPr>
          <a:xfrm>
            <a:off x="678168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0" name="Group 38"/>
          <p:cNvGrpSpPr/>
          <p:nvPr/>
        </p:nvGrpSpPr>
        <p:grpSpPr>
          <a:xfrm>
            <a:off x="2209680" y="1981080"/>
            <a:ext cx="990720" cy="1447920"/>
            <a:chOff x="2209680" y="1981080"/>
            <a:chExt cx="990720" cy="1447920"/>
          </a:xfrm>
        </p:grpSpPr>
        <p:sp>
          <p:nvSpPr>
            <p:cNvPr id="461" name="Line 33"/>
            <p:cNvSpPr/>
            <p:nvPr/>
          </p:nvSpPr>
          <p:spPr>
            <a:xfrm>
              <a:off x="2209680" y="1981080"/>
              <a:ext cx="0" cy="1447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Line 34"/>
            <p:cNvSpPr/>
            <p:nvPr/>
          </p:nvSpPr>
          <p:spPr>
            <a:xfrm>
              <a:off x="2209680" y="34290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63" name="Group 41"/>
          <p:cNvGrpSpPr/>
          <p:nvPr/>
        </p:nvGrpSpPr>
        <p:grpSpPr>
          <a:xfrm>
            <a:off x="5130720" y="2514600"/>
            <a:ext cx="533520" cy="851040"/>
            <a:chOff x="5130720" y="2514600"/>
            <a:chExt cx="533520" cy="851040"/>
          </a:xfrm>
        </p:grpSpPr>
        <p:sp>
          <p:nvSpPr>
            <p:cNvPr id="464" name="Line 35"/>
            <p:cNvSpPr/>
            <p:nvPr/>
          </p:nvSpPr>
          <p:spPr>
            <a:xfrm>
              <a:off x="5130720" y="33656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 flipV="1">
              <a:off x="5638680" y="25146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PORAN KEUANGA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PORAN PERHITUNGAN LABA-RU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PP ADA DI POSISI INI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PORAN PERUBAHAN MOD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R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PORAN ARUS K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DEFINISI HARGA POKOK PENJUALA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uruh biaya yang dikeluarkan untuk memperoleh barang yang dijual atau harga perolehan dari barang yang dij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NFAAT HARGA POKOK PENJUALA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bagai patokan untuk menentukan harga j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ntuk mengetahui laba yang diinginkan perusahaan daga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Comic Sans MS"/>
              </a:rPr>
              <a:t>KOMPONEN HARGA POKOK PENJUALA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ediaan barang dagangan 1 j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ban angkut 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 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ongan 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ediaan barang dagangan 31 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3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3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Comic Sans MS"/>
              </a:rPr>
              <a:t>RUMUS MENGHITUNG HARGA POKOK PENJUALA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ga Pokok Penjual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edaan barang dagangan awal +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embelian bersi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ersediaan barang dagangan akh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mbelian bersih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mbelian + Beban angkut pembelian – (Retur pembelian + Potongan pembelian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3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3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3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16:47Z</dcterms:created>
  <dc:creator>DIONO</dc:creator>
  <dc:description/>
  <dc:language>en-US</dc:language>
  <cp:lastModifiedBy>SYSTEM</cp:lastModifiedBy>
  <dcterms:modified xsi:type="dcterms:W3CDTF">2009-05-23T14:03:06Z</dcterms:modified>
  <cp:revision>112</cp:revision>
  <dc:subject/>
  <dc:title>NERACA PEMBAYARAN</dc:title>
</cp:coreProperties>
</file>