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1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0ED-BADF-4E36-BE4B-64D983E7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39783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CE5-296D-4E5E-933D-52186A73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736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91B-E0FE-44F4-9860-09DC1F27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556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320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556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320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C60C-6BE9-47B6-934B-B1332648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5C67-401E-4B92-973E-9058D494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DE39-9BFD-4C75-B2A0-22A2D1A6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86BE-7F6F-44AF-AC84-B1035C93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8FCE-1278-4CC0-A5EE-6CF38D4F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4528-15E8-4BB6-8344-EA131985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3805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877A-E125-4C36-9578-38CD498C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8DAD-4E14-4BEC-889B-858FA8AD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A8B3-234F-42FB-A600-547E4E69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736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FE8C-8141-4719-865B-49ED566F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9783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296D-6FC4-4015-B46E-D3BEF616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9783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C567-DBD3-41D0-909D-9EBF8342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736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CE1B-9B4F-4C59-A5EB-4FBADFD5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556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4320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556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4320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DFB6-DA9B-438D-86E3-FF0B1883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4B46B-ED46-48A9-9864-876343FA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936B4-386C-4423-A098-93855795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2123-BB49-48FF-B182-FA931598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28450-5341-4A96-8A39-2FBEA95B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8F5A9-B126-48B7-8BB0-8B0A9C37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03E-5D0E-4462-A850-5069E52E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920" y="3805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DD1F7-7AC2-4870-A52A-10408B78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44792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CFF8E-E6D7-49B7-A5C7-36BCA284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736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69414-29BF-49D4-ABCB-E87C62AF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47920" y="39783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13A11-F0D0-4F5C-BFFB-A9D665FC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447920" y="39783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3E856-7D89-43BB-9C74-E47A9C7D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44792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736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B5048-189B-4CE0-9CC9-17489CB7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556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43200" y="18288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44792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9556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43200" y="3978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AF2F1-0722-483C-82B4-EE92FC4B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323-1BD2-4784-BA79-E08D5C44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126-004A-4EB7-AD19-B4F4836B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3805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88E-F5AD-43DF-ADE3-48D82321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433D-AC5E-4688-ACC5-5A3701DA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7360" y="397836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57F-78CC-4322-A3C1-9E263871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7360" y="18288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397836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C79-CA7C-4044-814B-EB9C2220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5C6F-4A51-4EB2-B916-1A7BC3925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943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8047-3C99-44A0-B403-49381FD12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47A4-7531-481B-8EE5-7D65FF4F2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" Target="slide6.xml"/><Relationship Id="rId4" Type="http://schemas.openxmlformats.org/officeDocument/2006/relationships/image" Target="../media/image5.png"/><Relationship Id="rId5" Type="http://schemas.openxmlformats.org/officeDocument/2006/relationships/slide" Target=""/><Relationship Id="rId6" Type="http://schemas.openxmlformats.org/officeDocument/2006/relationships/image" Target="../media/image6.png"/><Relationship Id="rId7" Type="http://schemas.openxmlformats.org/officeDocument/2006/relationships/slide" Target="slide4.xml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5"/>
          <p:cNvSpPr txBox="1"/>
          <p:nvPr/>
        </p:nvSpPr>
        <p:spPr>
          <a:xfrm>
            <a:off x="2590920" y="914400"/>
            <a:ext cx="5257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cfefd"/>
                  </a:solidFill>
                  <a:miter/>
                </a:ln>
                <a:gradFill rotWithShape="0">
                  <a:gsLst>
                    <a:gs pos="0">
                      <a:srgbClr val="82ffcc"/>
                    </a:gs>
                    <a:gs pos="100000">
                      <a:srgbClr val="00956f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Kewirausahaan</a:t>
            </a:r>
            <a:endParaRPr b="1" lang="en-US" sz="1800" spc="1" strike="noStrike">
              <a:ln w="17640">
                <a:solidFill>
                  <a:srgbClr val="fcfefd"/>
                </a:solidFill>
                <a:miter/>
              </a:ln>
              <a:gradFill rotWithShape="0">
                <a:gsLst>
                  <a:gs pos="0">
                    <a:srgbClr val="82ffcc"/>
                  </a:gs>
                  <a:gs pos="100000">
                    <a:srgbClr val="00956f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5334120" y="1905120"/>
            <a:ext cx="2371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7640">
                  <a:solidFill>
                    <a:srgbClr val="fcfefd"/>
                  </a:solidFill>
                  <a:miter/>
                </a:ln>
                <a:gradFill rotWithShape="0">
                  <a:gsLst>
                    <a:gs pos="0">
                      <a:srgbClr val="82ffcc"/>
                    </a:gs>
                    <a:gs pos="100000">
                      <a:srgbClr val="00956f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Kelas XI semester 1</a:t>
            </a:r>
            <a:endParaRPr b="1" lang="en-US" sz="2400" spc="1" strike="noStrike">
              <a:ln w="17640">
                <a:solidFill>
                  <a:srgbClr val="fcfefd"/>
                </a:solidFill>
                <a:miter/>
              </a:ln>
              <a:gradFill rotWithShape="0">
                <a:gsLst>
                  <a:gs pos="0">
                    <a:srgbClr val="82ffcc"/>
                  </a:gs>
                  <a:gs pos="100000">
                    <a:srgbClr val="00956f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WordArt 9" descr=""/>
          <p:cNvPicPr/>
          <p:nvPr/>
        </p:nvPicPr>
        <p:blipFill>
          <a:blip r:embed="rId1"/>
          <a:stretch/>
        </p:blipFill>
        <p:spPr>
          <a:xfrm>
            <a:off x="4395960" y="3602160"/>
            <a:ext cx="3327120" cy="144612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12">
            <a:hlinkClick r:id="" action="ppaction://hlinkshowjump?jump=nextslide"/>
          </p:cNvPr>
          <p:cNvSpPr/>
          <p:nvPr/>
        </p:nvSpPr>
        <p:spPr>
          <a:xfrm>
            <a:off x="83818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imes New Roman"/>
              </a:rPr>
              <a:t>Profil Wirausahawan Suk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ngenali, menangkap, dan menciptakan peluang usaha yang ada di sekitarny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cara optim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anfaatkan sumberdaya lokal (bahan, tenaga kerja, modal, pasar dan teknolog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nciptakan lapangan kerja dan meningkatkan kesejahteraan masyarak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buka jaringan usaha baru dan kemitraan usa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nyediakan berbagai kebutuhan masyarakat dengan kualitas standart dan harga terjangk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bilisasi perekonomian masyarakat di sekitarn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berikan kontribusi nyata pada pembangunan daera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punyai kepekaan sosial yang tingg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ngembangkan usaha secara sehat, santun, profesional dan mandi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">
            <a:hlinkClick r:id="" action="ppaction://hlinkshowjump?jump=nextslide"/>
          </p:cNvPr>
          <p:cNvSpPr/>
          <p:nvPr/>
        </p:nvSpPr>
        <p:spPr>
          <a:xfrm>
            <a:off x="83818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7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500"/>
                            </p:stCondLst>
                            <p:childTnLst>
                              <p:par>
                                <p:cTn id="2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500"/>
                            </p:stCondLst>
                            <p:childTnLst>
                              <p:par>
                                <p:cTn id="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500"/>
                            </p:stCondLst>
                            <p:childTnLst>
                              <p:par>
                                <p:cTn id="3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50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imes New Roman"/>
              </a:rPr>
              <a:t>Contoh Wirausahawan Suk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 Amerika Serikat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P. Morgan (pendiri lembaga keuanga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es B. Duke (pendiri perusahaan tembakau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rew Carnegiie (pendiri perusahaan baj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D. Rockfeller (pendiri perusahaan minyak dan gas bum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son de Castro (pendiri perusahaan data elektronik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Wang (pendiri perusahaan komputer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 Jepang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nda Siochiro (pendiri perusaha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da mot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io Morita (pendiri perusahaan elektronik Son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oru Iue (pendiri elektronik Sany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ashi Mitarai (pendiri perusahaan camera Can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>
            <a:hlinkClick r:id="" action="ppaction://hlinkshowjump?jump=nextslide"/>
          </p:cNvPr>
          <p:cNvSpPr/>
          <p:nvPr/>
        </p:nvSpPr>
        <p:spPr>
          <a:xfrm>
            <a:off x="83818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AutoShape 5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8000"/>
                            </p:stCondLst>
                            <p:childTnLst>
                              <p:par>
                                <p:cTn id="3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9000"/>
                            </p:stCondLst>
                            <p:childTnLst>
                              <p:par>
                                <p:cTn id="3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3716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 Indonesi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b Sadino (pendiri perusahaan bisnis ecera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po Wardoyo (pendiri usaha ayam bakar Wong Sol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dy Mudjianto (pendiri perusahaan ka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tha Tilaar (pendiri Martha Tilaar grou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wan Hidayat (generasi ketiga perusahaan jamu Sido Muncu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nama Sinambela (pendiri perusahaan jasa konstruks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. Joger (pendiri perusahaan T-Shir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ti Semito (pendiri perusahaan rokok krete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yo Wonowidjoyo (pendiri perusahaan rokok Gudang Gara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">
            <a:hlinkClick r:id="" action="ppaction://hlinkshowjump?jump=nextslide"/>
          </p:cNvPr>
          <p:cNvSpPr/>
          <p:nvPr/>
        </p:nvSpPr>
        <p:spPr>
          <a:xfrm>
            <a:off x="83818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AutoShape 5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0"/>
                            </p:stCondLst>
                            <p:childTnLst>
                              <p:par>
                                <p:cTn id="4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9000"/>
                            </p:stCondLst>
                            <p:childTnLst>
                              <p:par>
                                <p:cTn id="4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</a:rPr>
              <a:t>Bidang usaha menurut kegiatanny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) Ekstrak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) Indus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) Perdagan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) J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cara hukum bidang usaha terbagi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n 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hands_holding_world_hg_wht"/>
          <p:cNvPicPr/>
          <p:nvPr/>
        </p:nvPicPr>
        <p:blipFill>
          <a:blip r:embed="rId1"/>
          <a:stretch/>
        </p:blipFill>
        <p:spPr>
          <a:xfrm>
            <a:off x="5867280" y="190512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5"/>
          <p:cNvSpPr/>
          <p:nvPr/>
        </p:nvSpPr>
        <p:spPr>
          <a:xfrm>
            <a:off x="777240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AutoShape 7">
            <a:hlinkClick r:id="" action="ppaction://hlinkshowjump?jump=previousslide"/>
          </p:cNvPr>
          <p:cNvSpPr/>
          <p:nvPr/>
        </p:nvSpPr>
        <p:spPr>
          <a:xfrm>
            <a:off x="723888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2133720" y="76320"/>
            <a:ext cx="510516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UGAS MANDIR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57200" y="1143000"/>
            <a:ext cx="8458200" cy="518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lompok 1 dan 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ilah informasi tentang seorang pengusaha sukses di sekitar tempa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nggalmu dan lakukan wawancara tentang kiat sukses pengusah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seb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lompok 3 dan 4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ilah informasi tentang seorang pengusaha yang belum berhasil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 sekitar tempat tinggalmu dan lakukan wawanca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tang penyebab kegagalan pengusaha terseb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lompok 5 dan 6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ilah informasi tentang potensi usaha di lingkungan sekitar rumahmu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ha apa sajakah yang mungkin diselenggarakan dari potensi tersebut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lompok 7 dan 8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atlah rencana sederhana tentang pendirian sebuah usaha yan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ngkin dilakukan di sekitar lingkungan rumahm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7772400" y="6400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AutoShape 13">
            <a:hlinkClick r:id="" action="ppaction://hlinkshowjump?jump=previousslide"/>
          </p:cNvPr>
          <p:cNvSpPr/>
          <p:nvPr/>
        </p:nvSpPr>
        <p:spPr>
          <a:xfrm>
            <a:off x="7238880" y="6400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AutoShape 14">
            <a:hlinkClick r:id="" action="ppaction://hlinkshowjump?jump=nextslide"/>
          </p:cNvPr>
          <p:cNvSpPr/>
          <p:nvPr/>
        </p:nvSpPr>
        <p:spPr>
          <a:xfrm>
            <a:off x="8305920" y="6400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5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838188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838080" y="1066680"/>
          <a:ext cx="3154320" cy="47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3154320" cy="47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9"/>
          <p:cNvSpPr/>
          <p:nvPr/>
        </p:nvSpPr>
        <p:spPr>
          <a:xfrm>
            <a:off x="4495680" y="1295280"/>
            <a:ext cx="4114800" cy="1981440"/>
          </a:xfrm>
          <a:prstGeom prst="wedgeRoundRectCallout">
            <a:avLst>
              <a:gd name="adj1" fmla="val -89236"/>
              <a:gd name="adj2" fmla="val 121314"/>
              <a:gd name="adj3" fmla="val 16667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4876920" y="205740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aeafa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Gill Sans Ultra Bold Condensed"/>
              </a:rPr>
              <a:t>Selamat belajar....!!!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eaeafa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Gill Sans Ultra Bold Condensed"/>
              <a:ea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ownRibbonSharp"/>
          <p:cNvSpPr/>
          <p:nvPr/>
        </p:nvSpPr>
        <p:spPr>
          <a:xfrm>
            <a:off x="2209680" y="304920"/>
            <a:ext cx="6096240" cy="6094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NU UTA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Document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95600" y="1865160"/>
            <a:ext cx="1481040" cy="1579680"/>
          </a:xfrm>
          <a:prstGeom prst="rect">
            <a:avLst/>
          </a:prstGeom>
          <a:ln w="0">
            <a:noFill/>
          </a:ln>
        </p:spPr>
      </p:pic>
      <p:pic>
        <p:nvPicPr>
          <p:cNvPr id="129" name="Document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86080" y="4151160"/>
            <a:ext cx="1511280" cy="1579680"/>
          </a:xfrm>
          <a:prstGeom prst="rect">
            <a:avLst/>
          </a:prstGeom>
          <a:ln w="0">
            <a:noFill/>
          </a:ln>
        </p:spPr>
      </p:pic>
      <p:pic>
        <p:nvPicPr>
          <p:cNvPr id="130" name="Document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053040" y="4151160"/>
            <a:ext cx="1487520" cy="1579680"/>
          </a:xfrm>
          <a:prstGeom prst="rect">
            <a:avLst/>
          </a:prstGeom>
          <a:ln w="0">
            <a:noFill/>
          </a:ln>
        </p:spPr>
      </p:pic>
      <p:pic>
        <p:nvPicPr>
          <p:cNvPr id="131" name="Document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438800" y="1865160"/>
            <a:ext cx="1481040" cy="1579680"/>
          </a:xfrm>
          <a:prstGeom prst="rect">
            <a:avLst/>
          </a:prstGeom>
          <a:ln w="0">
            <a:noFill/>
          </a:ln>
        </p:spPr>
      </p:pic>
      <p:pic>
        <p:nvPicPr>
          <p:cNvPr id="132" name="Document" descr=""/>
          <p:cNvPicPr/>
          <p:nvPr/>
        </p:nvPicPr>
        <p:blipFill>
          <a:blip r:embed="rId9"/>
          <a:stretch/>
        </p:blipFill>
        <p:spPr>
          <a:xfrm>
            <a:off x="6950160" y="1938240"/>
            <a:ext cx="204768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STANDAR KOMPETEN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fi-FI" sz="3200" spc="-1" strike="noStrike">
                <a:solidFill>
                  <a:srgbClr val="000000"/>
                </a:solidFill>
                <a:latin typeface="Times New Roman"/>
              </a:rPr>
              <a:t>Memahami pengelolaan koperasi dan kewirausaha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8">
            <a:hlinkClick r:id="rId1" action="ppaction://hlinksldjump"/>
          </p:cNvPr>
          <p:cNvSpPr/>
          <p:nvPr/>
        </p:nvSpPr>
        <p:spPr>
          <a:xfrm>
            <a:off x="838188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KOMPETENSI DAS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Times New Roman"/>
              </a:rPr>
              <a:t>4.3  Mendeskripsikan peran dan jiwa kewirausaha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4">
            <a:hlinkClick r:id="rId1" action="ppaction://hlinksldjump"/>
          </p:cNvPr>
          <p:cNvSpPr/>
          <p:nvPr/>
        </p:nvSpPr>
        <p:spPr>
          <a:xfrm>
            <a:off x="838188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INDIK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</a:rPr>
              <a:t>Mendeskripsikan konsep wirausah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</a:rPr>
              <a:t>Mengidentifikasi peran wirausaha dalam  perekonomian nas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</a:rPr>
              <a:t>Menunjukan sektor-sektor yang dapat dimasuki wirausaha (sektor formal dan informa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</a:rPr>
              <a:t>Melakukan  penelitian sederhana terhadap keberhasilan atau kegagalan wirausaha dilingkungan setemp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</a:rPr>
              <a:t>Menetapkan alternatif kombinasi sumber daya ekonomi di lingkungan setemp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800" spc="-1" strike="noStrike">
                <a:solidFill>
                  <a:srgbClr val="000000"/>
                </a:solidFill>
                <a:latin typeface="Times New Roman"/>
              </a:rPr>
              <a:t>Menerapkan sikap dan jiwa wirausah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>
            <a:hlinkClick r:id="rId1" action="ppaction://hlinksldjump"/>
          </p:cNvPr>
          <p:cNvSpPr/>
          <p:nvPr/>
        </p:nvSpPr>
        <p:spPr>
          <a:xfrm>
            <a:off x="8381880" y="6172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utoShape 5" descr=""/>
          <p:cNvPicPr/>
          <p:nvPr/>
        </p:nvPicPr>
        <p:blipFill>
          <a:blip r:embed="rId1"/>
          <a:stretch/>
        </p:blipFill>
        <p:spPr>
          <a:xfrm>
            <a:off x="-182520" y="-19080"/>
            <a:ext cx="2639880" cy="8780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1752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DEFINISI KEWIRAUSAHAAN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Kewirausaha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cara etimolog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rasal dari kata “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wir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 dan “</a:t>
            </a:r>
            <a:r>
              <a:rPr b="0" i="1" lang="en-GB" sz="2800" spc="-1" strike="noStrike">
                <a:solidFill>
                  <a:srgbClr val="3333cc"/>
                </a:solidFill>
                <a:latin typeface="Times New Roman"/>
              </a:rPr>
              <a:t>usah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”, kata wira berarti teladan atau patut dicontoh,  sedangkan  usaha  berarti  kemauan  keras  untuk  memperoleh  manfaa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1">
            <a:hlinkClick r:id="" action="ppaction://hlinkshowjump?jump=nextslide"/>
          </p:cNvPr>
          <p:cNvSpPr/>
          <p:nvPr/>
        </p:nvSpPr>
        <p:spPr>
          <a:xfrm>
            <a:off x="83818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12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engertian L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a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prenuer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nurut kamus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ster’s Ninth New Collegiate Dictionary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asal dari bahasa Perancis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pendre-to undertak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ar katanya berasal dari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pri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isini muncul kata sifat menjadi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prenuership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ng berarti 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atu pekerjaan atau tindakan yang sulit, rumit,   komplikatif atau beresi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us siap menghadapi dan melawan tantangan dengan keberanian untuk beraksi atau berinisia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8">
            <a:hlinkClick r:id="" action="ppaction://hlinkshowjump?jump=nextslide"/>
          </p:cNvPr>
          <p:cNvSpPr/>
          <p:nvPr/>
        </p:nvSpPr>
        <p:spPr>
          <a:xfrm>
            <a:off x="83818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9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imes New Roman"/>
              </a:rPr>
              <a:t>Ciri Wirausa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rcaya di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erorientasi tugas dan has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engambil resik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erjiwa pemimp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isi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erorientasi ke masa dep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>
            <a:hlinkClick r:id="" action="ppaction://hlinkshowjump?jump=nextslide"/>
          </p:cNvPr>
          <p:cNvSpPr/>
          <p:nvPr/>
        </p:nvSpPr>
        <p:spPr>
          <a:xfrm>
            <a:off x="83818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AutoShape 5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50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imes New Roman"/>
              </a:rPr>
              <a:t>Watak Wirausa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akin, tidak tergantung, individual, optim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rorientasi pada prestasi dan laba, tekun dan sabar, bertekat bekerja keras, mempunyai dorongan yang kuat, enerjik, dan inisiat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mpu dan siap menghadapi resiko, serta suka pada tantang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rtingkah laku sebagai pemimpin, dapat bergaul dengan orang lain, siap menerima kritik dn saran-sar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ovatif, kreatif, fleksibel, punya banyak sumber inspirai, serba bisa dan megetahui banyak h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la pikirnya selalu ke depan dengan perspektif taj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>
            <a:hlinkClick r:id="" action="ppaction://hlinkshowjump?jump=nextslide"/>
          </p:cNvPr>
          <p:cNvSpPr/>
          <p:nvPr/>
        </p:nvSpPr>
        <p:spPr>
          <a:xfrm>
            <a:off x="83818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AutoShape 5">
            <a:hlinkClick r:id="" action="ppaction://hlinkshowjump?jump=previousslide"/>
          </p:cNvPr>
          <p:cNvSpPr/>
          <p:nvPr/>
        </p:nvSpPr>
        <p:spPr>
          <a:xfrm>
            <a:off x="7924680" y="61722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0"/>
                            </p:stCondLst>
                            <p:childTnLst>
                              <p:par>
                                <p:cTn id="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6:54:55Z</dcterms:created>
  <dc:creator>User</dc:creator>
  <dc:description/>
  <dc:language>en-US</dc:language>
  <cp:lastModifiedBy>Q-HP</cp:lastModifiedBy>
  <dcterms:modified xsi:type="dcterms:W3CDTF">2008-09-18T21:58:05Z</dcterms:modified>
  <cp:revision>67</cp:revision>
  <dc:subject/>
  <dc:title>Slide 1</dc:title>
</cp:coreProperties>
</file>