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1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A3B-9643-45AF-BD55-B2BBC148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39783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B2A-2330-4EA0-8579-3AF32917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736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149-4A6D-4AE9-9043-6B27F639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556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320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556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320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832-B75D-4CBE-8668-7A771E41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D896-EFF3-4CCF-9C6C-575CC0ED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629E-C2A6-4BAB-AF69-D3C38630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16A4-560B-47E3-A229-48AEC386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3884-F5F6-4AE3-8AFA-BE01AFDC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74A9-2247-47F1-85EE-32DF61BA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3805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4D8C-A6DF-461B-9D15-21D43525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69DD-0194-41D6-B930-515EE534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201-E1B7-4E8B-967B-39BB39EE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736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3272-F243-4738-ABD6-4935EDF1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9783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12AC-2C6B-4758-9E38-67B9C576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9783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294E-E069-41D3-9657-9B0D8BC9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736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B0B5-80CA-4B76-87C3-B6CE0352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556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4320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556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4320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0F09-1C05-44F7-B19E-FEA7FD4D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8CD47-A0C7-4426-A000-B1DE63F6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5D2C-AC11-4E78-92D2-27A22460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123C0-8F76-422B-9152-3FDBBE36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F07F2-B10B-46AA-A873-EB3BCAA8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CEEF4-4E83-4333-BF5F-89A32FA6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832-7F2B-46E9-942F-E10336D0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920" y="3805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8E255-F558-4294-8F60-93E87D15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44792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5A0C8-D582-4870-9931-4F1A6FD5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736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A92C6-02ED-4660-A1E1-103932DF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47920" y="39783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E8D88-3FB5-4A81-AA61-9CB09377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447920" y="39783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DCF1B-A845-4976-A3D9-AE3FA99E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44792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736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2C187-772B-497B-9415-E35A2F8E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556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4320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44792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9556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4320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6C447-8DA0-4051-99DB-920A8CD8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0F96-0BE1-4A22-B71D-E44DC837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4F09-FD26-4FCB-91D2-E834F5F5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3805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9A32-A845-4C90-83CA-41FA7379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26E7-277A-4B85-8425-2785F219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736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EDA-1A5D-4A70-9711-34F73FFE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39783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1CE-1F83-4209-884D-1C1E10A5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28FA-61DF-4E80-ADC2-F2435B8E4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943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0C5D-132C-4FBF-9A63-D9898D630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8BFC-162B-41FA-9638-C7FD52333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" Target="slide6.xml"/><Relationship Id="rId4" Type="http://schemas.openxmlformats.org/officeDocument/2006/relationships/image" Target="../media/image5.png"/><Relationship Id="rId5" Type="http://schemas.openxmlformats.org/officeDocument/2006/relationships/slide" Target=""/><Relationship Id="rId6" Type="http://schemas.openxmlformats.org/officeDocument/2006/relationships/image" Target="../media/image6.png"/><Relationship Id="rId7" Type="http://schemas.openxmlformats.org/officeDocument/2006/relationships/slide" Target="slide4.xml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5"/>
          <p:cNvSpPr txBox="1"/>
          <p:nvPr/>
        </p:nvSpPr>
        <p:spPr>
          <a:xfrm>
            <a:off x="2590920" y="914400"/>
            <a:ext cx="5257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cfefd"/>
                  </a:solidFill>
                  <a:miter/>
                </a:ln>
                <a:gradFill rotWithShape="0">
                  <a:gsLst>
                    <a:gs pos="0">
                      <a:srgbClr val="82ffcc"/>
                    </a:gs>
                    <a:gs pos="100000">
                      <a:srgbClr val="00956f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Kewirausahaan</a:t>
            </a:r>
            <a:endParaRPr b="1" lang="en-US" sz="1800" spc="1" strike="noStrike">
              <a:ln w="17640">
                <a:solidFill>
                  <a:srgbClr val="fcfefd"/>
                </a:solidFill>
                <a:miter/>
              </a:ln>
              <a:gradFill rotWithShape="0">
                <a:gsLst>
                  <a:gs pos="0">
                    <a:srgbClr val="82ffcc"/>
                  </a:gs>
                  <a:gs pos="100000">
                    <a:srgbClr val="00956f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5334120" y="1905120"/>
            <a:ext cx="2371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7640">
                  <a:solidFill>
                    <a:srgbClr val="fcfefd"/>
                  </a:solidFill>
                  <a:miter/>
                </a:ln>
                <a:gradFill rotWithShape="0">
                  <a:gsLst>
                    <a:gs pos="0">
                      <a:srgbClr val="82ffcc"/>
                    </a:gs>
                    <a:gs pos="100000">
                      <a:srgbClr val="00956f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Kelas XI semester 1</a:t>
            </a:r>
            <a:endParaRPr b="1" lang="en-US" sz="2400" spc="1" strike="noStrike">
              <a:ln w="17640">
                <a:solidFill>
                  <a:srgbClr val="fcfefd"/>
                </a:solidFill>
                <a:miter/>
              </a:ln>
              <a:gradFill rotWithShape="0">
                <a:gsLst>
                  <a:gs pos="0">
                    <a:srgbClr val="82ffcc"/>
                  </a:gs>
                  <a:gs pos="100000">
                    <a:srgbClr val="00956f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WordArt 9" descr=""/>
          <p:cNvPicPr/>
          <p:nvPr/>
        </p:nvPicPr>
        <p:blipFill>
          <a:blip r:embed="rId1"/>
          <a:stretch/>
        </p:blipFill>
        <p:spPr>
          <a:xfrm>
            <a:off x="4395960" y="3602160"/>
            <a:ext cx="3327120" cy="14461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2">
            <a:hlinkClick r:id="" action="ppaction://hlinkshowjump?jump=nextslide"/>
          </p:cNvPr>
          <p:cNvSpPr/>
          <p:nvPr/>
        </p:nvSpPr>
        <p:spPr>
          <a:xfrm>
            <a:off x="83818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imes New Roman"/>
              </a:rPr>
              <a:t>Profil Wirausahawan Suk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ngenali, menangkap, dan menciptakan peluang usaha yang ada di sekitarny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cara opti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anfaatkan sumberdaya lokal (bahan, tenaga kerja, modal, pasar dan teknolog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nciptakan lapangan kerja dan meningkatkan kesejahteraan masyarak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buka jaringan usaha baru dan kemitraan usa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nyediakan berbagai kebutuhan masyarakat dengan kualitas standart dan harga terjangk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bilisasi perekonomian masyarakat di sekitarn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berikan kontribusi nyata pada pembangunan daer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punyai kepekaan sosial yang tingg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ngembangkan usaha secara sehat, santun, profesional dan mandi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">
            <a:hlinkClick r:id="" action="ppaction://hlinkshowjump?jump=nextslide"/>
          </p:cNvPr>
          <p:cNvSpPr/>
          <p:nvPr/>
        </p:nvSpPr>
        <p:spPr>
          <a:xfrm>
            <a:off x="83818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7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500"/>
                            </p:stCondLst>
                            <p:childTnLst>
                              <p:par>
                                <p:cTn id="2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500"/>
                            </p:stCondLst>
                            <p:childTnLst>
                              <p:par>
                                <p:cTn id="2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500"/>
                            </p:stCondLst>
                            <p:childTnLst>
                              <p:par>
                                <p:cTn id="3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50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imes New Roman"/>
              </a:rPr>
              <a:t>Contoh Wirausahawan Suk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 Amerika Serikat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P. Morgan (pendiri lembaga keuanga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es B. Duke (pendiri perusahaan tembakau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rew Carnegiie (pendiri perusahaan baj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D. Rockfeller (pendiri perusahaan minyak dan gas bum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son de Castro (pendiri perusahaan data elektronik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Wang (pendiri perusahaan kompute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 Jepang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nda Siochiro (pendiri perusaha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da mot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io Morita (pendiri perusahaan elektronik Son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oru Iue (pendiri elektronik Sany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ashi Mitarai (pendiri perusahaan camera Can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">
            <a:hlinkClick r:id="" action="ppaction://hlinkshowjump?jump=nextslide"/>
          </p:cNvPr>
          <p:cNvSpPr/>
          <p:nvPr/>
        </p:nvSpPr>
        <p:spPr>
          <a:xfrm>
            <a:off x="83818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5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9000"/>
                            </p:stCondLst>
                            <p:childTnLst>
                              <p:par>
                                <p:cTn id="3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3716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 Indonesi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b Sadino (pendiri perusahaan bisnis ecera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po Wardoyo (pendiri usaha ayam bakar Wong Sol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dy Mudjianto (pendiri perusahaan ka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tha Tilaar (pendiri Martha Tilaar grou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wan Hidayat (generasi ketiga perusahaan jamu Sido Muncu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nama Sinambela (pendiri perusahaan jasa konstruks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. Joger (pendiri perusahaan T-Shir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i Semito (pendiri perusahaan rokok krete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yo Wonowidjoyo (pendiri perusahaan rokok Gudang Gara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">
            <a:hlinkClick r:id="" action="ppaction://hlinkshowjump?jump=nextslide"/>
          </p:cNvPr>
          <p:cNvSpPr/>
          <p:nvPr/>
        </p:nvSpPr>
        <p:spPr>
          <a:xfrm>
            <a:off x="83818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AutoShape 5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9000"/>
                            </p:stCondLst>
                            <p:childTnLst>
                              <p:par>
                                <p:cTn id="4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Bidang usaha menurut kegiatanny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) Ekstrak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) Indust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) Perdagan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) J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cara hukum bidang usaha terbagi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n 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hands_holding_world_hg_wht"/>
          <p:cNvPicPr/>
          <p:nvPr/>
        </p:nvPicPr>
        <p:blipFill>
          <a:blip r:embed="rId1"/>
          <a:stretch/>
        </p:blipFill>
        <p:spPr>
          <a:xfrm>
            <a:off x="5867280" y="190512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5"/>
          <p:cNvSpPr/>
          <p:nvPr/>
        </p:nvSpPr>
        <p:spPr>
          <a:xfrm>
            <a:off x="77724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AutoShape 7">
            <a:hlinkClick r:id="" action="ppaction://hlinkshowjump?jump=previousslide"/>
          </p:cNvPr>
          <p:cNvSpPr/>
          <p:nvPr/>
        </p:nvSpPr>
        <p:spPr>
          <a:xfrm>
            <a:off x="723888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2133720" y="76320"/>
            <a:ext cx="510516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UGAS MANDIR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57200" y="1143000"/>
            <a:ext cx="8458200" cy="518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lompok 1 dan 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ilah informasi tentang seorang pengusaha sukses di sekitar tempa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nggalmu dan lakukan wawancara tentang kiat sukses pengusah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seb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lompok 3 dan 4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ilah informasi tentang seorang pengusaha yang belum berhasi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 sekitar tempat tinggalmu dan lakukan wawanca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tang penyebab kegagalan pengusaha terseb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lompok 5 dan 6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ilah informasi tentang potensi usaha di lingkungan sekitar rumahm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ha apa sajakah yang mungkin diselenggarakan dari potensi tersebut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lompok 7 dan 8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atlah rencana sederhana tentang pendirian sebuah usaha ya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ngkin dilakukan di sekitar lingkungan rumahm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7772400" y="6400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AutoShape 13">
            <a:hlinkClick r:id="" action="ppaction://hlinkshowjump?jump=previousslide"/>
          </p:cNvPr>
          <p:cNvSpPr/>
          <p:nvPr/>
        </p:nvSpPr>
        <p:spPr>
          <a:xfrm>
            <a:off x="7238880" y="6400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AutoShape 14">
            <a:hlinkClick r:id="" action="ppaction://hlinkshowjump?jump=nextslide"/>
          </p:cNvPr>
          <p:cNvSpPr/>
          <p:nvPr/>
        </p:nvSpPr>
        <p:spPr>
          <a:xfrm>
            <a:off x="8305920" y="6400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5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838188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838080" y="1066680"/>
          <a:ext cx="3154320" cy="47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3154320" cy="47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9"/>
          <p:cNvSpPr/>
          <p:nvPr/>
        </p:nvSpPr>
        <p:spPr>
          <a:xfrm>
            <a:off x="4495680" y="1295280"/>
            <a:ext cx="4114800" cy="1981440"/>
          </a:xfrm>
          <a:prstGeom prst="wedgeRoundRectCallout">
            <a:avLst>
              <a:gd name="adj1" fmla="val -89236"/>
              <a:gd name="adj2" fmla="val 121314"/>
              <a:gd name="adj3" fmla="val 16667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WordArt 11"/>
          <p:cNvSpPr txBox="1"/>
          <p:nvPr/>
        </p:nvSpPr>
        <p:spPr>
          <a:xfrm>
            <a:off x="4876920" y="205740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aeafa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Gill Sans Ultra Bold Condensed"/>
              </a:rPr>
              <a:t>Selamat belajar....!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aeafa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Gill Sans Ultra Bold Condensed"/>
              <a:ea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ownRibbonSharp"/>
          <p:cNvSpPr/>
          <p:nvPr/>
        </p:nvSpPr>
        <p:spPr>
          <a:xfrm>
            <a:off x="2209680" y="304920"/>
            <a:ext cx="6096240" cy="6094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NU UTA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Document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95600" y="1865160"/>
            <a:ext cx="1481040" cy="1579680"/>
          </a:xfrm>
          <a:prstGeom prst="rect">
            <a:avLst/>
          </a:prstGeom>
          <a:ln w="0">
            <a:noFill/>
          </a:ln>
        </p:spPr>
      </p:pic>
      <p:pic>
        <p:nvPicPr>
          <p:cNvPr id="129" name="Document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86080" y="4151160"/>
            <a:ext cx="1511280" cy="1579680"/>
          </a:xfrm>
          <a:prstGeom prst="rect">
            <a:avLst/>
          </a:prstGeom>
          <a:ln w="0">
            <a:noFill/>
          </a:ln>
        </p:spPr>
      </p:pic>
      <p:pic>
        <p:nvPicPr>
          <p:cNvPr id="130" name="Document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053040" y="4151160"/>
            <a:ext cx="1487520" cy="1579680"/>
          </a:xfrm>
          <a:prstGeom prst="rect">
            <a:avLst/>
          </a:prstGeom>
          <a:ln w="0">
            <a:noFill/>
          </a:ln>
        </p:spPr>
      </p:pic>
      <p:pic>
        <p:nvPicPr>
          <p:cNvPr id="131" name="Document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438800" y="1865160"/>
            <a:ext cx="1481040" cy="1579680"/>
          </a:xfrm>
          <a:prstGeom prst="rect">
            <a:avLst/>
          </a:prstGeom>
          <a:ln w="0">
            <a:noFill/>
          </a:ln>
        </p:spPr>
      </p:pic>
      <p:pic>
        <p:nvPicPr>
          <p:cNvPr id="132" name="Document" descr=""/>
          <p:cNvPicPr/>
          <p:nvPr/>
        </p:nvPicPr>
        <p:blipFill>
          <a:blip r:embed="rId9"/>
          <a:stretch/>
        </p:blipFill>
        <p:spPr>
          <a:xfrm>
            <a:off x="6950160" y="1938240"/>
            <a:ext cx="204768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STANDAR KOMPETEN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Memahami pengelolaan koperasi dan kewirausaha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8">
            <a:hlinkClick r:id="rId1" action="ppaction://hlinksldjump"/>
          </p:cNvPr>
          <p:cNvSpPr/>
          <p:nvPr/>
        </p:nvSpPr>
        <p:spPr>
          <a:xfrm>
            <a:off x="838188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KOMPETENSI DAS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Times New Roman"/>
              </a:rPr>
              <a:t>4.3  Mendeskripsikan peran dan jiwa kewirausaha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4">
            <a:hlinkClick r:id="rId1" action="ppaction://hlinksldjump"/>
          </p:cNvPr>
          <p:cNvSpPr/>
          <p:nvPr/>
        </p:nvSpPr>
        <p:spPr>
          <a:xfrm>
            <a:off x="838188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INDIK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Times New Roman"/>
              </a:rPr>
              <a:t>Mendeskripsikan konsep wirausah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Times New Roman"/>
              </a:rPr>
              <a:t>Mengidentifikasi peran wirausaha dalam  perekonomian nas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Times New Roman"/>
              </a:rPr>
              <a:t>Menunjukan sektor-sektor yang dapat dimasuki wirausaha (sektor formal dan informa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Times New Roman"/>
              </a:rPr>
              <a:t>Melakukan  penelitian sederhana terhadap keberhasilan atau kegagalan wirausaha dilingkungan setemp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Times New Roman"/>
              </a:rPr>
              <a:t>Menetapkan alternatif kombinasi sumber daya ekonomi di lingkungan setemp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Times New Roman"/>
              </a:rPr>
              <a:t>Menerapkan sikap dan jiwa wirausah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>
            <a:hlinkClick r:id="rId1" action="ppaction://hlinksldjump"/>
          </p:cNvPr>
          <p:cNvSpPr/>
          <p:nvPr/>
        </p:nvSpPr>
        <p:spPr>
          <a:xfrm>
            <a:off x="838188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utoShape 5" descr=""/>
          <p:cNvPicPr/>
          <p:nvPr/>
        </p:nvPicPr>
        <p:blipFill>
          <a:blip r:embed="rId1"/>
          <a:stretch/>
        </p:blipFill>
        <p:spPr>
          <a:xfrm>
            <a:off x="-182520" y="-19080"/>
            <a:ext cx="2639880" cy="8780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1752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DEFINISI KEWIRAUSAHAAN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Kewirausaha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cara etimolog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rasal dari kata “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wir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” dan “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usah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”, kata wira berarti teladan atau patut dicontoh,  sedangkan  usaha  berarti  kemauan  keras  untuk  memperoleh  manfaat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1">
            <a:hlinkClick r:id="" action="ppaction://hlinkshowjump?jump=nextslide"/>
          </p:cNvPr>
          <p:cNvSpPr/>
          <p:nvPr/>
        </p:nvSpPr>
        <p:spPr>
          <a:xfrm>
            <a:off x="83818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12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engertian L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a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prenue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urut kamus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ster’s Ninth New Collegiate Dictionary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asal dari bahasa Perancis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pendre-to undertak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ar katanya berasal dari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pri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isini muncul kata sifat menjadi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prenuership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ng berarti 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atu pekerjaan atau tindakan yang sulit, rumit,   komplikatif atau beresi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us siap menghadapi dan melawan tantangan dengan keberanian untuk beraksi atau berinisia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8">
            <a:hlinkClick r:id="" action="ppaction://hlinkshowjump?jump=nextslide"/>
          </p:cNvPr>
          <p:cNvSpPr/>
          <p:nvPr/>
        </p:nvSpPr>
        <p:spPr>
          <a:xfrm>
            <a:off x="83818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9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imes New Roman"/>
              </a:rPr>
              <a:t>Ciri Wirausa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rcaya di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erorientasi tugas dan has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ngambil resik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erjiwa pemimp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isi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erorientasi ke masa dep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>
            <a:hlinkClick r:id="" action="ppaction://hlinkshowjump?jump=nextslide"/>
          </p:cNvPr>
          <p:cNvSpPr/>
          <p:nvPr/>
        </p:nvSpPr>
        <p:spPr>
          <a:xfrm>
            <a:off x="83818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5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imes New Roman"/>
              </a:rPr>
              <a:t>Watak Wirausa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akin, tidak tergantung, individual, optim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rorientasi pada prestasi dan laba, tekun dan sabar, bertekat bekerja keras, mempunyai dorongan yang kuat, enerjik, dan inisiat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mpu dan siap menghadapi resiko, serta suka pada tantang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rtingkah laku sebagai pemimpin, dapat bergaul dengan orang lain, siap menerima kritik dn saran-sar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ovatif, kreatif, fleksibel, punya banyak sumber inspirai, serba bisa dan megetahui banyak h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a pikirnya selalu ke depan dengan perspektif taj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>
            <a:hlinkClick r:id="" action="ppaction://hlinkshowjump?jump=nextslide"/>
          </p:cNvPr>
          <p:cNvSpPr/>
          <p:nvPr/>
        </p:nvSpPr>
        <p:spPr>
          <a:xfrm>
            <a:off x="83818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5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6:54:55Z</dcterms:created>
  <dc:creator>User</dc:creator>
  <dc:description/>
  <dc:language>en-US</dc:language>
  <cp:lastModifiedBy>Q-HP</cp:lastModifiedBy>
  <dcterms:modified xsi:type="dcterms:W3CDTF">2008-09-18T21:58:05Z</dcterms:modified>
  <cp:revision>67</cp:revision>
  <dc:subject/>
  <dc:title>Slide 1</dc:title>
</cp:coreProperties>
</file>