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1.gif" ContentType="image/gif"/>
  <Override PartName="/ppt/media/image10.gif" ContentType="image/gif"/>
  <Override PartName="/ppt/media/image13.png" ContentType="image/png"/>
  <Override PartName="/ppt/media/image9.png" ContentType="image/png"/>
  <Override PartName="/ppt/media/image17.wmf" ContentType="image/x-wmf"/>
  <Override PartName="/ppt/media/image8.gif" ContentType="image/gif"/>
  <Override PartName="/ppt/media/image19.png" ContentType="image/png"/>
  <Override PartName="/ppt/media/image18.png" ContentType="image/png"/>
  <Override PartName="/ppt/media/image16.png" ContentType="image/png"/>
  <Override PartName="/ppt/media/image15.wmf" ContentType="image/x-wmf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14.wmf" ContentType="image/x-wmf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B44A-1D18-4E66-AAD8-20B4EFC6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F15-5191-405F-8775-292F904E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0692A-C528-458C-B47B-357C0CF8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40EAC-6EC7-464B-B053-736F4E4D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C2C34-F7FB-4C51-B612-B7FF4332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925AC-CB61-45D2-9F53-6DC4064E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B46A8-E777-4F2B-8FA1-33F118CD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BAE13-3995-4B4B-99A6-C29713C6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D502B-ED36-485C-865F-63F74020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8A48A-8DE1-40BA-80A5-3175E8FC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1343E-30BB-459E-A8CE-9457D5F5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37E49A-A975-4E82-B4AC-663B4A4C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DE2-F834-41C4-8CBB-A0172F38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BE2DFC-1882-4F32-A0F5-F7CB32B7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A815CF-C1FE-4093-A3CE-999CE74F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CF93F4-68CB-4B63-A559-1847364B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499F03-BC52-40AF-BCAA-524A296C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675009-52F5-4B49-8176-57F4E8EC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FAF8A1-4F82-485A-98F9-FE5EBA4A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0CB0EA-0C04-4BB5-8330-EED6D7C3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2828E2-3C7B-42D1-9FE9-0F3875E1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AAFED2-C143-48D6-96D0-2ED3B4C9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3D24B0-6C65-48DC-9E34-F6B82116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01D-1C64-4B26-857B-A5949CB1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F73840-562B-42A1-A757-E968A263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F96A6-527E-4702-A2A0-C437C119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4AFDC-2DBD-4D15-9213-20B7E2EC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24271-CF7F-4C26-AB2F-20CD9F8C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B1A3F-C4F5-4681-91B8-B20326C8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2D7C2-BC66-4E2A-B6E3-5F9CE27F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82DAD-4C0B-4792-9EB9-855757EF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3088C-EC72-4A21-8636-803C2026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C536E-066A-4F89-B48F-C17ED064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BB155-BFAA-43BD-87CC-67E8A856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2E6BC-BB74-442A-88A4-4B551D35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62FA6-3681-4B3F-B099-BE284931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82FC9-9CD0-4F16-B1C8-B86A5944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101CD-001C-4904-A95E-0183A59C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0BCB9-41C7-4929-939E-D09E1B8E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1D334-E60C-4227-A5AE-1090A329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087B0-8F2B-4BBC-93F3-78E73C7B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38DC6-FF2B-49AA-A18B-04233A95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B3833-F272-49FD-B1DD-77D6AFC7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80504-734C-4B78-BC8B-5469553B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41266-21E5-43B4-A9DE-404D8423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09F7-0FC3-4EFA-B496-09BC6BE4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44AFA-0B30-4B85-9489-77CD49D7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0BD21-A571-4D4C-BF76-FF476202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46C3D-57C5-4DB2-A0F9-FC0F4A3D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32637-6863-4971-82E7-2BA914AC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DB5EA-0E01-42F3-8A69-E4A44D2E3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247E64-F959-48E3-BE39-FE21A9E3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AA3239-6225-4F0F-B961-FEC66A12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BCCD84-E6A8-4677-9B89-32E1C5C0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97DCD9-24C4-49D1-98EC-3C7231A9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3CC7B6-2CF6-48A3-90AD-CF7D834B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261D-9BE7-4F87-A0EB-341B24D3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111172-775C-4806-9706-9C783BBF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AA9CFC-9C19-426C-9E73-BE2F3092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BFA681-7582-4C04-83A2-19143D60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F9AFFC-E60C-4843-BCBB-2B4D7DE5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247D29-BC3C-429C-9DD6-E832C597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1B2B7F-A70D-4A1B-B011-445E4FFE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F68F1C-313A-40A2-9D69-B4ECC1F1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EB1517-B954-48FA-8A8B-D71DB9D4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C73C1-F384-4BCA-9FC9-5C644A52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05493E-75ED-40F6-AE3E-F2854787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78CD-5C56-457F-AB27-54514A5C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E97C67-988C-4AB7-9E87-466D2169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7F5A8B-22EE-49FB-BA13-C776FCDE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B21A4-D4BC-453E-9E9A-37E84591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477DB-4F1F-4C2B-82B9-17DC7EAE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17B28D-FDA8-4889-B9B6-ADEB662E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3B6AC3-FF15-4211-A8C5-29B8CB37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3D4AD5-BFB8-4D68-8416-5D1B7321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3C5AFC-1822-43EF-A921-0B15B478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5EA223-E809-4F06-A87A-D3D32D89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2066-E067-4DF6-BD36-4E080511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854A-D5A6-452A-AF81-41A58D3A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1A21-EDB2-4513-B2EE-A5957FFA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B5AE-ECE3-4D7D-B5AC-68D24063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6E6E-F495-458B-BB49-7F0742A1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EA84-5799-40B6-B09A-5F641AFB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2465-9857-45EE-B553-EAF4F10E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A560-0DCD-4FFF-8791-557E3908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1A64-9717-4143-AF27-EC06A596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00D3C-569B-458C-8FE4-07FF13B4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35FCD-FA71-4305-AE0B-2FBB7105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F106E-F787-4F7A-AB2C-358D2B6F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B57C3-F758-43C9-BC6C-C428AE15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373A5-B8E4-46B4-A50A-303F45F2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71CD-BAC2-4290-A02B-9F860B25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FF4D4-FC0A-401F-9937-B2B4CE90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07C79-4D7C-4F7A-95E9-CCF32FBF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B55AA-986A-478F-8DA6-99F4513A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40BA8-F46E-486B-B893-1134FF3C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03AFE-5D28-4C2B-8100-63B1C89E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B97F4-5C1B-41DC-95E3-81BEAFD6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42F51-5681-4D87-8B54-256391D7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82948F-EE2B-47D1-A5FE-3CB597A1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6D4F76-9AC7-4E32-82C0-B84EA13F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CEE06E-4698-42DB-B421-3C445B20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09C6-2F13-4441-975B-9BB305AA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D35ADB-ACAE-42AF-9A94-6797CF98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3C9B68-509E-4B67-87E1-754106DD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51A39A-E1E3-4CA3-8E1D-19B5E80D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D43E6A-0188-4A59-B8CF-D9C891EE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6A3C61-F951-4529-BABB-4618BD5B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7B7B3A-FF24-425A-9F1A-E10AF932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715D1B-DDF6-4B72-813D-17402309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FD1000-B418-4E82-B41E-7CFD0AAC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6A0366-1CEB-4C51-950E-FE3D2124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BCF4A-BB43-4D09-A402-AD578AC4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B6D9-66FC-422D-B32F-376679CB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1F172-A32C-49A3-B105-67731720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8293D-398E-42EC-8FAF-6979DA60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ADB3F-7E7D-4274-98C5-97DC8255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CCDFE-962C-4D71-B4E1-C7C6110B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54D22-F3EF-47EC-A09F-D37A5A33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546E0-C724-4453-9233-E2ADC931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F46E3-59B0-4955-A2D8-00587F9D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80A76-5973-484F-A382-030CD78D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F884E-042C-4D44-A12C-B803EFC0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2CC99-AFAB-4DAD-98B7-CD85AD14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6A00-5DC5-43FC-83E3-D0A9493B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C3D6E-D1DE-4E02-A15B-CD832449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DD277-9D80-499B-BD8F-66D6FFE9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45CFC-DACA-4358-B0F7-65AACA98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9FF1F-E0DE-476D-A8A3-5F258644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72CCD-C745-4C60-BCFD-8AF665AA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82F3F-495F-4983-891A-2FD91569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92F3F-A715-4583-A28E-33CA3938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E6E60-22E6-4DEB-80C0-DF592F96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523CE-8FDB-4B2A-A8ED-C5467DE7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9A598-7A54-4AE6-86FB-72370E38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55E-03B6-4E12-9F66-AA86D1C4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EEEE3-E850-4CCB-B9E4-1B4A0C8F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6BBAF-1020-48AC-9C95-8874B0F1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8486D-205A-423E-966C-D37F3DCC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53BFA5-4BEB-42CF-9A55-79A1E501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1ACCD-8E5C-45FC-8D9D-B2C33411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FC17A-9E15-4645-ACB9-62B6675F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428FD-7DE7-49EA-9438-4BD093E4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375DD-6576-4615-B40C-A97927EE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9C1B2-404C-45D4-A706-E543F85C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60F58-FA4F-4C8E-8E85-804C4F95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9DDF-51D9-4447-A2A1-146EA1C4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66FD4-43E7-4A39-9329-903DD3F3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16FD7-0959-427B-A891-11CCD0E4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23222-630A-4FD5-9F5C-9F7FA2E4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C14B8-FD78-4012-A5DD-6D9CB360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5ED65-F711-4FD5-BF5F-304A1E69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B283A-251E-42EE-BBB6-5BD27E21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71D53-1FDB-4FFA-A303-91E9862A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1FF6A-9839-4A37-A8DE-D300894D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9B40B-8FB9-4907-A40C-C6BFE3CE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ADFE6-AC54-4B2F-B71B-02F0A4ED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DD4-1CC5-4ACB-979D-408EC1A7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3E9FB-6D0F-412E-BEFC-0AD985F1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05C6B-6BBE-4A67-B859-3BC66F1C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2EDFF-5D82-4B0D-A9C9-0716A521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4DCC4-75B5-4991-9A6D-E4DEF43D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88B5D-B968-4DCC-8678-8A66638E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377B0-4CED-49EE-9DB8-AAE6AA77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7AA6D-F47E-4DD8-9880-0711158E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BE42B-5496-4F47-9CBB-7F82361A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CE053-CC8E-41EF-835F-20B516AE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40686-89EB-4FC5-A410-AF8B78C5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121.xml"/><Relationship Id="rId35" Type="http://schemas.openxmlformats.org/officeDocument/2006/relationships/slideLayout" Target="../slideLayouts/slideLayout122.xml"/><Relationship Id="rId36" Type="http://schemas.openxmlformats.org/officeDocument/2006/relationships/slideLayout" Target="../slideLayouts/slideLayout123.xml"/><Relationship Id="rId37" Type="http://schemas.openxmlformats.org/officeDocument/2006/relationships/slideLayout" Target="../slideLayouts/slideLayout124.xml"/><Relationship Id="rId38" Type="http://schemas.openxmlformats.org/officeDocument/2006/relationships/slideLayout" Target="../slideLayouts/slideLayout125.xml"/><Relationship Id="rId39" Type="http://schemas.openxmlformats.org/officeDocument/2006/relationships/slideLayout" Target="../slideLayouts/slideLayout126.xml"/><Relationship Id="rId40" Type="http://schemas.openxmlformats.org/officeDocument/2006/relationships/slideLayout" Target="../slideLayouts/slideLayout127.xml"/><Relationship Id="rId41" Type="http://schemas.openxmlformats.org/officeDocument/2006/relationships/slideLayout" Target="../slideLayouts/slideLayout128.xml"/><Relationship Id="rId42" Type="http://schemas.openxmlformats.org/officeDocument/2006/relationships/slideLayout" Target="../slideLayouts/slideLayout129.xml"/><Relationship Id="rId43" Type="http://schemas.openxmlformats.org/officeDocument/2006/relationships/slideLayout" Target="../slideLayouts/slideLayout130.xml"/><Relationship Id="rId44" Type="http://schemas.openxmlformats.org/officeDocument/2006/relationships/slideLayout" Target="../slideLayouts/slideLayout131.xml"/><Relationship Id="rId4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slideLayout" Target="../slideLayouts/slideLayout133.xml"/><Relationship Id="rId32" Type="http://schemas.openxmlformats.org/officeDocument/2006/relationships/slideLayout" Target="../slideLayouts/slideLayout134.xml"/><Relationship Id="rId33" Type="http://schemas.openxmlformats.org/officeDocument/2006/relationships/slideLayout" Target="../slideLayouts/slideLayout135.xml"/><Relationship Id="rId34" Type="http://schemas.openxmlformats.org/officeDocument/2006/relationships/slideLayout" Target="../slideLayouts/slideLayout136.xml"/><Relationship Id="rId35" Type="http://schemas.openxmlformats.org/officeDocument/2006/relationships/slideLayout" Target="../slideLayouts/slideLayout137.xml"/><Relationship Id="rId36" Type="http://schemas.openxmlformats.org/officeDocument/2006/relationships/slideLayout" Target="../slideLayouts/slideLayout138.xml"/><Relationship Id="rId37" Type="http://schemas.openxmlformats.org/officeDocument/2006/relationships/slideLayout" Target="../slideLayouts/slideLayout139.xml"/><Relationship Id="rId38" Type="http://schemas.openxmlformats.org/officeDocument/2006/relationships/slideLayout" Target="../slideLayouts/slideLayout140.xml"/><Relationship Id="rId39" Type="http://schemas.openxmlformats.org/officeDocument/2006/relationships/slideLayout" Target="../slideLayouts/slideLayout141.xml"/><Relationship Id="rId40" Type="http://schemas.openxmlformats.org/officeDocument/2006/relationships/slideLayout" Target="../slideLayouts/slideLayout142.xml"/><Relationship Id="rId41" Type="http://schemas.openxmlformats.org/officeDocument/2006/relationships/slideLayout" Target="../slideLayouts/slideLayout143.xml"/><Relationship Id="rId4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BBCA-1195-49E9-B768-E60B45FBE709}" type="slidenum">
              <a:rPr b="0" lang="ar-SA" sz="14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BBD4-7381-4454-A31D-CC6FE25FA4F2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27c36"/>
                </a:gs>
                <a:gs pos="50000">
                  <a:srgbClr val="c19341"/>
                </a:gs>
                <a:gs pos="100000">
                  <a:srgbClr val="a27c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8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8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8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c4a2e"/>
                </a:gs>
                <a:gs pos="50000">
                  <a:srgbClr val="60a265"/>
                </a:gs>
                <a:gs pos="100000">
                  <a:srgbClr val="2c4a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3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3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3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41C2-9B18-4147-A3E4-348045E0E2F2}" type="slidenum">
              <a:rPr b="0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4"/>
    <p:sldLayoutId id="2147483780" r:id="rId35"/>
    <p:sldLayoutId id="2147483781" r:id="rId36"/>
    <p:sldLayoutId id="2147483782" r:id="rId37"/>
    <p:sldLayoutId id="2147483783" r:id="rId38"/>
    <p:sldLayoutId id="2147483784" r:id="rId39"/>
    <p:sldLayoutId id="2147483785" r:id="rId40"/>
    <p:sldLayoutId id="2147483786" r:id="rId41"/>
    <p:sldLayoutId id="2147483787" r:id="rId42"/>
    <p:sldLayoutId id="2147483788" r:id="rId43"/>
    <p:sldLayoutId id="2147483789" r:id="rId44"/>
    <p:sldLayoutId id="2147483790" r:id="rId4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89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a27c36"/>
                </a:gs>
                <a:gs pos="50000">
                  <a:srgbClr val="c19341"/>
                </a:gs>
                <a:gs pos="100000">
                  <a:srgbClr val="a27c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89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89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89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89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0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0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0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1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91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3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c4a2e"/>
                </a:gs>
                <a:gs pos="50000">
                  <a:srgbClr val="60a265"/>
                </a:gs>
                <a:gs pos="100000">
                  <a:srgbClr val="2c4a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f7625"/>
                </a:gs>
                <a:gs pos="50000">
                  <a:srgbClr val="eb9f17"/>
                </a:gs>
                <a:gs pos="100000">
                  <a:srgbClr val="cf76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f7625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dt" idx="3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ftr" idx="3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sldNum" idx="3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89F2-BF64-4C22-82CB-1C1A49B6A590}" type="slidenum">
              <a:rPr b="0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1"/>
    <p:sldLayoutId id="2147483793" r:id="rId32"/>
    <p:sldLayoutId id="2147483794" r:id="rId33"/>
    <p:sldLayoutId id="2147483795" r:id="rId34"/>
    <p:sldLayoutId id="2147483796" r:id="rId35"/>
    <p:sldLayoutId id="2147483797" r:id="rId36"/>
    <p:sldLayoutId id="2147483798" r:id="rId37"/>
    <p:sldLayoutId id="2147483799" r:id="rId38"/>
    <p:sldLayoutId id="2147483800" r:id="rId39"/>
    <p:sldLayoutId id="2147483801" r:id="rId40"/>
    <p:sldLayoutId id="2147483802" r:id="rId41"/>
    <p:sldLayoutId id="2147483803" r:id="rId4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98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22CB-5076-43AA-B5B7-4FF7D2F77856}" type="slidenum">
              <a:rPr b="0" lang="ar-SA" sz="10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dt" idx="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D0F2-E733-4201-B392-AEE0758989C5}" type="slidenum">
              <a:rPr b="0" lang="ar-SA" sz="1000" spc="-1" strike="noStrike">
                <a:solidFill>
                  <a:srgbClr val="ffffff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B161-E316-44A2-9900-0A97D9AA8DEF}" type="slidenum">
              <a:rPr b="0" lang="ar-SA" sz="14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5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5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5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6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AEBE-3E0F-4A2E-98A2-FD8C8A487C5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1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1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1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2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95E9-566E-40E0-8D13-BB7736B6A49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58A9-7D00-41C5-B539-CFA688634F82}" type="slidenum">
              <a:rPr b="0" lang="ar-SA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7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8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0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0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51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D5A2-A15B-450C-BF11-79723EC1E6D9}" type="slidenum">
              <a:rPr b="0" lang="ar-SA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6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6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grpSp>
        <p:nvGrpSpPr>
          <p:cNvPr id="57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7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7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62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B498-6C03-4774-9739-B55ACA75E978}" type="slidenum">
              <a:rPr b="0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66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674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ABB7-1956-4357-B08F-720C146A3268}" type="slidenum">
              <a:rPr b="0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8597-E754-4119-A253-229596FD995B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2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gif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1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5" name="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47960" cy="800280"/>
          </a:xfrm>
          <a:prstGeom prst="rect">
            <a:avLst/>
          </a:prstGeom>
          <a:ln w="0">
            <a:noFill/>
          </a:ln>
        </p:spPr>
      </p:pic>
      <p:sp>
        <p:nvSpPr>
          <p:cNvPr id="1116" name=""/>
          <p:cNvSpPr/>
          <p:nvPr/>
        </p:nvSpPr>
        <p:spPr>
          <a:xfrm>
            <a:off x="228600" y="838080"/>
            <a:ext cx="8915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enaCapsSSi"/>
              </a:rPr>
              <a:t>TOT TIM FASILITATOR </a:t>
            </a:r>
            <a:br>
              <a:rPr sz="2400"/>
            </a:br>
            <a:r>
              <a:rPr b="1" lang="en-US" sz="2400" spc="-1" strike="noStrike">
                <a:solidFill>
                  <a:srgbClr val="800080"/>
                </a:solidFill>
                <a:latin typeface="ArenaCapsSSi"/>
              </a:rPr>
              <a:t>PENGEMBANGAN BAHAN AJAR DAN UJIAN </a:t>
            </a:r>
            <a:br>
              <a:rPr sz="2400"/>
            </a:br>
            <a:r>
              <a:rPr b="1" lang="en-US" sz="2400" spc="-1" strike="noStrike">
                <a:solidFill>
                  <a:srgbClr val="800080"/>
                </a:solidFill>
                <a:latin typeface="ArenaCapsSSi"/>
              </a:rPr>
              <a:t>BERBASIS TIK/ICT SMA TAHUN 2007</a:t>
            </a:r>
            <a:br>
              <a:rPr sz="2400"/>
            </a:br>
            <a:r>
              <a:rPr b="1" lang="en-US" sz="2400" spc="-1" strike="noStrike">
                <a:solidFill>
                  <a:srgbClr val="ff99cc"/>
                </a:solidFill>
                <a:latin typeface="ArenaCapsSSi"/>
              </a:rPr>
              <a:t>30 APRIL – 5 MEI 2007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28600" y="5486400"/>
            <a:ext cx="8610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enaCapsSSi"/>
              </a:rPr>
              <a:t>JAYA RAYA RESORT HOTEL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enaCapsSSi"/>
              </a:rPr>
              <a:t>JL. RAYA PUNCAK CISARUA - BOGO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629400" y="3657600"/>
            <a:ext cx="1219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4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2733" fill="hold"/>
                                        <p:tgtEl>
                                          <p:spTgt spid="1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RAFIK FUNGSI KONSUMSI NASIONA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03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6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6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6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agaimana cara menentukankan fungsi konsumsi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6" name=""/>
          <p:cNvSpPr/>
          <p:nvPr/>
        </p:nvSpPr>
        <p:spPr>
          <a:xfrm>
            <a:off x="380880" y="17524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 = a + b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b = MPC =   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Δ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C   = 150 / 200 = 0,75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 = a + b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 = a + 0,75 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50 = a + 0,75 (0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 = 50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Persamaan fungsi konsumsi dapat dirumuskan 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 = 50 + 0,75 Y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335268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l-GR" sz="2400" spc="-1" strike="noStrike">
                <a:solidFill>
                  <a:srgbClr val="ffcc00"/>
                </a:solidFill>
                <a:latin typeface="Comic Sans MS"/>
              </a:rPr>
              <a:t>Δ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Y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565440" y="2949480"/>
            <a:ext cx="6098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155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7" dur="1155" fill="hold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9" dur="1155" fill="hold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1" dur="1155" fill="hold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155"/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1155" fill="hold"/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0" dur="1155" fill="hold"/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1155" fill="hold"/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77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7" dur="770" fill="hold"/>
                                        <p:tgtEl>
                                          <p:spTgt spid="1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9" dur="77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1" dur="77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155"/>
                                        <p:tgtEl>
                                          <p:spTgt spid="1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8" dur="1155" fill="hold"/>
                                        <p:tgtEl>
                                          <p:spTgt spid="1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0" dur="1155" fill="hold"/>
                                        <p:tgtEl>
                                          <p:spTgt spid="1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2" dur="1155" fill="hold"/>
                                        <p:tgtEl>
                                          <p:spTgt spid="1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155"/>
                                        <p:tgtEl>
                                          <p:spTgt spid="1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3" dur="1155" fill="hold"/>
                                        <p:tgtEl>
                                          <p:spTgt spid="1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5" dur="1155" fill="hold"/>
                                        <p:tgtEl>
                                          <p:spTgt spid="1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7" dur="1155" fill="hold"/>
                                        <p:tgtEl>
                                          <p:spTgt spid="1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155"/>
                                        <p:tgtEl>
                                          <p:spTgt spid="1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4" dur="1155" fill="hold"/>
                                        <p:tgtEl>
                                          <p:spTgt spid="1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6" dur="1155" fill="hold"/>
                                        <p:tgtEl>
                                          <p:spTgt spid="1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8" dur="1155" fill="hold"/>
                                        <p:tgtEl>
                                          <p:spTgt spid="1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155"/>
                                        <p:tgtEl>
                                          <p:spTgt spid="1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4" dur="1155" fill="hold"/>
                                        <p:tgtEl>
                                          <p:spTgt spid="1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6" dur="1155" fill="hold"/>
                                        <p:tgtEl>
                                          <p:spTgt spid="1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8" dur="1155" fill="hold"/>
                                        <p:tgtEl>
                                          <p:spTgt spid="1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155"/>
                                        <p:tgtEl>
                                          <p:spTgt spid="1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5" dur="1155" fill="hold"/>
                                        <p:tgtEl>
                                          <p:spTgt spid="1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7" dur="1155" fill="hold"/>
                                        <p:tgtEl>
                                          <p:spTgt spid="1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9" dur="1155" fill="hold"/>
                                        <p:tgtEl>
                                          <p:spTgt spid="1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3000"/>
                            </p:stCondLst>
                            <p:childTnLst>
                              <p:par>
                                <p:cTn id="5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155"/>
                                        <p:tgtEl>
                                          <p:spTgt spid="1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5" dur="1155" fill="hold"/>
                                        <p:tgtEl>
                                          <p:spTgt spid="1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7" dur="1155" fill="hold"/>
                                        <p:tgtEl>
                                          <p:spTgt spid="1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9" dur="1155" fill="hold"/>
                                        <p:tgtEl>
                                          <p:spTgt spid="1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NTUK FUNGSI KONSUMSI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0" name=""/>
          <p:cNvSpPr/>
          <p:nvPr/>
        </p:nvSpPr>
        <p:spPr>
          <a:xfrm>
            <a:off x="457200" y="1600200"/>
            <a:ext cx="8305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Empat ciri penting dari fungsi konsumsi yaitu :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Terdapat tingkat impas (break even level) dari pendapatan, yaitu tingkat dimana seluruh disposable income rumah tangga digunakan untuk kegiatan konsumsi. ( APC = 1 )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Di bawah tingkat impas, ada Dissaving, yaitu keadaan dimana konsumsi rumah tangga lebih besar daripada disposable income, sehingga rumah tangga melakukan pinjaman atau menggunakan tabungan sebelumnya. ( APC &gt; 1 )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Di atas tingkat impas, sebagian dari disposable income digunakan untuk kegiatan konsumsi dan sisanya ditabung ( APC &lt; 1 )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Setiap peningkatan disposable income akan menyebabkan kegiatan konsumsi meningkat. Tetapi, besarnya peningkatan konsumsi lebih rendah daripada peningkatan disposable income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Untuk semuanya, 0&lt;MPC&lt;1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7000"/>
                            </p:stCondLst>
                            <p:childTnLst>
                              <p:par>
                                <p:cTn id="6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2000"/>
                            </p:stCondLst>
                            <p:childTnLst>
                              <p:par>
                                <p:cTn id="6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3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RIS 4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"/>
          <p:cNvSpPr/>
          <p:nvPr/>
        </p:nvSpPr>
        <p:spPr>
          <a:xfrm>
            <a:off x="304920" y="990720"/>
            <a:ext cx="777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Garis 45</a:t>
            </a:r>
            <a:r>
              <a:rPr b="0" lang="en-US" sz="1600" spc="-1" strike="noStrike" baseline="30000">
                <a:solidFill>
                  <a:srgbClr val="ffcc00"/>
                </a:solidFill>
                <a:latin typeface="Arial Black"/>
              </a:rPr>
              <a:t>0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adalah garis yang menghubungkan titik – titik di mana konsumsi yang diinginkan sama dengan disposable income. Garis ini membantu menentukan tingkat impas, yaitu perpotongan antara garis 45</a:t>
            </a:r>
            <a:r>
              <a:rPr b="0" lang="en-US" sz="1600" spc="-1" strike="noStrike" baseline="30000">
                <a:solidFill>
                  <a:srgbClr val="ffcc00"/>
                </a:solidFill>
                <a:latin typeface="Arial Black"/>
              </a:rPr>
              <a:t>0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 dengan kurva konsumsi.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213" name=""/>
          <p:cNvGraphicFramePr/>
          <p:nvPr/>
        </p:nvGraphicFramePr>
        <p:xfrm>
          <a:off x="1143000" y="2133720"/>
          <a:ext cx="690876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69087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48720" y="6019920"/>
            <a:ext cx="10000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380880" y="14320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ff"/>
                </a:solidFill>
                <a:latin typeface="BANANAPIEfont"/>
              </a:rPr>
              <a:t>TABUNGAN ( SAVING )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33520" y="1600200"/>
            <a:ext cx="822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57200" y="1447920"/>
            <a:ext cx="8305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762120" y="2438280"/>
            <a:ext cx="7772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verage Propensity to Saving (APS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rginal Propensity to Consume (MPS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ungsi Tabunga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rafik Tabunga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" dur="2000"/>
                                        <p:tgtEl>
                                          <p:spTgt spid="1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4000"/>
                            </p:stCondLst>
                            <p:childTnLst>
                              <p:par>
                                <p:cTn id="6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4" dur="2000"/>
                                        <p:tgtEl>
                                          <p:spTgt spid="1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8" dur="2000"/>
                                        <p:tgtEl>
                                          <p:spTgt spid="1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8000"/>
                            </p:stCondLst>
                            <p:childTnLst>
                              <p:par>
                                <p:cTn id="6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2" dur="2000"/>
                                        <p:tgtEl>
                                          <p:spTgt spid="1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Arial"/>
              </a:rPr>
              <a:t>Fungsi Tabunga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0" y="1219320"/>
            <a:ext cx="9144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ecara matematis, fungsi tabungan dapat dinyatakan sebagai berikut :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 = f ( Y )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Karena tabungan nasional merupakan bagian dari pendapatan nasional yang tidak digunakan untuk konsumsi nasional, maka fungsi tabungan tersebut sebenarnya diperoleh dari :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 = Y – C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= Y – ( a + bY )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= Y – a – bY, sehingga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 = - a + ( 1 – b ) Y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Dimana : a = tabungan otonom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 – b = MPS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MPS = 1 – b, karena b = MPC, maka MPS + MPC = 1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comb dir="vert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 txBox="1"/>
          <p:nvPr/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304920" y="228600"/>
            <a:ext cx="8458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abel Pendapatan Nasional dan Tabungan Nasional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225" name=""/>
          <p:cNvGraphicFramePr/>
          <p:nvPr/>
        </p:nvGraphicFramePr>
        <p:xfrm>
          <a:off x="1447920" y="1676520"/>
          <a:ext cx="6400800" cy="4443120"/>
        </p:xfrm>
        <a:graphic>
          <a:graphicData uri="http://schemas.openxmlformats.org/drawingml/2006/table">
            <a:tbl>
              <a:tblPr/>
              <a:tblGrid>
                <a:gridCol w="3200400"/>
                <a:gridCol w="3200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PENDAPATAN NASIONAL ( Y 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TABUNGAN NASIONAL ( S 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66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5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5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15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66"/>
                          </a:solidFill>
                          <a:latin typeface="Comic Sans MS"/>
                        </a:rPr>
                        <a:t>25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0066"/>
                    </a:solidFill>
                  </a:tcPr>
                </a:tc>
              </a:tr>
            </a:tbl>
          </a:graphicData>
        </a:graphic>
      </p:graphicFrame>
    </p:spTree>
  </p:cSld>
  <p:transition spd="slow">
    <p:wedge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6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Grafik Fungsi Tabungan Nasiona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914400" y="2286000"/>
            <a:ext cx="6324120" cy="4038120"/>
            <a:chOff x="914400" y="2286000"/>
            <a:chExt cx="6324120" cy="4038120"/>
          </a:xfrm>
        </p:grpSpPr>
        <p:sp>
          <p:nvSpPr>
            <p:cNvPr id="1228" name=""/>
            <p:cNvSpPr/>
            <p:nvPr/>
          </p:nvSpPr>
          <p:spPr>
            <a:xfrm>
              <a:off x="1526400" y="2286000"/>
              <a:ext cx="1800" cy="40381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914400" y="5559840"/>
              <a:ext cx="601812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1526400" y="4032360"/>
              <a:ext cx="5202360" cy="1964160"/>
            </a:xfrm>
            <a:prstGeom prst="line">
              <a:avLst/>
            </a:prstGeom>
            <a:ln w="38160">
              <a:solidFill>
                <a:srgbClr val="af27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526400" y="5232600"/>
              <a:ext cx="5304240" cy="18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526400" y="4250160"/>
              <a:ext cx="5304240" cy="18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526400" y="4905000"/>
              <a:ext cx="5304240" cy="18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526400" y="4577760"/>
              <a:ext cx="5304240" cy="18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526400" y="3922920"/>
              <a:ext cx="5304240" cy="18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83240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13840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44440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75040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05640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36240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66840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97440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28040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8640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89240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19840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50476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81076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11676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42276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728760" y="2286000"/>
              <a:ext cx="1800" cy="32738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526400" y="3595320"/>
              <a:ext cx="5304240" cy="18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526400" y="3268080"/>
              <a:ext cx="5304240" cy="18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526400" y="2940480"/>
              <a:ext cx="5304240" cy="18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526400" y="2613240"/>
              <a:ext cx="5304240" cy="18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648160" y="5669280"/>
              <a:ext cx="459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Comic Sans MS"/>
                </a:rPr>
                <a:t>200    400            600           800           1000   1200</a:t>
              </a:r>
              <a:endParaRPr b="0" lang="en-US" sz="10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914400" y="5887440"/>
              <a:ext cx="53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Comic Sans MS"/>
                </a:rPr>
                <a:t>-50</a:t>
              </a:r>
              <a:endParaRPr b="0" lang="en-US" sz="10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016280" y="5559840"/>
              <a:ext cx="53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016280" y="5014440"/>
              <a:ext cx="53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Comic Sans MS"/>
                </a:rPr>
                <a:t>50</a:t>
              </a:r>
              <a:endParaRPr b="0" lang="en-US" sz="10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914400" y="4687200"/>
              <a:ext cx="53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Comic Sans MS"/>
                </a:rPr>
                <a:t>100</a:t>
              </a:r>
              <a:endParaRPr b="0" lang="en-US" sz="10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914400" y="4359600"/>
              <a:ext cx="53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Comic Sans MS"/>
                </a:rPr>
                <a:t>150</a:t>
              </a:r>
              <a:endParaRPr b="0" lang="en-US" sz="10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914400" y="4032360"/>
              <a:ext cx="633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Comic Sans MS"/>
                </a:rPr>
                <a:t>200</a:t>
              </a:r>
              <a:endParaRPr b="0" lang="en-US" sz="10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914400" y="3704760"/>
              <a:ext cx="633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99"/>
                  </a:solidFill>
                  <a:latin typeface="Comic Sans MS"/>
                </a:rPr>
                <a:t>250</a:t>
              </a:r>
              <a:endParaRPr b="0" lang="en-US" sz="10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6400800" y="5867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Y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762120" y="2438280"/>
            <a:ext cx="380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762120" y="2514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Black"/>
              </a:rPr>
              <a:t>S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304920" y="301320"/>
            <a:ext cx="632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Bagaimana cara menentukankan fungsi tabungan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9" name=""/>
          <p:cNvSpPr/>
          <p:nvPr/>
        </p:nvSpPr>
        <p:spPr>
          <a:xfrm>
            <a:off x="0" y="1447920"/>
            <a:ext cx="662940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 = - a + ( 1 – b ) Y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Nilai MPC yaitu 0,75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Jadi nilai MPS = 1 – 0,75 = 0,25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 = - a + 0,25Y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50 = - a + ( 0,25 x 400 )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50 = - a + 100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a = 50 – 100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a = - 50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Maka fungsi tabungannya yaitu :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 = - 50 + 0,25 Y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4000"/>
                            </p:stCondLst>
                            <p:childTnLst>
                              <p:par>
                                <p:cTn id="7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1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1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1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1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1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1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1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1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1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1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1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1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1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1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1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1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1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1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1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1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1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Bagaimana Hubungan antara Disposable Income, Konsumsi, dan Tabungan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da saat disposable rendah, rumah tangga akan memanfaatkan tabungannya untuk memenuhi kebutuhan konsum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SzPct val="12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da saat disposable income tinggi dan melebihi tingkat konsumsi, rumah tangga akan menabu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4" dur="500"/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5" dur="500"/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6" dur="500"/>
                                        <p:tgtEl>
                                          <p:spTgt spid="1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1" dur="3000"/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2" dur="3000"/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3000"/>
                                        <p:tgtEl>
                                          <p:spTgt spid="1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0" name=""/>
          <p:cNvGraphicFramePr/>
          <p:nvPr/>
        </p:nvGraphicFramePr>
        <p:xfrm>
          <a:off x="0" y="0"/>
          <a:ext cx="9372600" cy="7010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72600" cy="70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2" name=""/>
          <p:cNvSpPr/>
          <p:nvPr/>
        </p:nvSpPr>
        <p:spPr>
          <a:xfrm>
            <a:off x="228600" y="1523880"/>
            <a:ext cx="8915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f27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cc"/>
                </a:solidFill>
                <a:latin typeface="Arial Black"/>
              </a:rPr>
              <a:t>KONSUMSI DAN INVESTASI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152280" y="376200"/>
            <a:ext cx="899172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Monotype Corsiva"/>
              </a:rPr>
              <a:t>BAHAN AJAR EKONOMI 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Monotype Corsiva"/>
              </a:rPr>
              <a:t>KELAS X SEMESTER 2</a:t>
            </a: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4" name="">
            <a:hlinkClick r:id="rId3" action="ppaction://hlinksldjump"/>
          </p:cNvPr>
          <p:cNvSpPr/>
          <p:nvPr/>
        </p:nvSpPr>
        <p:spPr>
          <a:xfrm>
            <a:off x="6629400" y="3429000"/>
            <a:ext cx="13716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 Black"/>
              </a:rPr>
              <a:t>SK / KD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629400" y="3962520"/>
            <a:ext cx="1371600" cy="304560"/>
          </a:xfrm>
          <a:prstGeom prst="rect">
            <a:avLst/>
          </a:prstGeom>
          <a:solidFill>
            <a:srgbClr val="ffc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 Black"/>
              </a:rPr>
              <a:t>RPP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6" name="">
            <a:hlinkClick r:id="rId4" action="ppaction://hlinksldjump"/>
          </p:cNvPr>
          <p:cNvSpPr/>
          <p:nvPr/>
        </p:nvSpPr>
        <p:spPr>
          <a:xfrm>
            <a:off x="6591240" y="5029200"/>
            <a:ext cx="13716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 Black"/>
              </a:rPr>
              <a:t>Materi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591240" y="4495680"/>
            <a:ext cx="13716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80"/>
                </a:solidFill>
                <a:latin typeface="Arial Black"/>
              </a:rPr>
              <a:t>LKS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057400" y="556272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Oleh 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TikTik Sukmawati, S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 Black"/>
              </a:rPr>
              <a:t>SMA NEGERI 61 JAKARTA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3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2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2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Apa saja Faktor – Faktor yang Mempengaruhi Konsumsi dan Tabungan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kayaan yang terkump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kap berhe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ku Bun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disi Perekonom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 Dana Pensiun Pemerint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0" dur="20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1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2000" fill="hold"/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0" fill="hold"/>
                                        <p:tgtEl>
                                          <p:spTgt spid="1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2000"/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2000" fill="hold"/>
                                        <p:tgtEl>
                                          <p:spTgt spid="1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1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1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1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NVESTAS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0" y="1219320"/>
            <a:ext cx="769608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nvestasi adalah penanaman modal. Dalam menghitung jumlah investasi, pengeluaran yang dicatat adalah sebagai berikut 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embelian berbagai jenis barang modal seperti mesin – mesin dan peralatan produksi lainnya untuk menjalankan berbagai jenis usaha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engeluaran untuk membeli rumah, mendirikan pabrik, dan mendirikan gedung perkantora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Penambahan nilai stok barang – barang yang belum terjual, bahan mentah, dan barang – barang dalam proses produksi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putusan mengenai apakah masyarakat produsen akan melakukan investasi atau tidak pada dasarnya dilakukan dengan cara membandingkan Marginal Benefit ( MB ) dan Marginal Cost ( MC ). MB berupa keuntungan yang diramalkan  ( Expected Rate of Return ( r) ) dan MC berupa Tingkat Bunga ( Interest Rate (i))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buah proyek investasi dapat dilakukan apabila r &gt; i atau paling tidak r = i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2280" y="1219320"/>
            <a:ext cx="7467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800"/>
                            </p:stCondLst>
                            <p:childTnLst>
                              <p:par>
                                <p:cTn id="9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1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1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1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3800"/>
                            </p:stCondLst>
                            <p:childTnLst>
                              <p:par>
                                <p:cTn id="9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3000"/>
                                        <p:tgtEl>
                                          <p:spTgt spid="1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3000" fill="hold"/>
                                        <p:tgtEl>
                                          <p:spTgt spid="1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000" fill="hold"/>
                                        <p:tgtEl>
                                          <p:spTgt spid="1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6800"/>
                            </p:stCondLst>
                            <p:childTnLst>
                              <p:par>
                                <p:cTn id="9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3000"/>
                                        <p:tgtEl>
                                          <p:spTgt spid="1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3000" fill="hold"/>
                                        <p:tgtEl>
                                          <p:spTgt spid="1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3000" fill="hold"/>
                                        <p:tgtEl>
                                          <p:spTgt spid="1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9800"/>
                            </p:stCondLst>
                            <p:childTnLst>
                              <p:par>
                                <p:cTn id="9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3000"/>
                                        <p:tgtEl>
                                          <p:spTgt spid="1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3000" fill="hold"/>
                                        <p:tgtEl>
                                          <p:spTgt spid="1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3000" fill="hold"/>
                                        <p:tgtEl>
                                          <p:spTgt spid="1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1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000"/>
                            </p:stCondLst>
                            <p:childTnLst>
                              <p:par>
                                <p:cTn id="9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1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 txBox="1"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Comic Sans MS"/>
              </a:rPr>
              <a:t>Akumulasi Pengeluaran Investasi pada Berbagai tingkat Keuntungan yang Diramalkan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284" name=""/>
          <p:cNvGraphicFramePr/>
          <p:nvPr/>
        </p:nvGraphicFramePr>
        <p:xfrm>
          <a:off x="228600" y="1447920"/>
          <a:ext cx="7386480" cy="537372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Keuntungan yang diramalkan ( r 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kumulasi Pengeluaran Investasi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5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5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in" orient="vert"/>
  </p:transition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0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2000"/>
                            </p:stCondLst>
                            <p:childTnLst>
                              <p:par>
                                <p:cTn id="9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6" dur="2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Kurva Permintaan Investas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1286" name=""/>
          <p:cNvGraphicFramePr/>
          <p:nvPr/>
        </p:nvGraphicFramePr>
        <p:xfrm>
          <a:off x="911160" y="181440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1160" y="181440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sh dir="l"/>
  </p:transition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0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PERHITUNGAN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289" name=""/>
          <p:cNvSpPr/>
          <p:nvPr/>
        </p:nvSpPr>
        <p:spPr>
          <a:xfrm>
            <a:off x="914400" y="1371600"/>
            <a:ext cx="769608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ungsi Inventasi mempunyai bentuk umum 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I = a + bi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imana a = investasi otono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b = MPI ( Marginal Propensity to Invest )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0" lang="el-GR" sz="2000" spc="-1" strike="noStrike">
                <a:solidFill>
                  <a:srgbClr val="ffffff"/>
                </a:solidFill>
                <a:latin typeface="Comic Sans MS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C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l-GR" sz="2000" spc="-1" strike="noStrike">
                <a:solidFill>
                  <a:srgbClr val="ffffff"/>
                </a:solidFill>
                <a:latin typeface="Comic Sans MS"/>
              </a:rPr>
              <a:t>Δ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Yd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erdasarkan tabel, maka :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PI = 50 = -25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2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4495680" y="34290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457200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0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2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2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2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1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1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1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1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1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1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1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1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1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12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9" dur="1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914400" y="1371600"/>
            <a:ext cx="7696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hingga pada suku bunga 12 %, jumlah investasi yang diminta Rp 100, maka 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 = a + bi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0 = a + ( - 25 x 12 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0 = a + ( - 300 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= 400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adi, persamaan permintaan investasi dapat dinyatakan sebagai berikut 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 = 400 – 25i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0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000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1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1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3" name="" descr=""/>
          <p:cNvPicPr/>
          <p:nvPr/>
        </p:nvPicPr>
        <p:blipFill>
          <a:blip r:embed="rId1"/>
          <a:stretch/>
        </p:blipFill>
        <p:spPr>
          <a:xfrm>
            <a:off x="255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4" name=""/>
          <p:cNvSpPr txBox="1"/>
          <p:nvPr/>
        </p:nvSpPr>
        <p:spPr>
          <a:xfrm>
            <a:off x="2743200" y="1066680"/>
            <a:ext cx="41148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HE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600200" y="373392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1f08"/>
                </a:solidFill>
                <a:latin typeface="Verdana"/>
              </a:rPr>
              <a:t>TERIMA KASIH ATAS PERHATIANNYA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9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0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6" dur="240903" fill="hold"/>
                                        <p:tgtEl>
                                          <p:spTgt spid="1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5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5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nodeType="withEffect" fill="hold" presetClass="path" presetID="9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1114" dur="3000" fill="hold"/>
                                        <p:tgtEl>
                                          <p:spTgt spid="1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5" nodeType="withEffect" fill="remove" presetClass="emph" presetID="33">
                                  <p:stCondLst>
                                    <p:cond delay="8500"/>
                                  </p:stCondLst>
                                  <p:childTnLst>
                                    <p:animClr clrSpc="rgb">
                                      <p:cBhvr>
                                        <p:cTn id="1116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1117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1118" dur="5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19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50">
                                  <p:stCondLst>
                                    <p:cond delay="14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0" fill="hold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0" fill="hold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0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mph" presetID="20">
                                  <p:stCondLst>
                                    <p:cond delay="18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126" dur="1500" autoRev="1" fill="hold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1127" dur="1500" autoRev="1" fill="hold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0,102)"/>
                                      </p:to>
                                    </p:set>
                                    <p:set>
                                      <p:cBhvr>
                                        <p:cTn id="1128" dur="1500" autoRev="1" fill="hold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0" name=""/>
          <p:cNvGraphicFramePr/>
          <p:nvPr/>
        </p:nvGraphicFramePr>
        <p:xfrm>
          <a:off x="0" y="0"/>
          <a:ext cx="9220320" cy="693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220320" cy="69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2" name="">
            <a:hlinkClick r:id="rId3" action="ppaction://hlinksldjump"/>
          </p:cNvPr>
          <p:cNvSpPr/>
          <p:nvPr/>
        </p:nvSpPr>
        <p:spPr>
          <a:xfrm>
            <a:off x="685800" y="1143000"/>
            <a:ext cx="7848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STANDAR KOMPETENSI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 Black"/>
              </a:rPr>
              <a:t>Memahami Konsumsi dan Investasi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457200" y="45720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Arial Black"/>
              </a:rPr>
              <a:t>Mendeskripsikan fungsi konsumsi dan fungsi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99cc"/>
                </a:solidFill>
                <a:latin typeface="Arial Black"/>
              </a:rPr>
              <a:t>tabunga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cc"/>
                </a:solidFill>
                <a:latin typeface="Arial Black"/>
              </a:rPr>
              <a:t>Mendeskripsikan kurva permintaan investasi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1828800" y="4597560"/>
            <a:ext cx="571500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 Black"/>
              </a:rPr>
              <a:t>KOMPETENSI DASA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772400" y="228600"/>
            <a:ext cx="11430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2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220320" cy="692316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/>
          <p:nvPr/>
        </p:nvSpPr>
        <p:spPr>
          <a:xfrm>
            <a:off x="152280" y="1522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 Black"/>
              </a:rPr>
              <a:t>MEMAHAMI KONSUMSI DAN TABUNGA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04920" y="5321160"/>
            <a:ext cx="1523880" cy="838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Komponen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endapata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Nasiona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828800" y="5715000"/>
            <a:ext cx="30492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133720" y="6477120"/>
            <a:ext cx="3045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2133720" y="2743200"/>
            <a:ext cx="0" cy="37339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133720" y="5029200"/>
            <a:ext cx="3045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438280" y="4800600"/>
            <a:ext cx="152424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Tabunga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438280" y="6172200"/>
            <a:ext cx="152424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Investasi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962520" y="6400800"/>
            <a:ext cx="10666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029200" y="6172200"/>
            <a:ext cx="152388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Suku Bunga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962520" y="5029200"/>
            <a:ext cx="3808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343400" y="41911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343400" y="5638680"/>
            <a:ext cx="30492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343400" y="5029200"/>
            <a:ext cx="30492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648320" y="5410080"/>
            <a:ext cx="152388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P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648320" y="4724280"/>
            <a:ext cx="152388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P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343400" y="4191120"/>
            <a:ext cx="30492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648320" y="3886200"/>
            <a:ext cx="1523880" cy="685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ungsi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Tabungan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6934320" y="3886200"/>
            <a:ext cx="0" cy="6094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6934320" y="3886200"/>
            <a:ext cx="2286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34320" y="4495680"/>
            <a:ext cx="2286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7162920" y="3657600"/>
            <a:ext cx="137160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Grafi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7162920" y="4267080"/>
            <a:ext cx="137160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atemati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133720" y="2743200"/>
            <a:ext cx="3045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438280" y="2514600"/>
            <a:ext cx="152424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Konsumsi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962520" y="2743200"/>
            <a:ext cx="4572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419720" y="1676520"/>
            <a:ext cx="0" cy="16761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4419720" y="1676520"/>
            <a:ext cx="3045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419720" y="2286000"/>
            <a:ext cx="3045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4419720" y="2895480"/>
            <a:ext cx="3045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419720" y="3352680"/>
            <a:ext cx="3045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724280" y="1371600"/>
            <a:ext cx="1524240" cy="685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Fungsi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Konsumsi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724280" y="2666880"/>
            <a:ext cx="152424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PC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724280" y="2133720"/>
            <a:ext cx="152424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PC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724280" y="3200400"/>
            <a:ext cx="152424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Garis 45</a:t>
            </a:r>
            <a:r>
              <a:rPr b="0" lang="en-US" sz="1800" spc="-1" strike="noStrike" baseline="30000">
                <a:solidFill>
                  <a:srgbClr val="ffcc00"/>
                </a:solidFill>
                <a:latin typeface="Arial Black"/>
              </a:rPr>
              <a:t>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172200" y="4191120"/>
            <a:ext cx="76212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7010280" y="1371600"/>
            <a:ext cx="0" cy="6094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7238880" y="1143000"/>
            <a:ext cx="137160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Grafi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238880" y="1752480"/>
            <a:ext cx="1371600" cy="4572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atemati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248520" y="1676520"/>
            <a:ext cx="76176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7010280" y="1371600"/>
            <a:ext cx="2286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010280" y="1981080"/>
            <a:ext cx="2286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6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6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1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77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770" fill="hold"/>
                                        <p:tgtEl>
                                          <p:spTgt spid="1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77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7" dur="770" fill="hold"/>
                                        <p:tgtEl>
                                          <p:spTgt spid="1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1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2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1180" name="" descr=""/>
          <p:cNvPicPr/>
          <p:nvPr/>
        </p:nvPicPr>
        <p:blipFill>
          <a:blip r:embed="rId2"/>
          <a:stretch/>
        </p:blipFill>
        <p:spPr>
          <a:xfrm rot="20954400">
            <a:off x="837720" y="228600"/>
            <a:ext cx="1971720" cy="1380960"/>
          </a:xfrm>
          <a:prstGeom prst="rect">
            <a:avLst/>
          </a:prstGeom>
          <a:ln w="0">
            <a:noFill/>
          </a:ln>
        </p:spPr>
      </p:pic>
      <p:sp>
        <p:nvSpPr>
          <p:cNvPr id="1181" name=""/>
          <p:cNvSpPr txBox="1"/>
          <p:nvPr/>
        </p:nvSpPr>
        <p:spPr>
          <a:xfrm>
            <a:off x="2057400" y="1447920"/>
            <a:ext cx="5514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3e6f3"/>
                    </a:gs>
                    <a:gs pos="100000">
                      <a:srgbClr val="66ccff"/>
                    </a:gs>
                  </a:gsLst>
                  <a:lin ang="5400000"/>
                </a:gradFill>
                <a:latin typeface="Comic Sans MS"/>
              </a:rPr>
              <a:t>Konsums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3e6f3"/>
                  </a:gs>
                  <a:gs pos="100000">
                    <a:srgbClr val="66ccff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1182" name=""/>
          <p:cNvSpPr/>
          <p:nvPr/>
        </p:nvSpPr>
        <p:spPr>
          <a:xfrm>
            <a:off x="838080" y="2895480"/>
            <a:ext cx="7696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verage Propensity to Consume (APC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arginal Propensity to Consume (MPC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ungsi Konsumsi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rafik Konsumsi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aris 45</a:t>
            </a:r>
            <a:r>
              <a:rPr b="0" lang="en-US" sz="2400" spc="-1" strike="noStrike" baseline="30000">
                <a:solidFill>
                  <a:srgbClr val="ffcc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2" dur="2000" fill="hold"/>
                                        <p:tgtEl>
                                          <p:spTgt spid="1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PC dan MP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838080" y="1600200"/>
            <a:ext cx="7543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</a:rPr>
              <a:t>APC atau Average Propensity to Consume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adalah total konsumsi dibagi dengan disposable income. Dalam bentuk rumus, APC dapat ditulis sebagai berikut 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PC =     </a:t>
            </a:r>
            <a:r>
              <a:rPr b="0" lang="el-GR" sz="1800" spc="-1" strike="noStrike">
                <a:solidFill>
                  <a:srgbClr val="ffcc00"/>
                </a:solidFill>
                <a:latin typeface="Arial Black"/>
              </a:rPr>
              <a:t>Δ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C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            </a:t>
            </a:r>
            <a:r>
              <a:rPr b="0" lang="el-GR" sz="1800" spc="-1" strike="noStrike">
                <a:solidFill>
                  <a:srgbClr val="ffcc00"/>
                </a:solidFill>
                <a:latin typeface="Arial Black"/>
              </a:rPr>
              <a:t>Δ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Y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1905120" y="2971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838080" y="3429000"/>
            <a:ext cx="7543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 Black"/>
              </a:rPr>
              <a:t>MPC atau Marginal Propensity to Consume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adalah perubahan konsumsi sebagai akibat perubahan disposable income. Dalam bentuk rumus, MPC dapat ditulis sebagai berikut 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PC =    </a:t>
            </a:r>
            <a:r>
              <a:rPr b="0" lang="el-GR" sz="1800" spc="-1" strike="noStrike">
                <a:solidFill>
                  <a:srgbClr val="ffcc00"/>
                </a:solidFill>
                <a:latin typeface="Arial Black"/>
              </a:rPr>
              <a:t>Δ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C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1905120" y="53341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828800" y="541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cc00"/>
                </a:solidFill>
                <a:latin typeface="Arial Black"/>
              </a:rPr>
              <a:t>Δ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Yd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8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3000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3000"/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3000"/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3000"/>
                                        <p:tgtEl>
                                          <p:spTgt spid="1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3000"/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3000"/>
                                        <p:tgtEl>
                                          <p:spTgt spid="1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ungsi Konsumsi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0" name=""/>
          <p:cNvSpPr/>
          <p:nvPr/>
        </p:nvSpPr>
        <p:spPr>
          <a:xfrm>
            <a:off x="609480" y="1447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Apabila ada campur tangan pemerintah secara matematis pendapatan siap pakai dapat dinyatakan sebagai berikut 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85800" y="2895480"/>
            <a:ext cx="2590920" cy="838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Yd = Y – Tx + T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581280" y="2438280"/>
            <a:ext cx="4343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Dimana 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Yd = Disposable Income,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Y = Pendapatan Nasiona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Tx = Pajak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Tr = Transfer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6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6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770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77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0" dur="77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2" dur="770" fill="hold"/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000"/>
                            </p:stCondLst>
                            <p:childTnLst>
                              <p:par>
                                <p:cTn id="3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000"/>
                            </p:stCondLst>
                            <p:childTnLst>
                              <p:par>
                                <p:cTn id="3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1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1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/>
          <p:nvPr/>
        </p:nvSpPr>
        <p:spPr>
          <a:xfrm>
            <a:off x="0" y="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57200" y="457200"/>
            <a:ext cx="8458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Karena perekonomian hanya terdiri dari dua sektor, maka 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Yd = Y – 0 + 0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Yd = 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Jadi, dalam perekonomian tertutup sederhana besarnya pendapatan siap pakai sama dengan besarnya pendapatan nasiona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57200" y="274320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Hubungan antara pengeluaran konsumsi nasional ( C )  dengan pendapatan nasional ( Y ) dikenal sebagai fungsi konsumsi. Secara matematis hubungan tersebut dapat dituliskan sebagai berikut 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33920" y="3733920"/>
            <a:ext cx="1676160" cy="685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C = f ( Y )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533520" y="457200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Fungsi konsumsi tersebut dapat dijabarkan kembali menjadi 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523880" y="5105520"/>
            <a:ext cx="1676520" cy="685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C = a + bY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429000" y="5054760"/>
            <a:ext cx="4724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Dimana :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a = pengeluaran konsumsi otonom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b = Marginal Propensity to Consume (MPC)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6000"/>
                            </p:stCondLst>
                            <p:childTnLst>
                              <p:par>
                                <p:cTn id="4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7000"/>
                            </p:stCondLst>
                            <p:childTnLst>
                              <p:par>
                                <p:cTn id="4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ABEL PENDAPATAN NASIONAL DAN KONSUMSI NASIONA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01" name=""/>
          <p:cNvGraphicFramePr/>
          <p:nvPr/>
        </p:nvGraphicFramePr>
        <p:xfrm>
          <a:off x="685800" y="1981080"/>
          <a:ext cx="7772400" cy="41306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endapatan Nasional ( Y )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Konsumsi ( C ) ( Rp )</a:t>
                      </a:r>
                      <a:endParaRPr b="0" lang="en-US" sz="20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5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35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6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65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0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8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120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950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3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3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0:08:57Z</dcterms:created>
  <dc:creator>Dimas_2</dc:creator>
  <dc:description/>
  <dc:language>en-US</dc:language>
  <cp:lastModifiedBy>User</cp:lastModifiedBy>
  <dcterms:modified xsi:type="dcterms:W3CDTF">2008-08-01T05:01:56Z</dcterms:modified>
  <cp:revision>97</cp:revision>
  <dc:subject/>
  <dc:title>Slide 1</dc:title>
</cp:coreProperties>
</file>