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gif" ContentType="image/gif"/>
  <Override PartName="/ppt/media/image10.gif" ContentType="image/gif"/>
  <Override PartName="/ppt/media/image13.png" ContentType="image/png"/>
  <Override PartName="/ppt/media/image9.png" ContentType="image/png"/>
  <Override PartName="/ppt/media/image17.wmf" ContentType="image/x-wmf"/>
  <Override PartName="/ppt/media/image8.gif" ContentType="image/gif"/>
  <Override PartName="/ppt/media/image19.png" ContentType="image/png"/>
  <Override PartName="/ppt/media/image18.png" ContentType="image/png"/>
  <Override PartName="/ppt/media/image16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14.wmf" ContentType="image/x-wmf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A0E-4548-47C2-AAE4-A4804C72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A77-61E8-4542-B22F-82DFA22C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5A46F-351D-432C-ABD1-1FBD98BF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1DBE1-A59D-4EEC-A4F6-063FEB51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17183-CB09-40EC-801C-90EB63AA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FB5D6-7BFD-45D0-90B0-9D04ECD3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030D3-5353-4AA7-9997-9AA6EF54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100ED-0F27-446E-BC79-B6FAD73C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0A6B4-8915-4F4D-943F-2764B476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24E19-8D9F-4009-A986-B2746670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70E1A-BB3C-4720-920A-3E50F218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2FAA0C-DD66-4541-8E0A-FE73EB9A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2770-7976-4C90-8468-E3CF8671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50374B-C2B3-4116-B462-94F98162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BFC878-1DEA-4BC1-AF7C-CE6F13C7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D576FF-FC21-4BD9-B65E-5354F8E6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39E112-BCB0-4869-8734-E9CCEDB9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0E91D6-0FBE-4DFE-9031-1C0B69AE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2CFB5A-1BF5-4CF1-B496-EFEC09CF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C1EB07-AD2C-49D2-948F-5BE2E5A8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E64F67-BC2D-4D81-91D3-910C375B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C2D0A1-4EFE-43BC-9326-42B46F35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51A48D-B0C8-43E5-AF84-B7204393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DC9-6A57-4341-AEF3-4E91C608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EB43CE-C214-4CE9-9EB4-6260CC48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3CFD9-EC9A-47E0-AB97-C4E0CFE1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5A9CC-8665-41B2-A67A-6665ABB7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41046-2373-490C-814D-24130F94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7884D-1969-4815-86F6-0E0DC3A9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5BDC2-DCC3-43FD-B3D3-158D3F08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08F65-EEEC-4D13-AFA7-AEE5D656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58BA4-99DC-467B-9514-2ED70AAD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CF99C-0064-4B84-B49B-1067B06A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ACB99-5E61-4FD2-8C79-7045B9DC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C814-2897-4DDB-9D1F-A725C20B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4EF25-5D6B-4112-853E-0A4C786D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E2688-A691-4CDA-B345-914703A8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99BDD-B8E7-4F3D-9FC4-02417DBC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D1CC7-EF2E-4C4B-8113-B7BC0CFE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DF59A-693C-4CE9-BC28-78BC74B4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50343-4827-4808-9D9A-19B09130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877AB-33E2-4351-AEB5-9942E4C6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5E745-5D11-4F7B-BA7C-8A41A9C5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BAD3B-BDA6-4CC5-8597-B46241DB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7F661-D8EC-45F8-8B11-EC7E8F5F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E3A9-031D-4DA6-BE9F-4BEF85DC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51108-B2B9-4CF0-93F4-A9334E03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D1B93-B837-4832-8A3F-3AE3FC41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BFD28-428F-4C8C-AA24-DECA3CFE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B7E2D-6380-4BD0-9FCB-8B7C9372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F9AF4-C923-4D3A-9A1B-28827B5D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4CA002-F151-4A80-B294-255E0062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FBEBF3-9C74-4C8D-9813-667E3F1F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28FED9-EF42-4A5E-A089-EA41D160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1DCB5D-5900-435F-A3FE-6F205019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F22520-3941-4096-9277-65DB61A4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9D83-5A78-4C19-8866-A8C903C4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84DD9B-2EF6-4093-971C-2535B0D1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05EDFD-FE95-4CDD-8FBA-B94B5601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0C9CC3-9E3E-41D8-BD62-9BB3682F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A4BF5C-025B-40FA-93A1-2B783339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EC10FD-C37D-4B19-8E64-F48F20FC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671A05-6CAF-455D-A942-1E8C6001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E61346-D4EE-4E3D-B46A-E329E9EA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1D062-2015-4F58-A3EC-C34A785A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8F6F9-7888-410F-A992-7F80BA96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89E584-A224-404A-88AB-F4B52E16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B6AA-9474-4D8A-9D3B-6659477A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61C2D-3441-427F-90AB-5A095FEA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E81E19-A05A-485A-B90C-0C74FD9A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D2211-8D7C-4BF4-A415-74E1ACD8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64D890-C722-465B-86BD-9484A642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C54CA-217D-4F23-8B87-57C71678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214315-270F-4BFC-9510-4E1F5BBB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7DC92-E2B9-4FD5-B889-8537F897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9D80A-1E7F-4EEC-8DA3-989704B8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D091C-5A89-40C9-93E0-562D680F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88CA-9A48-4403-AB40-930145FF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2C42-54DC-4994-9615-C50D596F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2962-C1F9-449C-954A-7D67114C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116-2E1A-4B0A-9CA6-042CF53C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62FA-C07A-43F4-A2CD-294C662D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4D65-EFB0-440B-9FAA-0AFFBED6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4778-02CC-4223-B07A-CBD7E6E0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8712-524E-40B9-AABA-188C10FE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D9FE-5AAF-45B9-95DD-8070F6FF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BB26D-44B4-48C2-AD7E-25F8D3B9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584EC-6041-4375-994A-9DB28043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142FA-643B-4457-97B0-6E79173C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BA17-4E7B-4896-ADB3-E0B6944A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E3AF9-97F4-4212-9B9B-B74B4C2C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9DA-DE3F-446F-A87F-EB690E40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7EE5E-AD7F-45D1-8F3C-4C65BBDF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E7BF5-98A6-4A91-9EAC-284E9BCF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2EA8D-6170-4567-BADA-ECBB04FE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DDBB2-3E0A-4CCA-ABAA-6349FE1F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1D97F-1607-4284-809D-79F7A1EB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DB07F-E415-402A-BCE9-8E6EE754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6A54A-6634-431F-85C7-2B9E79BA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27BC6-2DAF-482A-A946-9B724CC4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0C2AA-44DF-44BE-9266-CB1B72F7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1A5ED6-C30D-4CFB-9F2B-B526DF13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76F-6DC2-4289-A29F-7AC307C6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F48974-7B19-434C-AB4B-2172EC81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31DAC0-3274-4CBC-ADD4-5ECD8570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E36107-C6AF-463D-B238-22A981C9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98FD44-140E-46DF-8A2E-61712ACF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CB6F5-EA4E-438C-98C0-2C82AC19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65A3E0-E395-4042-825F-F6A09FC3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E5ABA7-6E0E-4677-B3E5-4C372691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716A2-299D-4544-A09B-E34E014D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C1162D-7D84-47F4-A80A-81CC2BEE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FC694-C4E4-41E6-BF7D-1F4856CC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4E7-CDBD-4286-A700-C2796CE2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2D430-D1E2-418F-BF77-934DF72C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C549D-B4D1-4044-9CF7-7E419F7D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ACA46-1E7F-49CC-91C1-4DB9E044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EC84D-BE8B-41DC-9160-D69C76F3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A4CB9-2268-4FD8-8BC7-CE17A5B0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02938-80FD-43AB-AAFC-3A699920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5611B-7ED2-4B98-8E8F-B2A0D207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E74C6-ADF9-4FCC-94CA-2A65C561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DDEF6-79DA-4F47-8941-9ADD1D1B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37A09-F612-49DC-97B8-E8551D53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A159-1464-46A3-82C5-F07BBBB9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8C2D7-3831-4D78-B52E-D9C1B92D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6DE76-5844-4000-8959-4A8B4DAA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61E5B-F23B-4185-90B3-E1F2B780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BAE2B-0C27-48F3-878E-A6E0C6A5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7BE89-D0AB-4121-BCEF-36024826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A8055-A5D0-47AC-9FCD-C673E4B6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395D4-73B8-490C-B333-8834C3D2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83730-9639-4BC2-A7AD-7A277F16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67C4C-F70F-425A-9D56-3915C115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58B4B-BB76-4367-9C3B-37C75CF8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FFE4-A2F6-4D6A-8B92-7369A11F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F7758-3437-4CF3-85FE-E12597CF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8845A-1C90-4B91-B65F-4019041B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0061A-AA8D-4597-B6D7-002BF40C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BA53F-B533-4B07-B9E8-5C159C20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A5DA9-1D33-46EA-A767-8309B494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AD982-A0A7-4934-95EB-2495A190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FB0BB-BED4-4F2C-8B6F-BBEDD520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236CA-596D-41DA-822B-534DCB49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D750E-C2AC-4598-9899-B590B474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B7049-DC01-43E6-8E5D-32058384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579-7D02-43D7-BFE3-13B9EE55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019C9-0F2C-49E6-B544-D1C1B586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E266D-ABC8-4472-9BF8-B62383C1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B4005-FD25-4074-A7B6-EF69B1E3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0E5A4-9106-40E0-8A4B-8A28C306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D80D7-4822-46CF-B04D-73077216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93DC0-8735-4770-B4CF-06C7086E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1B75E-3152-4DF1-BCFC-046C920A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50097-E0CD-498A-87CC-15925193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055F7-791F-4472-AF42-F3E1552A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5B813-DDD5-4DAB-B804-5476EC4F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BC4C-8024-4EF4-90FE-2F2E24AE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DBC68-A0B6-43CE-9A33-EFDFCE18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9C97B-2AA1-47DD-8F6F-7E6F3AF1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4D9E7-97F7-4074-AAA3-7750A740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9A71B-390A-497B-9F88-371832FF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50A6C-9444-4F17-A81D-F4E2D57B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3D947-C56F-4E64-B8C5-933859EF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EF7AB-FDC6-4512-B45C-0BA3CE6F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457DB-B7F9-44FC-9919-4DEA3650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7646C-5054-47CF-9398-C9DC53B1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B2115-7AEF-4A81-AF33-1383AB02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33.xml"/><Relationship Id="rId32" Type="http://schemas.openxmlformats.org/officeDocument/2006/relationships/slideLayout" Target="../slideLayouts/slideLayout134.xml"/><Relationship Id="rId33" Type="http://schemas.openxmlformats.org/officeDocument/2006/relationships/slideLayout" Target="../slideLayouts/slideLayout135.xml"/><Relationship Id="rId34" Type="http://schemas.openxmlformats.org/officeDocument/2006/relationships/slideLayout" Target="../slideLayouts/slideLayout136.xml"/><Relationship Id="rId35" Type="http://schemas.openxmlformats.org/officeDocument/2006/relationships/slideLayout" Target="../slideLayouts/slideLayout137.xml"/><Relationship Id="rId36" Type="http://schemas.openxmlformats.org/officeDocument/2006/relationships/slideLayout" Target="../slideLayouts/slideLayout138.xml"/><Relationship Id="rId37" Type="http://schemas.openxmlformats.org/officeDocument/2006/relationships/slideLayout" Target="../slideLayouts/slideLayout139.xml"/><Relationship Id="rId38" Type="http://schemas.openxmlformats.org/officeDocument/2006/relationships/slideLayout" Target="../slideLayouts/slideLayout140.xml"/><Relationship Id="rId39" Type="http://schemas.openxmlformats.org/officeDocument/2006/relationships/slideLayout" Target="../slideLayouts/slideLayout141.xml"/><Relationship Id="rId40" Type="http://schemas.openxmlformats.org/officeDocument/2006/relationships/slideLayout" Target="../slideLayouts/slideLayout142.xml"/><Relationship Id="rId41" Type="http://schemas.openxmlformats.org/officeDocument/2006/relationships/slideLayout" Target="../slideLayouts/slideLayout143.xml"/><Relationship Id="rId4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5EEB-23FA-4139-BA8D-F901513E425B}" type="slidenum">
              <a:rPr b="0" lang="ar-SA" sz="14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5EC3-F3BF-4BA3-8B4B-BC1A1576E2F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D1C3-9625-474A-A6C3-2A0E78DBD957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9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89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9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9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9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0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0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0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1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1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3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A308-CDEC-4329-BC02-D80236C9A689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1"/>
    <p:sldLayoutId id="2147483793" r:id="rId32"/>
    <p:sldLayoutId id="2147483794" r:id="rId33"/>
    <p:sldLayoutId id="2147483795" r:id="rId34"/>
    <p:sldLayoutId id="2147483796" r:id="rId35"/>
    <p:sldLayoutId id="2147483797" r:id="rId36"/>
    <p:sldLayoutId id="2147483798" r:id="rId37"/>
    <p:sldLayoutId id="2147483799" r:id="rId38"/>
    <p:sldLayoutId id="2147483800" r:id="rId39"/>
    <p:sldLayoutId id="2147483801" r:id="rId40"/>
    <p:sldLayoutId id="2147483802" r:id="rId41"/>
    <p:sldLayoutId id="2147483803" r:id="rId4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8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8D41-4E00-4CD0-8BD4-A6C6186CCBA0}" type="slidenum">
              <a:rPr b="0" lang="ar-SA" sz="10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0A00-041C-48A0-906D-987D259AD383}" type="slidenum">
              <a:rPr b="0" lang="ar-SA" sz="10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C1BB-2710-47D6-9AF8-AB276CDC18A5}" type="slidenum">
              <a:rPr b="0" lang="ar-SA" sz="14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5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5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08F9-F431-4B73-BDE9-9092CB343C3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1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1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9725-55CE-4F87-A865-50216DA0922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873F-A5AE-4AAB-BBE6-0E92B625AC23}" type="slidenum">
              <a:rPr b="0" lang="ar-SA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7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0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0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51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E654-20DE-4AF3-ABCF-47DB8D4E4E54}" type="slidenum">
              <a:rPr b="0" lang="ar-SA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6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7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7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7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62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6726-C7CD-47AD-B538-69AFC6AD7E96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66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74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DB06-439D-4EF3-8D0C-B5B0627F06FF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2428-B9B9-42C2-A87E-F5FBF37D7A4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2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gif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5" name="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47960" cy="80028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228600" y="838080"/>
            <a:ext cx="8915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enaCapsSSi"/>
              </a:rPr>
              <a:t>TOT TIM FASILITATOR </a:t>
            </a:r>
            <a:br>
              <a:rPr sz="2400"/>
            </a:br>
            <a:r>
              <a:rPr b="1" lang="en-US" sz="2400" spc="-1" strike="noStrike">
                <a:solidFill>
                  <a:srgbClr val="800080"/>
                </a:solidFill>
                <a:latin typeface="ArenaCapsSSi"/>
              </a:rPr>
              <a:t>PENGEMBANGAN BAHAN AJAR DAN UJIAN </a:t>
            </a:r>
            <a:br>
              <a:rPr sz="2400"/>
            </a:br>
            <a:r>
              <a:rPr b="1" lang="en-US" sz="2400" spc="-1" strike="noStrike">
                <a:solidFill>
                  <a:srgbClr val="800080"/>
                </a:solidFill>
                <a:latin typeface="ArenaCapsSSi"/>
              </a:rPr>
              <a:t>BERBASIS TIK/ICT SMA TAHUN 2007</a:t>
            </a:r>
            <a:br>
              <a:rPr sz="2400"/>
            </a:br>
            <a:r>
              <a:rPr b="1" lang="en-US" sz="2400" spc="-1" strike="noStrike">
                <a:solidFill>
                  <a:srgbClr val="ff99cc"/>
                </a:solidFill>
                <a:latin typeface="ArenaCapsSSi"/>
              </a:rPr>
              <a:t>30 APRIL – 5 MEI 2007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28600" y="548640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enaCapsSSi"/>
              </a:rPr>
              <a:t>JAYA RAYA RESORT HOTEL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enaCapsSSi"/>
              </a:rPr>
              <a:t>JL. RAYA PUNCAK CISARUA - BOGO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629400" y="3657600"/>
            <a:ext cx="1219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2733" fill="hold"/>
                                        <p:tgtEl>
                                          <p:spTgt spid="1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RAFIK FUNGSI KONSUMSI NASION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0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6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6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agaimana cara menentukankan fungsi konsumsi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6" name=""/>
          <p:cNvSpPr/>
          <p:nvPr/>
        </p:nvSpPr>
        <p:spPr>
          <a:xfrm>
            <a:off x="380880" y="17524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 = a + b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b = MPC =   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Δ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C   = 150 / 200 = 0,75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 = a + b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 = a + 0,75 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50 = a + 0,75 (0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 = 50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Persamaan fungsi konsumsi dapat dirumuskan 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 = 50 + 0,75 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335268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Δ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Y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565440" y="2949480"/>
            <a:ext cx="6098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155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9" dur="1155" fill="hold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1" dur="1155" fill="hold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3" dur="1155" fill="hold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155"/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0" dur="1155" fill="hold"/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2" dur="1155" fill="hold"/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4" dur="1155" fill="hold"/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77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770" fill="hold"/>
                                        <p:tgtEl>
                                          <p:spTgt spid="1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1" dur="77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3" dur="77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155"/>
                                        <p:tgtEl>
                                          <p:spTgt spid="1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1155" fill="hold"/>
                                        <p:tgtEl>
                                          <p:spTgt spid="1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2" dur="1155" fill="hold"/>
                                        <p:tgtEl>
                                          <p:spTgt spid="1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4" dur="1155" fill="hold"/>
                                        <p:tgtEl>
                                          <p:spTgt spid="1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155"/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1155" fill="hold"/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7" dur="1155" fill="hold"/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9" dur="1155" fill="hold"/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155"/>
                                        <p:tgtEl>
                                          <p:spTgt spid="1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155" fill="hold"/>
                                        <p:tgtEl>
                                          <p:spTgt spid="1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8" dur="1155" fill="hold"/>
                                        <p:tgtEl>
                                          <p:spTgt spid="1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0" dur="1155" fill="hold"/>
                                        <p:tgtEl>
                                          <p:spTgt spid="1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155"/>
                                        <p:tgtEl>
                                          <p:spTgt spid="1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6" dur="1155" fill="hold"/>
                                        <p:tgtEl>
                                          <p:spTgt spid="1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8" dur="1155" fill="hold"/>
                                        <p:tgtEl>
                                          <p:spTgt spid="1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0" dur="1155" fill="hold"/>
                                        <p:tgtEl>
                                          <p:spTgt spid="1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155"/>
                                        <p:tgtEl>
                                          <p:spTgt spid="1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7" dur="1155" fill="hold"/>
                                        <p:tgtEl>
                                          <p:spTgt spid="1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9" dur="1155" fill="hold"/>
                                        <p:tgtEl>
                                          <p:spTgt spid="1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1" dur="1155" fill="hold"/>
                                        <p:tgtEl>
                                          <p:spTgt spid="1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155"/>
                                        <p:tgtEl>
                                          <p:spTgt spid="1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1155" fill="hold"/>
                                        <p:tgtEl>
                                          <p:spTgt spid="1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1155" fill="hold"/>
                                        <p:tgtEl>
                                          <p:spTgt spid="1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1155" fill="hold"/>
                                        <p:tgtEl>
                                          <p:spTgt spid="1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NTUK FUNGSI KONSUMS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0" name=""/>
          <p:cNvSpPr/>
          <p:nvPr/>
        </p:nvSpPr>
        <p:spPr>
          <a:xfrm>
            <a:off x="457200" y="1600200"/>
            <a:ext cx="8305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Empat ciri penting dari fungsi konsumsi yaitu :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Terdapat tingkat impas (break even level) dari pendapatan, yaitu tingkat dimana seluruh disposable income rumah tangga digunakan untuk kegiatan konsumsi. ( APC = 1 )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Di bawah tingkat impas, ada Dissaving, yaitu keadaan dimana konsumsi rumah tangga lebih besar daripada disposable income, sehingga rumah tangga melakukan pinjaman atau menggunakan tabungan sebelumnya. ( APC &gt; 1 )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Di atas tingkat impas, sebagian dari disposable income digunakan untuk kegiatan konsumsi dan sisanya ditabung ( APC &lt; 1 )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Setiap peningkatan disposable income akan menyebabkan kegiatan konsumsi meningkat. Tetapi, besarnya peningkatan konsumsi lebih rendah daripada peningkatan disposable income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Untuk semuanya, 0&lt;MPC&lt;1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3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6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RIS 4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304920" y="99072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Garis 45</a:t>
            </a:r>
            <a:r>
              <a:rPr b="0" lang="en-US" sz="1600" spc="-1" strike="noStrike" baseline="30000">
                <a:solidFill>
                  <a:srgbClr val="ffcc00"/>
                </a:solidFill>
                <a:latin typeface="Arial Black"/>
              </a:rPr>
              <a:t>0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adalah garis yang menghubungkan titik – titik di mana konsumsi yang diinginkan sama dengan disposable income. Garis ini membantu menentukan tingkat impas, yaitu perpotongan antara garis 45</a:t>
            </a:r>
            <a:r>
              <a:rPr b="0" lang="en-US" sz="1600" spc="-1" strike="noStrike" baseline="30000">
                <a:solidFill>
                  <a:srgbClr val="ffcc00"/>
                </a:solidFill>
                <a:latin typeface="Arial Black"/>
              </a:rPr>
              <a:t>0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dengan kurva konsumsi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213" name=""/>
          <p:cNvGraphicFramePr/>
          <p:nvPr/>
        </p:nvGraphicFramePr>
        <p:xfrm>
          <a:off x="1143000" y="2133720"/>
          <a:ext cx="69087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6908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48720" y="6019920"/>
            <a:ext cx="10000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380880" y="14320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BANANAPIEfont"/>
              </a:rPr>
              <a:t>TABUNGAN ( SAVING )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33520" y="16002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57200" y="1447920"/>
            <a:ext cx="8305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762120" y="2438280"/>
            <a:ext cx="7772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verage Propensity to Saving (APS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ginal Propensity to Consume (MPS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ungsi Tabunga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rafik Tabunga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2" dur="2000"/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" dur="2000"/>
                                        <p:tgtEl>
                                          <p:spTgt spid="1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000"/>
                            </p:stCondLst>
                            <p:childTnLst>
                              <p:par>
                                <p:cTn id="6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0" dur="2000"/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8000"/>
                            </p:stCondLst>
                            <p:childTnLst>
                              <p:par>
                                <p:cTn id="6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4" dur="2000"/>
                                        <p:tgtEl>
                                          <p:spTgt spid="1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Arial"/>
              </a:rPr>
              <a:t>Fungsi Tabung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0" y="1219320"/>
            <a:ext cx="9144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ecara matematis, fungsi tabungan dapat dinyatakan sebagai berikut :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 = f ( Y )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Karena tabungan nasional merupakan bagian dari pendapatan nasional yang tidak digunakan untuk konsumsi nasional, maka fungsi tabungan tersebut sebenarnya diperoleh dari :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 = Y – C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= Y – ( a + bY )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= Y – a – bY, sehingga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 = - a + ( 1 – b ) Y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Dimana : a = tabungan otonom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 – b = MPS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MPS = 1 – b, karena b = MPC, maka MPS + MPC = 1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04920" y="228600"/>
            <a:ext cx="8458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abel Pendapatan Nasional dan Tabungan Nasional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25" name=""/>
          <p:cNvGraphicFramePr/>
          <p:nvPr/>
        </p:nvGraphicFramePr>
        <p:xfrm>
          <a:off x="1447920" y="1676520"/>
          <a:ext cx="6400800" cy="4443120"/>
        </p:xfrm>
        <a:graphic>
          <a:graphicData uri="http://schemas.openxmlformats.org/drawingml/2006/table">
            <a:tbl>
              <a:tblPr/>
              <a:tblGrid>
                <a:gridCol w="3200400"/>
                <a:gridCol w="3200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PENDAPATAN NASIONAL ( Y 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TABUNGAN NASIONAL ( S 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5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5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25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6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Grafik Fungsi Tabungan Nasion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914400" y="2286000"/>
            <a:ext cx="6324120" cy="4038120"/>
            <a:chOff x="914400" y="2286000"/>
            <a:chExt cx="6324120" cy="4038120"/>
          </a:xfrm>
        </p:grpSpPr>
        <p:sp>
          <p:nvSpPr>
            <p:cNvPr id="1228" name=""/>
            <p:cNvSpPr/>
            <p:nvPr/>
          </p:nvSpPr>
          <p:spPr>
            <a:xfrm>
              <a:off x="1526400" y="2286000"/>
              <a:ext cx="1800" cy="40381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914400" y="5559840"/>
              <a:ext cx="601812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1526400" y="4032360"/>
              <a:ext cx="5202360" cy="1964160"/>
            </a:xfrm>
            <a:prstGeom prst="line">
              <a:avLst/>
            </a:prstGeom>
            <a:ln w="381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526400" y="5232600"/>
              <a:ext cx="530424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526400" y="4250160"/>
              <a:ext cx="530424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526400" y="4905000"/>
              <a:ext cx="530424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526400" y="4577760"/>
              <a:ext cx="530424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526400" y="3922920"/>
              <a:ext cx="530424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832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138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444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750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056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362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668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974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280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86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892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198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50476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81076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11676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42276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72876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526400" y="3595320"/>
              <a:ext cx="530424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526400" y="3268080"/>
              <a:ext cx="530424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526400" y="2940480"/>
              <a:ext cx="530424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526400" y="2613240"/>
              <a:ext cx="530424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648160" y="5669280"/>
              <a:ext cx="45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Comic Sans MS"/>
                </a:rPr>
                <a:t>200    400            600           800           1000   1200</a:t>
              </a:r>
              <a:endParaRPr b="0" lang="en-US" sz="10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914400" y="5887440"/>
              <a:ext cx="53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Comic Sans MS"/>
                </a:rPr>
                <a:t>-50</a:t>
              </a:r>
              <a:endParaRPr b="0" lang="en-US" sz="10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016280" y="5559840"/>
              <a:ext cx="53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016280" y="5014440"/>
              <a:ext cx="53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Comic Sans MS"/>
                </a:rPr>
                <a:t>50</a:t>
              </a:r>
              <a:endParaRPr b="0" lang="en-US" sz="10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914400" y="4687200"/>
              <a:ext cx="53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Comic Sans MS"/>
                </a:rPr>
                <a:t>100</a:t>
              </a:r>
              <a:endParaRPr b="0" lang="en-US" sz="10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914400" y="4359600"/>
              <a:ext cx="53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Comic Sans MS"/>
                </a:rPr>
                <a:t>150</a:t>
              </a:r>
              <a:endParaRPr b="0" lang="en-US" sz="10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914400" y="4032360"/>
              <a:ext cx="63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Comic Sans MS"/>
                </a:rPr>
                <a:t>200</a:t>
              </a:r>
              <a:endParaRPr b="0" lang="en-US" sz="10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914400" y="3704760"/>
              <a:ext cx="63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Comic Sans MS"/>
                </a:rPr>
                <a:t>250</a:t>
              </a:r>
              <a:endParaRPr b="0" lang="en-US" sz="10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640080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Y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762120" y="2438280"/>
            <a:ext cx="380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762120" y="2514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04920" y="301320"/>
            <a:ext cx="632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Bagaimana cara menentukankan fungsi tabungan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9" name=""/>
          <p:cNvSpPr/>
          <p:nvPr/>
        </p:nvSpPr>
        <p:spPr>
          <a:xfrm>
            <a:off x="0" y="1447920"/>
            <a:ext cx="662940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 = - a + ( 1 – b ) Y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Nilai MPC yaitu 0,75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Jadi nilai MPS = 1 – 0,75 = 0,25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 = - a + 0,25Y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50 = - a + ( 0,25 x 400 )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50 = - a + 100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 = 50 – 100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 = - 50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Maka fungsi tabungannya yaitu :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 = - 50 + 0,25 Y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4000"/>
                            </p:stCondLst>
                            <p:childTnLst>
                              <p:par>
                                <p:cTn id="7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1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1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1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1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1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1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1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Bagaimana Hubungan antara Disposable Income, Konsumsi, dan Tabungan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da saat disposable rendah, rumah tangga akan memanfaatkan tabungannya untuk memenuhi kebutuhan konsum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da saat disposable income tinggi dan melebihi tingkat konsumsi, rumah tangga akan menabu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6" dur="500"/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7" dur="500"/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500"/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3000"/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3000"/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3000"/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0" name=""/>
          <p:cNvGraphicFramePr/>
          <p:nvPr/>
        </p:nvGraphicFramePr>
        <p:xfrm>
          <a:off x="0" y="0"/>
          <a:ext cx="9372600" cy="7010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260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2" name=""/>
          <p:cNvSpPr/>
          <p:nvPr/>
        </p:nvSpPr>
        <p:spPr>
          <a:xfrm>
            <a:off x="228600" y="1523880"/>
            <a:ext cx="8915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27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Arial Black"/>
              </a:rPr>
              <a:t>KONSUMSI DAN INVESTASI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52280" y="376200"/>
            <a:ext cx="899172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Monotype Corsiva"/>
              </a:rPr>
              <a:t>BAHAN AJAR EKONOMI 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Monotype Corsiva"/>
              </a:rPr>
              <a:t>KELAS X SEMESTER 2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4" name="">
            <a:hlinkClick r:id="rId3" action="ppaction://hlinksldjump"/>
          </p:cNvPr>
          <p:cNvSpPr/>
          <p:nvPr/>
        </p:nvSpPr>
        <p:spPr>
          <a:xfrm>
            <a:off x="6629400" y="3429000"/>
            <a:ext cx="13716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 Black"/>
              </a:rPr>
              <a:t>SK / KD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629400" y="3962520"/>
            <a:ext cx="1371600" cy="304560"/>
          </a:xfrm>
          <a:prstGeom prst="rect">
            <a:avLst/>
          </a:prstGeom>
          <a:solidFill>
            <a:srgbClr val="ffc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 Black"/>
              </a:rPr>
              <a:t>RPP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6" name="">
            <a:hlinkClick r:id="rId4" action="ppaction://hlinksldjump"/>
          </p:cNvPr>
          <p:cNvSpPr/>
          <p:nvPr/>
        </p:nvSpPr>
        <p:spPr>
          <a:xfrm>
            <a:off x="6591240" y="5029200"/>
            <a:ext cx="13716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 Black"/>
              </a:rPr>
              <a:t>Materi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591240" y="4495680"/>
            <a:ext cx="13716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 Black"/>
              </a:rPr>
              <a:t>LKS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057400" y="55627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Oleh 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TikTik Sukmawati, S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SMA NEGERI 61 JAKARTA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3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2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Apa saja Faktor – Faktor yang Mempengaruhi Konsumsi dan Tabungan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kayaan yang terkump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kap berhe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ku Bun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disi Perekonom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 Dana Pensiun Pemerint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2" dur="2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1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1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1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VESTAS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0" y="1219320"/>
            <a:ext cx="769608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nvestasi adalah penanaman modal. Dalam menghitung jumlah investasi, pengeluaran yang dicatat adalah sebagai berikut 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mbelian berbagai jenis barang modal seperti mesin – mesin dan peralatan produksi lainnya untuk menjalankan berbagai jenis usaha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ngeluaran untuk membeli rumah, mendirikan pabrik, dan mendirikan gedung perkantora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nambahan nilai stok barang – barang yang belum terjual, bahan mentah, dan barang – barang dalam proses produksi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putusan mengenai apakah masyarakat produsen akan melakukan investasi atau tidak pada dasarnya dilakukan dengan cara membandingkan Marginal Benefit ( MB ) dan Marginal Cost ( MC ). MB berupa keuntungan yang diramalkan  ( Expected Rate of Return ( r) ) dan MC berupa Tingkat Bunga ( Interest Rate (i))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buah proyek investasi dapat dilakukan apabila r &gt; i atau paling tidak r = i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2280" y="1219320"/>
            <a:ext cx="7467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800"/>
                            </p:stCondLst>
                            <p:childTnLst>
                              <p:par>
                                <p:cTn id="9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1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1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1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800"/>
                            </p:stCondLst>
                            <p:childTnLst>
                              <p:par>
                                <p:cTn id="9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3000"/>
                                        <p:tgtEl>
                                          <p:spTgt spid="1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3000" fill="hold"/>
                                        <p:tgtEl>
                                          <p:spTgt spid="1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3000" fill="hold"/>
                                        <p:tgtEl>
                                          <p:spTgt spid="1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800"/>
                            </p:stCondLst>
                            <p:childTnLst>
                              <p:par>
                                <p:cTn id="9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3000"/>
                                        <p:tgtEl>
                                          <p:spTgt spid="1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3000" fill="hold"/>
                                        <p:tgtEl>
                                          <p:spTgt spid="1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000" fill="hold"/>
                                        <p:tgtEl>
                                          <p:spTgt spid="1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9800"/>
                            </p:stCondLst>
                            <p:childTnLst>
                              <p:par>
                                <p:cTn id="9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3000"/>
                                        <p:tgtEl>
                                          <p:spTgt spid="1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3000" fill="hold"/>
                                        <p:tgtEl>
                                          <p:spTgt spid="1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3000" fill="hold"/>
                                        <p:tgtEl>
                                          <p:spTgt spid="1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00"/>
                            </p:stCondLst>
                            <p:childTnLst>
                              <p:par>
                                <p:cTn id="9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1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Comic Sans MS"/>
              </a:rPr>
              <a:t>Akumulasi Pengeluaran Investasi pada Berbagai tingkat Keuntungan yang Diramalkan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284" name=""/>
          <p:cNvGraphicFramePr/>
          <p:nvPr/>
        </p:nvGraphicFramePr>
        <p:xfrm>
          <a:off x="228600" y="1447920"/>
          <a:ext cx="7386480" cy="53737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Keuntungan yang diramalkan ( r 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kumulasi Pengeluaran Investasi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in" orient="vert"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2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8" dur="2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Kurva Permintaan Investas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286" name=""/>
          <p:cNvGraphicFramePr/>
          <p:nvPr/>
        </p:nvGraphicFramePr>
        <p:xfrm>
          <a:off x="911160" y="181440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1160" y="181440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sh dir="l"/>
  </p:transition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2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PERHITUNGAN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89" name=""/>
          <p:cNvSpPr/>
          <p:nvPr/>
        </p:nvSpPr>
        <p:spPr>
          <a:xfrm>
            <a:off x="914400" y="1371600"/>
            <a:ext cx="769608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ungsi Inventasi mempunyai bentuk umum 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 = a + bi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imana a = investasi oton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 = MPI ( Marginal Propensity to Invest 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l-GR" sz="2000" spc="-1" strike="noStrike">
                <a:solidFill>
                  <a:srgbClr val="ffffff"/>
                </a:solidFill>
                <a:latin typeface="Comic Sans MS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Comic Sans MS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Yd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rdasarkan tabel, maka :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PI = 50 = -25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495680" y="34290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457200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2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1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1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1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1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1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1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1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1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7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914400" y="1371600"/>
            <a:ext cx="7696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hingga pada suku bunga 12 %, jumlah investasi yang diminta Rp 100, maka 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 = a + bi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0 = a + ( - 25 x 12 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0 = a + ( - 300 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= 400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adi, persamaan permintaan investasi dapat dinyatakan sebagai berikut 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 = 400 – 25i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1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1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3" name="" descr=""/>
          <p:cNvPicPr/>
          <p:nvPr/>
        </p:nvPicPr>
        <p:blipFill>
          <a:blip r:embed="rId1"/>
          <a:stretch/>
        </p:blipFill>
        <p:spPr>
          <a:xfrm>
            <a:off x="255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4" name=""/>
          <p:cNvSpPr txBox="1"/>
          <p:nvPr/>
        </p:nvSpPr>
        <p:spPr>
          <a:xfrm>
            <a:off x="2743200" y="1066680"/>
            <a:ext cx="4114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600200" y="373392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1f08"/>
                </a:solidFill>
                <a:latin typeface="Verdana"/>
              </a:rPr>
              <a:t>TERIMA KASIH ATAS PERHATIANNYA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8" dur="240903" fill="hold"/>
                                        <p:tgtEl>
                                          <p:spTgt spid="1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5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path" presetID="9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1116" dur="3000" fill="hold"/>
                                        <p:tgtEl>
                                          <p:spTgt spid="1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7" nodeType="withEffect" fill="remove" presetClass="emph" presetID="33">
                                  <p:stCondLst>
                                    <p:cond delay="8500"/>
                                  </p:stCondLst>
                                  <p:childTnLst>
                                    <p:animClr clrSpc="rgb">
                                      <p:cBhvr>
                                        <p:cTn id="1118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1119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1120" dur="5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21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50">
                                  <p:stCondLst>
                                    <p:cond delay="1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0" fill="hold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0" fill="hold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mph" presetID="20">
                                  <p:stCondLst>
                                    <p:cond delay="18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128" dur="1500" autoRev="1" fill="hold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1129" dur="1500" autoRev="1" fill="hold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1130" dur="1500" autoRev="1" fill="hold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0" name=""/>
          <p:cNvGraphicFramePr/>
          <p:nvPr/>
        </p:nvGraphicFramePr>
        <p:xfrm>
          <a:off x="0" y="0"/>
          <a:ext cx="9220320" cy="693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2" name="">
            <a:hlinkClick r:id="rId3" action="ppaction://hlinksldjump"/>
          </p:cNvPr>
          <p:cNvSpPr/>
          <p:nvPr/>
        </p:nvSpPr>
        <p:spPr>
          <a:xfrm>
            <a:off x="685800" y="1143000"/>
            <a:ext cx="7848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STANDAR KOMPETENS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Memahami Konsumsi dan Investasi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57200" y="45720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Arial Black"/>
              </a:rPr>
              <a:t>Mendeskripsikan fungsi konsumsi dan fungsi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99cc"/>
                </a:solidFill>
                <a:latin typeface="Arial Black"/>
              </a:rPr>
              <a:t>tabunga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Arial Black"/>
              </a:rPr>
              <a:t>Mendeskripsikan kurva permintaan investasi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828800" y="4597560"/>
            <a:ext cx="571500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 Black"/>
              </a:rPr>
              <a:t>KOMPETENSI DASA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72400" y="228600"/>
            <a:ext cx="11430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20320" cy="692316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152280" y="152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 Black"/>
              </a:rPr>
              <a:t>MEMAHAMI KONSUMSI DAN TABUNGA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04920" y="5321160"/>
            <a:ext cx="1523880" cy="838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Komponen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endapata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asiona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828800" y="5715000"/>
            <a:ext cx="3049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133720" y="6477120"/>
            <a:ext cx="3045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2133720" y="2743200"/>
            <a:ext cx="0" cy="37339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133720" y="5029200"/>
            <a:ext cx="3045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438280" y="4800600"/>
            <a:ext cx="152424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Tabunga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438280" y="6172200"/>
            <a:ext cx="152424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Investasi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962520" y="6400800"/>
            <a:ext cx="10666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029200" y="6172200"/>
            <a:ext cx="152388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uku Bung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962520" y="502920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343400" y="41911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343400" y="5029200"/>
            <a:ext cx="3049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648320" y="5410080"/>
            <a:ext cx="152388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P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648320" y="4724280"/>
            <a:ext cx="152388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P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343400" y="4191120"/>
            <a:ext cx="3049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648320" y="3886200"/>
            <a:ext cx="1523880" cy="685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ungsi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abunga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934320" y="3886200"/>
            <a:ext cx="0" cy="6094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6934320" y="3886200"/>
            <a:ext cx="2286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34320" y="4495680"/>
            <a:ext cx="2286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7162920" y="3657600"/>
            <a:ext cx="137160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Grafi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7162920" y="4267080"/>
            <a:ext cx="137160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atemati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133720" y="2743200"/>
            <a:ext cx="3045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438280" y="2514600"/>
            <a:ext cx="152424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Konsumsi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962520" y="2743200"/>
            <a:ext cx="4572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19720" y="1676520"/>
            <a:ext cx="0" cy="16761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419720" y="1676520"/>
            <a:ext cx="3045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419720" y="2286000"/>
            <a:ext cx="3045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419720" y="2895480"/>
            <a:ext cx="3045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419720" y="3352680"/>
            <a:ext cx="3045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724280" y="1371600"/>
            <a:ext cx="1524240" cy="685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ungsi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Konsumsi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724280" y="2666880"/>
            <a:ext cx="152424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PC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724280" y="2133720"/>
            <a:ext cx="152424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PC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724280" y="3200400"/>
            <a:ext cx="152424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Garis 45</a:t>
            </a:r>
            <a:r>
              <a:rPr b="0" lang="en-US" sz="1800" spc="-1" strike="noStrike" baseline="30000">
                <a:solidFill>
                  <a:srgbClr val="ffcc00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172200" y="4191120"/>
            <a:ext cx="7621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7010280" y="1371600"/>
            <a:ext cx="0" cy="6094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238880" y="1143000"/>
            <a:ext cx="137160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Grafi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238880" y="1752480"/>
            <a:ext cx="137160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atemati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248520" y="1676520"/>
            <a:ext cx="7617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7010280" y="1371600"/>
            <a:ext cx="2286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010280" y="1981080"/>
            <a:ext cx="2286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6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1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1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77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770" fill="hold"/>
                                        <p:tgtEl>
                                          <p:spTgt spid="1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1180" name="" descr=""/>
          <p:cNvPicPr/>
          <p:nvPr/>
        </p:nvPicPr>
        <p:blipFill>
          <a:blip r:embed="rId2"/>
          <a:stretch/>
        </p:blipFill>
        <p:spPr>
          <a:xfrm rot="20954400">
            <a:off x="837720" y="228600"/>
            <a:ext cx="1971720" cy="1380960"/>
          </a:xfrm>
          <a:prstGeom prst="rect">
            <a:avLst/>
          </a:prstGeom>
          <a:ln w="0">
            <a:noFill/>
          </a:ln>
        </p:spPr>
      </p:pic>
      <p:sp>
        <p:nvSpPr>
          <p:cNvPr id="1181" name=""/>
          <p:cNvSpPr txBox="1"/>
          <p:nvPr/>
        </p:nvSpPr>
        <p:spPr>
          <a:xfrm>
            <a:off x="2057400" y="1447920"/>
            <a:ext cx="5514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3e6f3"/>
                    </a:gs>
                    <a:gs pos="100000">
                      <a:srgbClr val="66ccff"/>
                    </a:gs>
                  </a:gsLst>
                  <a:lin ang="5400000"/>
                </a:gradFill>
                <a:latin typeface="Comic Sans MS"/>
              </a:rPr>
              <a:t>Konsums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3e6f3"/>
                  </a:gs>
                  <a:gs pos="100000">
                    <a:srgbClr val="66cc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182" name=""/>
          <p:cNvSpPr/>
          <p:nvPr/>
        </p:nvSpPr>
        <p:spPr>
          <a:xfrm>
            <a:off x="838080" y="2895480"/>
            <a:ext cx="7696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verage Propensity to Consume (APC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arginal Propensity to Consume (MPC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ungsi Konsumsi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rafik Konsumsi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aris 45</a:t>
            </a:r>
            <a:r>
              <a:rPr b="0" lang="en-US" sz="2400" spc="-1" strike="noStrike" baseline="30000">
                <a:solidFill>
                  <a:srgbClr val="ffcc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2000" fill="hold"/>
                                        <p:tgtEl>
                                          <p:spTgt spid="1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PC dan MP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838080" y="1600200"/>
            <a:ext cx="7543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APC atau Average Propensity to Consume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adalah total konsumsi dibagi dengan disposable income. Dalam bentuk rumus, APC dapat ditulis sebagai berikut 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PC =     </a:t>
            </a:r>
            <a:r>
              <a:rPr b="0" lang="el-GR" sz="1800" spc="-1" strike="noStrike">
                <a:solidFill>
                  <a:srgbClr val="ffcc00"/>
                </a:solidFill>
                <a:latin typeface="Arial Black"/>
              </a:rPr>
              <a:t>Δ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C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            </a:t>
            </a:r>
            <a:r>
              <a:rPr b="0" lang="el-GR" sz="1800" spc="-1" strike="noStrike">
                <a:solidFill>
                  <a:srgbClr val="ffcc00"/>
                </a:solidFill>
                <a:latin typeface="Arial Black"/>
              </a:rPr>
              <a:t>Δ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Y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905120" y="2971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838080" y="3429000"/>
            <a:ext cx="7543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MPC atau Marginal Propensity to Consume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adalah perubahan konsumsi sebagai akibat perubahan disposable income. Dalam bentuk rumus, MPC dapat ditulis sebagai berikut 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PC =    </a:t>
            </a:r>
            <a:r>
              <a:rPr b="0" lang="el-GR" sz="1800" spc="-1" strike="noStrike">
                <a:solidFill>
                  <a:srgbClr val="ffcc00"/>
                </a:solidFill>
                <a:latin typeface="Arial Black"/>
              </a:rPr>
              <a:t>Δ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C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1905120" y="53341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828800" y="541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cc00"/>
                </a:solidFill>
                <a:latin typeface="Arial Black"/>
              </a:rPr>
              <a:t>Δ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Y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3000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3000"/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3000"/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3000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3000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3000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ungsi Konsumsi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0" name=""/>
          <p:cNvSpPr/>
          <p:nvPr/>
        </p:nvSpPr>
        <p:spPr>
          <a:xfrm>
            <a:off x="609480" y="1447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pabila ada campur tangan pemerintah secara matematis pendapatan siap pakai dapat dinyatakan sebagai berikut 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85800" y="2895480"/>
            <a:ext cx="2590920" cy="838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Yd = Y – Tx + T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581280" y="2438280"/>
            <a:ext cx="4343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Dimana 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Yd = Disposable Income,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Y = Pendapatan Nasiona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Tx = Pajak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Tr = Transfe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6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6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000"/>
                            </p:stCondLst>
                            <p:childTnLst>
                              <p:par>
                                <p:cTn id="3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1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0" y="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57200" y="457200"/>
            <a:ext cx="8458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Karena perekonomian hanya terdiri dari dua sektor, maka 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Yd = Y – 0 + 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Yd = 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Jadi, dalam perekonomian tertutup sederhana besarnya pendapatan siap pakai sama dengan besarnya pendapatan nasiona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57200" y="27432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Hubungan antara pengeluaran konsumsi nasional ( C )  dengan pendapatan nasional ( Y ) dikenal sebagai fungsi konsumsi. Secara matematis hubungan tersebut dapat dituliskan sebagai berikut 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33920" y="3733920"/>
            <a:ext cx="1676160" cy="685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C = f ( Y 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33520" y="457200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Fungsi konsumsi tersebut dapat dijabarkan kembali menjadi 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523880" y="5105520"/>
            <a:ext cx="1676520" cy="685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C = a + b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429000" y="5054760"/>
            <a:ext cx="4724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Dimana 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= pengeluaran konsumsi oton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b = Marginal Propensity to Consume (MPC)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0"/>
                            </p:stCondLst>
                            <p:childTnLst>
                              <p:par>
                                <p:cTn id="4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BEL PENDAPATAN NASIONAL DAN KONSUMSI NASION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01" name=""/>
          <p:cNvGraphicFramePr/>
          <p:nvPr/>
        </p:nvGraphicFramePr>
        <p:xfrm>
          <a:off x="685800" y="1981080"/>
          <a:ext cx="7772400" cy="41306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ndapatan Nasional ( Y )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Konsumsi ( C ) ( Rp )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5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35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65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95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3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0:08:57Z</dcterms:created>
  <dc:creator>Dimas_2</dc:creator>
  <dc:description/>
  <dc:language>en-US</dc:language>
  <cp:lastModifiedBy>User</cp:lastModifiedBy>
  <dcterms:modified xsi:type="dcterms:W3CDTF">2008-08-01T05:01:56Z</dcterms:modified>
  <cp:revision>97</cp:revision>
  <dc:subject/>
  <dc:title>Slide 1</dc:title>
</cp:coreProperties>
</file>